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.png" ContentType="image/png"/>
  <Override PartName="/ppt/media/image4.jpeg" ContentType="image/jpeg"/>
  <Override PartName="/ppt/media/image15.wmf" ContentType="image/x-wmf"/>
  <Override PartName="/ppt/media/image1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1FA-4619-42FB-B3A7-2A95AEE7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F774-FCDA-42E6-8181-C0D98F15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97E-6C45-4EFD-B46F-AA2618B50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074-7369-433E-9148-2B0D7E78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B95-0D0E-4704-BD23-A7829FE4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B6B-1C11-4F09-BC34-1FAB277C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B753E-BCF4-43F3-A030-7B83A093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B894-3FC3-48D5-B9B2-B2DB95E04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5C0D-6E1B-4D77-BEF9-9BBB6E03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9F2D-196D-4676-B0B8-10A6DA1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021C-99F0-4B59-ADD3-819D4BEF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DEE-C6FC-478A-ACDF-D5E3A5C5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2B3E-BF91-4504-90F2-AB9369EB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C94-F3DC-4EF6-82B3-08BEB516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BBC5-EEDA-49F6-8A75-94CDA270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E0B6-53DE-4CD8-A473-88804DE6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8B74-27D2-4254-A976-FA2A5FE6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7AD6-4418-41C1-B8EB-FFD4460F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6405-871F-426D-87CE-9DFAB858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02DBF-5825-4E63-BE59-2D84CFD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F9358-681C-4FFE-882A-9E6DE6D7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F86F7-2158-452C-9920-D00221DD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17C-A4D0-42EB-BFA7-282CD4F5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4832-8298-4BC4-890C-9E6FECC0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3DA38-CD08-40D6-A890-68BC8B2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0873A-2910-4D9C-B5C5-85E67BA4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168AF-9C26-433B-B876-EF2F578F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F0B3F-7EE2-49B1-B5B7-8188EA80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F9F3-E2F8-4029-89B1-E05385B3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BD9E-14B5-458B-8A72-B511F3ED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B075B-34CF-4F14-B286-339CA3F6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8ABD2-1F04-4EBC-BF35-C9B1B30F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F7386-7DF9-4923-818F-5E6F4112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9106-4995-41D1-9244-7E189ACD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D655-464B-42A7-9D3D-A65D9FE49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98308-5520-44F7-AC20-510CBCCF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0A86D-B2D4-4E65-8021-ACBF08E6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2E86F-E9D7-4FB7-983F-9914CEB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03DA3-FDDF-42D6-9B52-3FB1F371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C1BF-CE80-49CB-9564-4400A51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7465-6006-4B85-89B7-9C0F0360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BD77-018C-41E3-B4D7-7ABFDEE1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F2DD-0DD8-4D82-9F41-C6A5CDCA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3C3-00C3-49B3-A9BC-D3239A34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DD5B-A080-4525-804E-F22DC383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E32-6FB3-4FF0-99D2-62E0ECE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64C-876D-43F9-BA5B-317834B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D2D-6882-48FC-8327-14DB581B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3A3-B3AF-49BE-A81A-F67F907C0A7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3F8F-AB85-4882-B842-8BE9835FFC9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C7AA-DC62-4769-80CD-6360966EEFE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4B77-D6F8-4AF8-A2C6-218E8308702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10009440" cy="1505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0" y="322848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Истинный  смысл  жизни  надо  искать  во  внешнем                    мире, а  не внутри  человека и его собственной  душ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                                                                     </a:t>
            </a:r>
            <a:r>
              <a:rPr b="0" i="1" lang="ru-RU" sz="2800" spc="-1" strike="noStrike">
                <a:solidFill>
                  <a:srgbClr val="000099"/>
                </a:solidFill>
                <a:latin typeface="Constantia"/>
              </a:rPr>
              <a:t>Виктор Франкл</a:t>
            </a:r>
            <a:r>
              <a:rPr b="0" lang="ru-RU" sz="2800" spc="-1" strike="noStrike">
                <a:solidFill>
                  <a:srgbClr val="000099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C:\Program Files\Microsoft Office\MEDIA\CAGCAT10\j0281904.wmf"/>
          <p:cNvPicPr/>
          <p:nvPr/>
        </p:nvPicPr>
        <p:blipFill>
          <a:blip r:embed="rId2"/>
          <a:stretch/>
        </p:blipFill>
        <p:spPr>
          <a:xfrm>
            <a:off x="1285920" y="4714920"/>
            <a:ext cx="1825560" cy="1725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f0"/>
                </a:solidFill>
                <a:latin typeface="Constantia"/>
              </a:rPr>
              <a:t>Напишите все, что вам хочется в этой жизни. Записывайте любые идеи и желания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0b050"/>
                </a:solidFill>
                <a:latin typeface="Constantia"/>
              </a:rPr>
              <a:t>Представьте себе, что в вашем распоряжении миллиарды. Что вы будете делать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ff0000"/>
                </a:solidFill>
                <a:latin typeface="Constantia"/>
              </a:rPr>
              <a:t>Представьте себе, что вы богаты и совершенно здоровы, но вы знаете, что вам осталось жить 3 месяца. Что вы будете делать эти дни, чем занимать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7030a0"/>
                </a:solidFill>
                <a:latin typeface="Constantia"/>
              </a:rPr>
              <a:t>Выбрать 9 самых важных целей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d0d0d"/>
                </a:solidFill>
                <a:latin typeface="Constantia"/>
              </a:rPr>
              <a:t>ЗАДАНИЕ: </a:t>
            </a:r>
            <a:r>
              <a:rPr b="0" i="1" lang="ru-RU" sz="2600" spc="-1" strike="noStrike">
                <a:solidFill>
                  <a:srgbClr val="083763"/>
                </a:solidFill>
                <a:latin typeface="Constantia"/>
              </a:rPr>
              <a:t>Выбрать 3 самые важные це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7358040" y="4572000"/>
            <a:ext cx="1633680" cy="18669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i="1" lang="ru-RU" sz="5400" spc="-1" strike="noStrike">
                <a:solidFill>
                  <a:srgbClr val="7030a0"/>
                </a:solidFill>
                <a:latin typeface="Constantia"/>
              </a:rPr>
              <a:t>РЕЗУЛЬТАТЫ: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Constantia"/>
              </a:rPr>
              <a:t>   </a:t>
            </a:r>
            <a:r>
              <a:rPr b="0" i="1" lang="ru-RU" sz="3600" spc="-1" strike="noStrike">
                <a:solidFill>
                  <a:srgbClr val="ff00ff"/>
                </a:solidFill>
                <a:latin typeface="Constantia"/>
              </a:rPr>
              <a:t>Перед вами ваши самые важные цели, это то, ради чего вы живете в данный момент. Возможно результат удивил вас, разочаровал или напротив вызвал энтузиазм</a:t>
            </a:r>
            <a:r>
              <a:rPr b="0" lang="ru-RU" sz="2800" spc="-1" strike="noStrike">
                <a:solidFill>
                  <a:srgbClr val="7030a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6357960" y="4429080"/>
            <a:ext cx="2344680" cy="1936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00b0f0"/>
                </a:solidFill>
                <a:latin typeface="Calibri"/>
              </a:rPr>
              <a:t>ЧТО УДЕРЖИВАЕТ ВАС ОТ САМОУБИЙСТВ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ff00"/>
                </a:solidFill>
                <a:latin typeface="Constantia"/>
              </a:rPr>
              <a:t>ИНСТИНКТ САМОСОХРАН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ff"/>
                </a:solidFill>
                <a:latin typeface="Constantia"/>
              </a:rPr>
              <a:t>РАЗУМ, ГОВОРЯЩИЙ, ЧТО СМЕРТЬ НЕИЗБЕЖНА И ЧТО УМЕРЕТЬ Я ВСЕГДА УСП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6600"/>
                </a:solidFill>
                <a:latin typeface="Constantia"/>
              </a:rPr>
              <a:t>ЛЮБОВЬ К САМОЙ ЖИЗНИ, К ЛЮДЯМ, К МИРУ, К САМОМУ ЖИЗНЕННОМУ ПРОЦЕССУ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4" descr="C:\Program Files\Microsoft Office\MEDIA\CAGCAT10\j0297707.wmf"/>
          <p:cNvPicPr/>
          <p:nvPr/>
        </p:nvPicPr>
        <p:blipFill>
          <a:blip r:embed="rId1"/>
          <a:stretch/>
        </p:blipFill>
        <p:spPr>
          <a:xfrm>
            <a:off x="7118280" y="4334040"/>
            <a:ext cx="1479600" cy="182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  </a:t>
            </a:r>
            <a:r>
              <a:rPr b="0" i="1" lang="ru-RU" sz="5900" spc="-1" strike="noStrike">
                <a:solidFill>
                  <a:srgbClr val="008000"/>
                </a:solidFill>
                <a:latin typeface="Calibri"/>
              </a:rPr>
              <a:t>СОВЕТ ВИКТОРА ФРАНКЛА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onstantia"/>
              </a:rPr>
              <a:t>Живите так, как будто вы живете уже второй раз и как будто вы совершили в первый раз ту ошибку, которую собираетесь совершить сейчас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4" descr="C:\Program Files\Microsoft Office\MEDIA\CAGCAT10\j0090386.wmf"/>
          <p:cNvPicPr/>
          <p:nvPr/>
        </p:nvPicPr>
        <p:blipFill>
          <a:blip r:embed="rId1"/>
          <a:stretch/>
        </p:blipFill>
        <p:spPr>
          <a:xfrm>
            <a:off x="5908680" y="4160880"/>
            <a:ext cx="2698920" cy="2309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СПАСИБО ЗА                            ВНИМАНИЕ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Constantia"/>
              </a:rPr>
              <a:t>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Презентацию выполни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ученица 9 «Б» клас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МОУ гимназии № 2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им. С.С.Станче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                                                     </a:t>
            </a:r>
            <a:r>
              <a:rPr b="0" i="1" lang="ru-RU" sz="2400" spc="-1" strike="noStrike">
                <a:solidFill>
                  <a:srgbClr val="0000ff"/>
                </a:solidFill>
                <a:latin typeface="Constantia"/>
              </a:rPr>
              <a:t>Клейнова Олес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840" y="713880"/>
            <a:ext cx="864396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3840" y="714240"/>
            <a:ext cx="864396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187280" indent="-20952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  </a:t>
            </a:r>
            <a:r>
              <a:rPr b="0" i="1" lang="ru-RU" sz="3600" spc="-1" strike="noStrike">
                <a:solidFill>
                  <a:srgbClr val="9933ff"/>
                </a:solidFill>
                <a:latin typeface="Constantia"/>
              </a:rPr>
              <a:t>Кто Я ? Каково мое предназначение ? В чем смысл моей жизни ? Зачем я пришел в этот мир ? Размышления над этими вопросами может дать совершенно разные результаты: может наступить ясность, но существует вероятность погружения в депрессию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4" descr="C:\Program Files\Microsoft Office\MEDIA\CAGCAT10\j0301076.wmf"/>
          <p:cNvPicPr/>
          <p:nvPr/>
        </p:nvPicPr>
        <p:blipFill>
          <a:blip r:embed="rId1"/>
          <a:stretch/>
        </p:blipFill>
        <p:spPr>
          <a:xfrm>
            <a:off x="7143840" y="4714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071720"/>
            <a:ext cx="872964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ff00"/>
                </a:solidFill>
                <a:latin typeface="Calibri"/>
              </a:rPr>
              <a:t>   </a:t>
            </a:r>
            <a:r>
              <a:rPr b="0" i="1" lang="ru-RU" sz="4500" spc="-1" strike="noStrike">
                <a:solidFill>
                  <a:srgbClr val="00ff00"/>
                </a:solidFill>
                <a:latin typeface="Calibri"/>
              </a:rPr>
              <a:t>Человек в поисках смысла жизн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Поиск  смысла  жизни – это отнюдь не предмет праздного любопытства и пафосных речей, это вопрос жизни и смерт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Constantia"/>
              </a:rPr>
              <a:t>Не мы задаем вопрос в чем смысл нашей жизни. Смерть задает  вопрос</a:t>
            </a:r>
            <a:r>
              <a:rPr b="0" i="1" lang="ru-RU" sz="2600" spc="-1" strike="noStrike">
                <a:solidFill>
                  <a:srgbClr val="0066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4" descr="C:\Program Files\Microsoft Office\MEDIA\CAGCAT10\j0285750.wmf"/>
          <p:cNvPicPr/>
          <p:nvPr/>
        </p:nvPicPr>
        <p:blipFill>
          <a:blip r:embed="rId1"/>
          <a:stretch/>
        </p:blipFill>
        <p:spPr>
          <a:xfrm>
            <a:off x="6932520" y="546876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-281160" y="195120"/>
            <a:ext cx="9431640" cy="1706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400" spc="-1" strike="noStrike">
                <a:solidFill>
                  <a:srgbClr val="ff00ff"/>
                </a:solidFill>
                <a:latin typeface="Constantia"/>
              </a:rPr>
              <a:t>«Если человек задумался о смысле жизни, значит, он серьезно болен» – так считал знаменитый психолог Зигмунд Фрейд</a:t>
            </a:r>
            <a:r>
              <a:rPr b="0" lang="ru-RU" sz="4400" spc="-1" strike="noStrike">
                <a:solidFill>
                  <a:srgbClr val="ff00ff"/>
                </a:solidFill>
                <a:latin typeface="Constanti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Program Files\Microsoft Office\MEDIA\CAGCAT10\j0234657.wmf"/>
          <p:cNvPicPr/>
          <p:nvPr/>
        </p:nvPicPr>
        <p:blipFill>
          <a:blip r:embed="rId2"/>
          <a:stretch/>
        </p:blipFill>
        <p:spPr>
          <a:xfrm>
            <a:off x="6859440" y="4595760"/>
            <a:ext cx="1713240" cy="1668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642960"/>
            <a:ext cx="822960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Constantia"/>
              </a:rPr>
              <a:t>Найти смысл жизни – это взять ответственность за решение  проблем, которые тебе не безразличны. А если все безразлично, тогда ты еще дитя и для окружающих ты просто «пыль» и жизнь твоя бедн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C:\Program Files\Microsoft Office\MEDIA\CAGCAT10\j0216858.wmf"/>
          <p:cNvPicPr/>
          <p:nvPr/>
        </p:nvPicPr>
        <p:blipFill>
          <a:blip r:embed="rId1"/>
          <a:stretch/>
        </p:blipFill>
        <p:spPr>
          <a:xfrm>
            <a:off x="6330960" y="5113440"/>
            <a:ext cx="1827360" cy="833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5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66ff"/>
                </a:solidFill>
                <a:latin typeface="Constantia"/>
              </a:rPr>
              <a:t>Найти и понять смысл всей жизни – единый вопрос для всех и каждого. Это первая из задач, которую необходимо решить человеку. Пока задача не решена, он и не человек еще, а всего лишь «заготовка для буратина.» И решить эту задачу самостоятельно человек не способен, поскольку смысл очень большой и сложный. Необходима и обязательна помощь людей уже способных осознавать смысл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2" descr="C:\Program Files\Microsoft Office\MEDIA\CAGCAT10\j0216588.wmf"/>
          <p:cNvPicPr/>
          <p:nvPr/>
        </p:nvPicPr>
        <p:blipFill>
          <a:blip r:embed="rId1"/>
          <a:stretch/>
        </p:blipFill>
        <p:spPr>
          <a:xfrm>
            <a:off x="7139160" y="4668840"/>
            <a:ext cx="1609560" cy="1808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714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Constantia"/>
              </a:rPr>
              <a:t>Реальность такова, что смысл жизни искать не надо, его надо самим создавать и предназначение тоже определять самим, мы же созданы по образу Божьему, т. е. сами себе хозяева… А то кинулись искать этот смысл… философия сушит мозги, т. к. она есть размышление о смерти, а мы пока что </a:t>
            </a:r>
            <a:r>
              <a:rPr b="0" i="1" lang="ru-RU" sz="3200" spc="-1" strike="noStrike">
                <a:solidFill>
                  <a:srgbClr val="9933ff"/>
                </a:solidFill>
                <a:latin typeface="Constantia"/>
              </a:rPr>
              <a:t>ЖИВЫ ! ! 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9933ff"/>
                </a:solidFill>
                <a:latin typeface="Calibri"/>
              </a:rPr>
              <a:t>        </a:t>
            </a:r>
            <a:r>
              <a:rPr b="0" i="1" lang="ru-RU" sz="4000" spc="-1" strike="noStrike">
                <a:solidFill>
                  <a:srgbClr val="9933ff"/>
                </a:solidFill>
                <a:latin typeface="Calibri"/>
              </a:rPr>
              <a:t>Где искать смысл жизни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onstantia"/>
              </a:rPr>
              <a:t>Если  знание  смысла жизни так важно, то остаются вопросы: так и где его искать? Человек  не должен  спрашивать в чем смысл его жизни, но скорее должен осознать , что он сам и есть тот, к кому обращен вопрос. Нам нужно было  перестать спрашивать о смысле жизни, а вместо этого понять, что жизнь задает вопросы нам, ставит задачи – ежедневно и ежечасно. Наш ответ должен состоять не в разговорах и размышлениях, а в правильных поступках и правильном поведении. В конечном счете жить означает брать на себя ответственность за выбор правильного ответа на проблемы жизни, и выполнять задачи, которые она постоянно дает каждому человеку. Эти задачи – смысл жизни, разные для разных людей, они меняются от  одного момента к другому. Поэтому определить смысл жизни невозмо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7215120" y="5000760"/>
            <a:ext cx="1776600" cy="163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   </a:t>
            </a:r>
            <a:r>
              <a:rPr b="0" i="1" lang="ru-RU" sz="4900" spc="-1" strike="noStrike">
                <a:solidFill>
                  <a:srgbClr val="ff00ff"/>
                </a:solidFill>
                <a:latin typeface="Calibri"/>
              </a:rPr>
              <a:t>Ради чего вы живете    сейчас</a:t>
            </a:r>
            <a:r>
              <a:rPr b="0" lang="ru-RU" sz="4900" spc="-1" strike="noStrike">
                <a:solidFill>
                  <a:srgbClr val="ff00ff"/>
                </a:solidFill>
                <a:latin typeface="Calibri"/>
              </a:rPr>
              <a:t>?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856800" y="1856880"/>
            <a:ext cx="67150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000ff"/>
                </a:solidFill>
                <a:latin typeface="Constantia"/>
              </a:rPr>
              <a:t>Существуют вопросы, указывающие направление для нахождения своего смысла жизни.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C:\Program Files\Microsoft Office\MEDIA\CAGCAT10\j0230876.wmf"/>
          <p:cNvPicPr/>
          <p:nvPr/>
        </p:nvPicPr>
        <p:blipFill>
          <a:blip r:embed="rId1"/>
          <a:stretch/>
        </p:blipFill>
        <p:spPr>
          <a:xfrm>
            <a:off x="6143760" y="1285920"/>
            <a:ext cx="2714400" cy="3000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0:19:11Z</dcterms:created>
  <dc:creator>Ренат</dc:creator>
  <dc:description/>
  <dc:language>en-US</dc:language>
  <cp:lastModifiedBy>Ренат</cp:lastModifiedBy>
  <dcterms:modified xsi:type="dcterms:W3CDTF">2009-12-29T10:52:37Z</dcterms:modified>
  <cp:revision>24</cp:revision>
  <dc:subject/>
  <dc:title>ПОИСК          СМЫСЛА        ЖИЗНИ</dc:title>
</cp:coreProperties>
</file>