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2ED-A089-479F-8C64-A990CDD6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BF3-EBE3-4111-B2A3-6571D29A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1FC-BF87-43C3-956F-78D9C83F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C1E-C42F-4C4D-89F1-4CAA7C91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9DDA-EF8F-4702-B349-F86A8E85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9888-6C1C-4204-BE33-4987C526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1D91-D23F-497C-9018-A6A2EDAB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41A8-83EC-4D96-8C36-69A07A94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A38F-196B-4B26-9FDB-2B81AB0B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D3CA-BBB2-4F60-8F18-2E484E16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66D1-39BA-4522-AC01-9E369F8F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1C7-929A-474B-A317-5ECB0E9C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3D35-F2B5-4401-9C09-0D1E3C7B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1814-416D-4ABE-A307-6D0F97B6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076D-CAE2-4192-811F-99FBFCC4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C5F8-F5E6-447F-B366-3C368C10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B414-4C10-4AC2-8CD0-A91908B7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7130-F7A5-4422-A17D-1E87751B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A7BA-12B7-453F-98AC-9DED3CD0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7844-A986-4AC3-8FB7-9FE25301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28E8-B803-4A72-926D-85E639E4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818B-1F2C-47C5-B611-64829C03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BA4-E123-46A2-A9A4-4FDEE9D2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AC84-E9B5-4FF4-B00A-B060A58D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B4AAF-18C7-403C-A9B7-AC441AFD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9DF6-15DA-4196-A083-FA07DBE9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79841-5405-45D2-A1F7-4089DE7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EC6A-59F4-468D-A9F9-B7573D85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BE94-2E0C-4D08-84C5-856AD1CC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51F7-DBA0-4F0C-9B1C-B7AC4927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EE794-F729-4B18-8F2D-5BB6DA13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AD8D-149F-4C18-885E-C5CCE735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E4C39-0634-4847-87FA-156EF533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D5F-3E8B-4C4A-B276-52EE3CE2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2EDBA-88B1-4E63-86F8-34AC9287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BF24D-7109-4DF5-809B-B39056C0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4D48-078E-432C-AD29-8EB214DC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7A14D-475E-4038-8D31-8BCE366D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5A4F3-DBB0-4FED-98E9-C880E08D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A2A3A-51C3-4ADA-B619-13321899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047E2-CFF9-47ED-BB4C-85EE8CE9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A733-791D-4A70-BFA2-B2B62D2E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23C7-E105-428D-9F9E-93BD6531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1E2-2303-41BF-ADA6-E64A2CF3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1DA-6A8C-4BA7-A6D6-CF4C8F98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EC5-B4EF-4E2E-934C-94F5238A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D2F-E138-4800-B36E-9D1695E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BF0-54D3-4820-A289-872F1EDD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55AC-5484-4C4C-A66B-34CA80F137B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61D4-CF80-4C69-B76F-D6FF5C68DF1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7611-8566-49C7-89FF-3B047890970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A52A-E36C-40D1-94D3-82C5DEC515C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10009440" cy="1505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0" y="32284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Constantia"/>
              </a:rPr>
              <a:t>Истинный  смысл  жизни  надо  искать  во  внешнем                    мире, а  не внутри  человека и его собственной  душ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Constantia"/>
              </a:rPr>
              <a:t>                                                                     </a:t>
            </a:r>
            <a:r>
              <a:rPr b="0" i="1" lang="ru-RU" sz="2800" spc="-1" strike="noStrike">
                <a:solidFill>
                  <a:srgbClr val="000099"/>
                </a:solidFill>
                <a:latin typeface="Constantia"/>
              </a:rPr>
              <a:t>Виктор Франкл</a:t>
            </a:r>
            <a:r>
              <a:rPr b="0" lang="ru-RU" sz="2800" spc="-1" strike="noStrike">
                <a:solidFill>
                  <a:srgbClr val="000099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C:\Program Files\Microsoft Office\MEDIA\CAGCAT10\j0281904.wmf"/>
          <p:cNvPicPr/>
          <p:nvPr/>
        </p:nvPicPr>
        <p:blipFill>
          <a:blip r:embed="rId2"/>
          <a:stretch/>
        </p:blipFill>
        <p:spPr>
          <a:xfrm>
            <a:off x="1285920" y="4714920"/>
            <a:ext cx="1825560" cy="1725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00b0f0"/>
                </a:solidFill>
                <a:latin typeface="Constantia"/>
              </a:rPr>
              <a:t>Напишите все, что вам хочется в этой жизни. Записывайте любые идеи и желания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00b050"/>
                </a:solidFill>
                <a:latin typeface="Constantia"/>
              </a:rPr>
              <a:t>Представьте себе, что в вашем распоряжении миллиарды. Что вы будете делать, чем занимать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Представьте себе, что вы богаты и совершенно здоровы, но вы знаете, что вам осталось жить 3 месяца. Что вы будете делать эти дни, чем занимать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d0d0d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7030a0"/>
                </a:solidFill>
                <a:latin typeface="Constantia"/>
              </a:rPr>
              <a:t>Выбрать 9 самых важных целей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d0d0d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083763"/>
                </a:solidFill>
                <a:latin typeface="Constantia"/>
              </a:rPr>
              <a:t>Выбрать 3 самые важные це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7358040" y="4572000"/>
            <a:ext cx="1633680" cy="1866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Constantia"/>
              </a:rPr>
              <a:t>         </a:t>
            </a:r>
            <a:r>
              <a:rPr b="0" i="1" lang="ru-RU" sz="5400" spc="-1" strike="noStrike">
                <a:solidFill>
                  <a:srgbClr val="7030a0"/>
                </a:solidFill>
                <a:latin typeface="Constantia"/>
              </a:rPr>
              <a:t>РЕЗУЛЬТАТЫ: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onstantia"/>
              </a:rPr>
              <a:t>   </a:t>
            </a:r>
            <a:r>
              <a:rPr b="0" i="1" lang="ru-RU" sz="3600" spc="-1" strike="noStrike">
                <a:solidFill>
                  <a:srgbClr val="ff00ff"/>
                </a:solidFill>
                <a:latin typeface="Constantia"/>
              </a:rPr>
              <a:t>Перед вами ваши самые важные цели, это то, ради чего вы живете в данный момент. Возможно результат удивил вас, разочаровал или напротив вызвал энтузиазм</a:t>
            </a:r>
            <a:r>
              <a:rPr b="0" lang="ru-RU" sz="2800" spc="-1" strike="noStrike">
                <a:solidFill>
                  <a:srgbClr val="7030a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6357960" y="4429080"/>
            <a:ext cx="2344680" cy="1936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0b0f0"/>
                </a:solidFill>
                <a:latin typeface="Calibri"/>
              </a:rPr>
              <a:t>ЧТО УДЕРЖИВАЕТ ВАС ОТ САМОУБИЙСТВ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ff00"/>
                </a:solidFill>
                <a:latin typeface="Constantia"/>
              </a:rPr>
              <a:t>ИНСТИНКТ САМОСОХРАН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ff"/>
                </a:solidFill>
                <a:latin typeface="Constantia"/>
              </a:rPr>
              <a:t>РАЗУМ, ГОВОРЯЩИЙ, ЧТО СМЕРТЬ НЕИЗБЕЖНА И ЧТО УМЕРЕТЬ Я ВСЕГДА УСПЕ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6600"/>
                </a:solidFill>
                <a:latin typeface="Constantia"/>
              </a:rPr>
              <a:t>ЛЮБОВЬ К САМОЙ ЖИЗНИ, К ЛЮДЯМ, К МИРУ, К САМОМУ ЖИЗНЕННОМУ ПРОЦЕСС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C:\Program Files\Microsoft Office\MEDIA\CAGCAT10\j0297707.wmf"/>
          <p:cNvPicPr/>
          <p:nvPr/>
        </p:nvPicPr>
        <p:blipFill>
          <a:blip r:embed="rId1"/>
          <a:stretch/>
        </p:blipFill>
        <p:spPr>
          <a:xfrm>
            <a:off x="7118280" y="4334040"/>
            <a:ext cx="1479600" cy="182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9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0" i="1" lang="ru-RU" sz="5900" spc="-1" strike="noStrike">
                <a:solidFill>
                  <a:srgbClr val="008000"/>
                </a:solidFill>
                <a:latin typeface="Calibri"/>
              </a:rPr>
              <a:t>СОВЕТ ВИКТОРА ФРАНКЛА.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Constantia"/>
              </a:rPr>
              <a:t>Живите так, как будто вы живете уже второй раз и как будто вы совершили в первый раз ту ошибку, которую собираетесь совершить сейчас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4" descr="C:\Program Files\Microsoft Office\MEDIA\CAGCAT10\j0090386.wmf"/>
          <p:cNvPicPr/>
          <p:nvPr/>
        </p:nvPicPr>
        <p:blipFill>
          <a:blip r:embed="rId1"/>
          <a:stretch/>
        </p:blipFill>
        <p:spPr>
          <a:xfrm>
            <a:off x="5908680" y="4160880"/>
            <a:ext cx="2698920" cy="23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i="1" lang="ru-RU" sz="6000" spc="-1" strike="noStrike">
                <a:solidFill>
                  <a:srgbClr val="0000ff"/>
                </a:solidFill>
                <a:latin typeface="Constantia"/>
              </a:rPr>
              <a:t>СПАСИБО ЗА                           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Презентацию выполни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ученица 9 «Б» клас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МОУ гимназии № 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им. С.С.Станче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Клейнова Оле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840" y="71388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3840" y="714240"/>
            <a:ext cx="864396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187280" indent="-20952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33ff"/>
                </a:solidFill>
                <a:latin typeface="Constantia"/>
              </a:rPr>
              <a:t>  </a:t>
            </a:r>
            <a:r>
              <a:rPr b="0" i="1" lang="ru-RU" sz="3600" spc="-1" strike="noStrike">
                <a:solidFill>
                  <a:srgbClr val="9933ff"/>
                </a:solidFill>
                <a:latin typeface="Constantia"/>
              </a:rPr>
              <a:t>Кто Я ? Каково мое предназначение ? В чем смысл моей жизни ? Зачем я пришел в этот мир ? Размышления над этими вопросами может дать совершенно разные результаты: может наступить ясность, но существует вероятность погружения в депрессию</a:t>
            </a:r>
            <a:r>
              <a:rPr b="0" i="1" lang="ru-RU" sz="3200" spc="-1" strike="noStrike">
                <a:solidFill>
                  <a:srgbClr val="9933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C:\Program Files\Microsoft Office\MEDIA\CAGCAT10\j0301076.wmf"/>
          <p:cNvPicPr/>
          <p:nvPr/>
        </p:nvPicPr>
        <p:blipFill>
          <a:blip r:embed="rId1"/>
          <a:stretch/>
        </p:blipFill>
        <p:spPr>
          <a:xfrm>
            <a:off x="7143840" y="4714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071720"/>
            <a:ext cx="87296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ff00"/>
                </a:solidFill>
                <a:latin typeface="Calibri"/>
              </a:rPr>
              <a:t>   </a:t>
            </a:r>
            <a:r>
              <a:rPr b="0" i="1" lang="ru-RU" sz="4500" spc="-1" strike="noStrike">
                <a:solidFill>
                  <a:srgbClr val="00ff00"/>
                </a:solidFill>
                <a:latin typeface="Calibri"/>
              </a:rPr>
              <a:t>Человек в поисках смысла жизни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ff"/>
                </a:solidFill>
                <a:latin typeface="Constantia"/>
              </a:rPr>
              <a:t>Поиск  смысла  жизни – это отнюдь не предмет праздного любопытства и пафосных речей, это вопрос жизни и смерт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ff"/>
                </a:solidFill>
                <a:latin typeface="Constantia"/>
              </a:rPr>
              <a:t>Не мы задаем вопрос в чем смысл нашей жизни. Смерть задает  вопрос</a:t>
            </a:r>
            <a:r>
              <a:rPr b="0" i="1" lang="ru-RU" sz="2600" spc="-1" strike="noStrike">
                <a:solidFill>
                  <a:srgbClr val="0066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4" descr="C:\Program Files\Microsoft Office\MEDIA\CAGCAT10\j0285750.wmf"/>
          <p:cNvPicPr/>
          <p:nvPr/>
        </p:nvPicPr>
        <p:blipFill>
          <a:blip r:embed="rId1"/>
          <a:stretch/>
        </p:blipFill>
        <p:spPr>
          <a:xfrm>
            <a:off x="6932520" y="5468760"/>
            <a:ext cx="1824120" cy="11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-281160" y="195120"/>
            <a:ext cx="9431640" cy="1706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400" spc="-1" strike="noStrike">
                <a:solidFill>
                  <a:srgbClr val="ff00ff"/>
                </a:solidFill>
                <a:latin typeface="Constantia"/>
              </a:rPr>
              <a:t>«Если человек задумался о смысле жизни, значит, он серьезно болен» – так считал знаменитый психолог Зигмунд Фрейд</a:t>
            </a:r>
            <a:r>
              <a:rPr b="0" lang="ru-RU" sz="4400" spc="-1" strike="noStrike">
                <a:solidFill>
                  <a:srgbClr val="ff00ff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C:\Program Files\Microsoft Office\MEDIA\CAGCAT10\j0234657.wmf"/>
          <p:cNvPicPr/>
          <p:nvPr/>
        </p:nvPicPr>
        <p:blipFill>
          <a:blip r:embed="rId2"/>
          <a:stretch/>
        </p:blipFill>
        <p:spPr>
          <a:xfrm>
            <a:off x="6859440" y="4595760"/>
            <a:ext cx="1713240" cy="1668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99"/>
                </a:solidFill>
                <a:latin typeface="Constantia"/>
              </a:rPr>
              <a:t>Найти смысл жизни – это взять ответственность за решение  проблем, которые тебе не безразличны. А если все безразлично, тогда ты еще дитя и для окружающих ты просто «пыль» и жизнь твоя бедн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C:\Program Files\Microsoft Office\MEDIA\CAGCAT10\j0216858.wmf"/>
          <p:cNvPicPr/>
          <p:nvPr/>
        </p:nvPicPr>
        <p:blipFill>
          <a:blip r:embed="rId1"/>
          <a:stretch/>
        </p:blipFill>
        <p:spPr>
          <a:xfrm>
            <a:off x="6330960" y="5113440"/>
            <a:ext cx="1827360" cy="833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66ff"/>
                </a:solidFill>
                <a:latin typeface="Constantia"/>
              </a:rPr>
              <a:t>Найти и понять смысл всей жизни – единый вопрос для всех и каждого. Это первая из задач, которую необходимо решить человеку. Пока задача не решена, он и не человек еще, а всего лишь «заготовка для буратина.» И решить эту задачу самостоятельно человек не способен, поскольку смысл очень большой и сложный. Необходима и обязательна помощь людей уже способных осознавать смыс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Program Files\Microsoft Office\MEDIA\CAGCAT10\j0216588.wmf"/>
          <p:cNvPicPr/>
          <p:nvPr/>
        </p:nvPicPr>
        <p:blipFill>
          <a:blip r:embed="rId1"/>
          <a:stretch/>
        </p:blipFill>
        <p:spPr>
          <a:xfrm>
            <a:off x="7139160" y="4668840"/>
            <a:ext cx="160956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142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Constantia"/>
              </a:rPr>
              <a:t>Реальность такова, что смысл жизни искать не надо, его надо самим создавать и предназначение тоже определять самим, мы же созданы по образу Божьему, т. е. сами себе хозяева… А то кинулись искать этот смысл… философия сушит мозги, т. к. она есть размышление о смерти, а мы пока что </a:t>
            </a:r>
            <a:r>
              <a:rPr b="0" i="1" lang="ru-RU" sz="3200" spc="-1" strike="noStrike">
                <a:solidFill>
                  <a:srgbClr val="9933ff"/>
                </a:solidFill>
                <a:latin typeface="Constantia"/>
              </a:rPr>
              <a:t>ЖИВЫ ! ! 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900" spc="-1" strike="noStrike">
                <a:solidFill>
                  <a:srgbClr val="9933ff"/>
                </a:solidFill>
                <a:latin typeface="Calibri"/>
              </a:rPr>
              <a:t>        </a:t>
            </a:r>
            <a:r>
              <a:rPr b="0" i="1" lang="ru-RU" sz="4000" spc="-1" strike="noStrike">
                <a:solidFill>
                  <a:srgbClr val="9933ff"/>
                </a:solidFill>
                <a:latin typeface="Calibri"/>
              </a:rPr>
              <a:t>Где искать смысл жизни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Constantia"/>
              </a:rPr>
              <a:t>Если  знание  смысла жизни так важно, то остаются вопросы: так и где его искать? Человек  не должен  спрашивать в чем смысл его жизни, но скорее должен осознать , что он сам и есть тот, к кому обращен вопрос. Нам нужно было  перестать спрашивать о смысле жизни, а вместо этого понять, что жизнь задает вопросы нам, ставит задачи – ежедневно и ежечасно. Наш ответ должен состоять не в разговорах и размышлениях, а в правильных поступках и правильном поведении. В конечном счете жить означает брать на себя ответственность за выбор правильного ответа на проблемы жизни, и выполнять задачи, которые она постоянно дает каждому человеку. Эти задачи – смысл жизни, разные для разных людей, они меняются от  одного момента к другому. Поэтому определить смысл жизни невозмож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7215120" y="5000760"/>
            <a:ext cx="1776600" cy="163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900" spc="-1" strike="noStrike">
                <a:solidFill>
                  <a:srgbClr val="ff00ff"/>
                </a:solidFill>
                <a:latin typeface="Calibri"/>
              </a:rPr>
              <a:t>   </a:t>
            </a:r>
            <a:r>
              <a:rPr b="0" i="1" lang="ru-RU" sz="4900" spc="-1" strike="noStrike">
                <a:solidFill>
                  <a:srgbClr val="ff00ff"/>
                </a:solidFill>
                <a:latin typeface="Calibri"/>
              </a:rPr>
              <a:t>Ради чего вы живете    сейчас</a:t>
            </a:r>
            <a:r>
              <a:rPr b="0" lang="ru-RU" sz="4900" spc="-1" strike="noStrike">
                <a:solidFill>
                  <a:srgbClr val="ff00ff"/>
                </a:solidFill>
                <a:latin typeface="Calibri"/>
              </a:rPr>
              <a:t>?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56800" y="1856880"/>
            <a:ext cx="6715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00ff"/>
                </a:solidFill>
                <a:latin typeface="Constantia"/>
              </a:rPr>
              <a:t>Существуют вопросы, указывающие направление для нахождения своего смысла жизни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Program Files\Microsoft Office\MEDIA\CAGCAT10\j0230876.wmf"/>
          <p:cNvPicPr/>
          <p:nvPr/>
        </p:nvPicPr>
        <p:blipFill>
          <a:blip r:embed="rId1"/>
          <a:stretch/>
        </p:blipFill>
        <p:spPr>
          <a:xfrm>
            <a:off x="6143760" y="1285920"/>
            <a:ext cx="2714400" cy="3000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0:19:11Z</dcterms:created>
  <dc:creator>Ренат</dc:creator>
  <dc:description/>
  <dc:language>en-US</dc:language>
  <cp:lastModifiedBy>Ренат</cp:lastModifiedBy>
  <dcterms:modified xsi:type="dcterms:W3CDTF">2009-12-29T10:52:37Z</dcterms:modified>
  <cp:revision>24</cp:revision>
  <dc:subject/>
  <dc:title>ПОИСК          СМЫСЛА        ЖИЗНИ</dc:title>
</cp:coreProperties>
</file>