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.png" ContentType="image/png"/>
  <Override PartName="/ppt/media/image4.jpeg" ContentType="image/jpeg"/>
  <Override PartName="/ppt/media/image15.wmf" ContentType="image/x-wmf"/>
  <Override PartName="/ppt/media/image1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E85B-B51A-43FD-8884-60E07B84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E2D8-096B-47FE-9AD6-4C7679EA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0088-724D-4409-9F44-106FCDA8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C410-7637-4634-B417-43608317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EEBC-B41E-4680-A536-24466DBB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A8E5-7664-4F10-8B30-EE7778EA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DC68-FA87-440C-8D99-0A46F155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D059-71C7-4499-AC81-162A614D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8440-3D43-4A53-BAE1-513B3ACE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2826-3541-437C-A541-454266F3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F470-A88D-47DB-AE98-AA51E8FC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8C26-DBF6-4B4F-96A4-100F2983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9404-C5F1-447A-ACB6-E9603FFE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9F25-006E-4C2A-A6EC-39847BD6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35A3-1EF1-4BC2-912D-633F52DA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8A92-4598-42CF-A469-791B00A04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060A-8D91-4D3B-8BF5-A87E7C71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9E9D8-3BC3-4938-9DD5-62CC9417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9B4A7-4F26-4804-B822-40F9D11D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98CAB-EB3A-4A90-8B23-E829C244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31589-D329-449C-8D40-FD86B47D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13AAD-06CA-4E1B-8191-79F09A05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1677-9E9F-4A5F-90D3-4222A13C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91D50-FCB9-4A5B-8C4A-7EE8009B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A1A50-18C9-4E9E-91E3-DC093048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76B6F-E122-431E-8762-4975AB47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89AA9-3503-4164-8CEE-74AA1D0D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11FC4-C07D-4FF3-BC09-11EAD702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133FC-DFCF-44E4-B676-7AF2C543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26A72-1589-4E55-BEEA-A3E0B447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A7021-1300-4859-B411-F9FBB6FE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8F23C-650B-45E2-9F82-75E663C9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7C900-EFA2-4DA4-A132-EF8C35A5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6153-DBAD-4E93-A26C-CF2D7070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1E112-5132-41D9-A37D-5895E35C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8889F-A6A1-4FC7-AA6A-12338BC1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7DC90-1A29-4E3B-BCF6-1BB35C0C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7936E-2B32-4AEA-8EB8-DC90DE6C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AFA06-82D9-405C-B512-ACF522DB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735D7-ADF1-417A-A9F4-539F19DF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76019-7FB7-469A-8DE4-1BE9277A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4C6DA-F3EC-49D3-A399-C458A2BE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76D4D-51F1-4573-9595-8AB21411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023E-6006-4BE9-9A8C-1FFA4365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6540-1D2F-4777-8BA6-64ADE9E8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412C-8791-4A7A-86AA-1177FA2B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8856-802E-439E-A6B7-D21AB097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F0DD-B09B-4D85-885D-2A123C21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C68F-BCB4-41DB-8E1F-D045CFE0EA9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2C76-84D1-45DD-957E-1B0231C2507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2F1A-05C2-447F-9E97-138F7471396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A62D-627E-4C3C-884F-B30DD1340CA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3" descr=""/>
          <p:cNvPicPr/>
          <p:nvPr/>
        </p:nvPicPr>
        <p:blipFill>
          <a:blip r:embed="rId1"/>
          <a:stretch/>
        </p:blipFill>
        <p:spPr>
          <a:xfrm>
            <a:off x="-6480" y="1066680"/>
            <a:ext cx="10009440" cy="1505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0" y="32284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Constantia"/>
              </a:rPr>
              <a:t> </a:t>
            </a:r>
            <a:r>
              <a:rPr b="0" i="1" lang="ru-RU" sz="2800" spc="-1" strike="noStrike">
                <a:solidFill>
                  <a:srgbClr val="000099"/>
                </a:solidFill>
                <a:latin typeface="Constantia"/>
              </a:rPr>
              <a:t>Истинный  смысл  жизни  надо  искать  во  внешнем                    мире, а  не внутри  человека и его собственной  душ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Constantia"/>
              </a:rPr>
              <a:t>                                                                     </a:t>
            </a:r>
            <a:r>
              <a:rPr b="0" i="1" lang="ru-RU" sz="2800" spc="-1" strike="noStrike">
                <a:solidFill>
                  <a:srgbClr val="000099"/>
                </a:solidFill>
                <a:latin typeface="Constantia"/>
              </a:rPr>
              <a:t>Виктор Франкл</a:t>
            </a:r>
            <a:r>
              <a:rPr b="0" lang="ru-RU" sz="2800" spc="-1" strike="noStrike">
                <a:solidFill>
                  <a:srgbClr val="000099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5" descr="C:\Program Files\Microsoft Office\MEDIA\CAGCAT10\j0281904.wmf"/>
          <p:cNvPicPr/>
          <p:nvPr/>
        </p:nvPicPr>
        <p:blipFill>
          <a:blip r:embed="rId2"/>
          <a:stretch/>
        </p:blipFill>
        <p:spPr>
          <a:xfrm>
            <a:off x="1285920" y="4714920"/>
            <a:ext cx="1825560" cy="1725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ЗАДАНИЕ: </a:t>
            </a:r>
            <a:r>
              <a:rPr b="0" i="1" lang="ru-RU" sz="2600" spc="-1" strike="noStrike">
                <a:solidFill>
                  <a:srgbClr val="00b0f0"/>
                </a:solidFill>
                <a:latin typeface="Constantia"/>
              </a:rPr>
              <a:t>Напишите все, что вам хочется в этой жизни. Записывайте любые идеи и желания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ЗАДАНИЕ: </a:t>
            </a:r>
            <a:r>
              <a:rPr b="0" i="1" lang="ru-RU" sz="2600" spc="-1" strike="noStrike">
                <a:solidFill>
                  <a:srgbClr val="00b050"/>
                </a:solidFill>
                <a:latin typeface="Constantia"/>
              </a:rPr>
              <a:t>Представьте себе, что в вашем распоряжении миллиарды. Что вы будете делать, чем заниматьс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ЗАДАНИЕ: </a:t>
            </a:r>
            <a:r>
              <a:rPr b="0" i="1" lang="ru-RU" sz="2600" spc="-1" strike="noStrike">
                <a:solidFill>
                  <a:srgbClr val="ff0000"/>
                </a:solidFill>
                <a:latin typeface="Constantia"/>
              </a:rPr>
              <a:t>Представьте себе, что вы богаты и совершенно здоровы, но вы знаете, что вам осталось жить 3 месяца. Что вы будете делать эти дни, чем заниматьс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d0d0d"/>
                </a:solidFill>
                <a:latin typeface="Constantia"/>
              </a:rPr>
              <a:t>ЗАДАНИЕ: </a:t>
            </a:r>
            <a:r>
              <a:rPr b="0" i="1" lang="ru-RU" sz="2600" spc="-1" strike="noStrike">
                <a:solidFill>
                  <a:srgbClr val="7030a0"/>
                </a:solidFill>
                <a:latin typeface="Constantia"/>
              </a:rPr>
              <a:t>Выбрать 9 самых важных целей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d0d0d"/>
                </a:solidFill>
                <a:latin typeface="Constantia"/>
              </a:rPr>
              <a:t>ЗАДАНИЕ: </a:t>
            </a:r>
            <a:r>
              <a:rPr b="0" i="1" lang="ru-RU" sz="2600" spc="-1" strike="noStrike">
                <a:solidFill>
                  <a:srgbClr val="083763"/>
                </a:solidFill>
                <a:latin typeface="Constantia"/>
              </a:rPr>
              <a:t>Выбрать 3 самые важные цел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2" descr="C:\Program Files\Microsoft Office\MEDIA\CAGCAT10\j0234131.wmf"/>
          <p:cNvPicPr/>
          <p:nvPr/>
        </p:nvPicPr>
        <p:blipFill>
          <a:blip r:embed="rId1"/>
          <a:stretch/>
        </p:blipFill>
        <p:spPr>
          <a:xfrm>
            <a:off x="7358040" y="4572000"/>
            <a:ext cx="1633680" cy="1866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7030a0"/>
                </a:solidFill>
                <a:latin typeface="Constantia"/>
              </a:rPr>
              <a:t>         </a:t>
            </a:r>
            <a:r>
              <a:rPr b="0" i="1" lang="ru-RU" sz="5400" spc="-1" strike="noStrike">
                <a:solidFill>
                  <a:srgbClr val="7030a0"/>
                </a:solidFill>
                <a:latin typeface="Constantia"/>
              </a:rPr>
              <a:t>РЕЗУЛЬТАТЫ: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Constantia"/>
              </a:rPr>
              <a:t>   </a:t>
            </a:r>
            <a:r>
              <a:rPr b="0" i="1" lang="ru-RU" sz="3600" spc="-1" strike="noStrike">
                <a:solidFill>
                  <a:srgbClr val="ff00ff"/>
                </a:solidFill>
                <a:latin typeface="Constantia"/>
              </a:rPr>
              <a:t>Перед вами ваши самые важные цели, это то, ради чего вы живете в данный момент. Возможно результат удивил вас, разочаровал или напротив вызвал энтузиазм</a:t>
            </a:r>
            <a:r>
              <a:rPr b="0" lang="ru-RU" sz="2800" spc="-1" strike="noStrike">
                <a:solidFill>
                  <a:srgbClr val="7030a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C:\Program Files\Microsoft Office\MEDIA\CAGCAT10\j0233018.wmf"/>
          <p:cNvPicPr/>
          <p:nvPr/>
        </p:nvPicPr>
        <p:blipFill>
          <a:blip r:embed="rId1"/>
          <a:stretch/>
        </p:blipFill>
        <p:spPr>
          <a:xfrm>
            <a:off x="6357960" y="4429080"/>
            <a:ext cx="2344680" cy="1936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>
                <a:solidFill>
                  <a:srgbClr val="00b0f0"/>
                </a:solidFill>
                <a:latin typeface="Calibri"/>
              </a:rPr>
              <a:t>ЧТО УДЕРЖИВАЕТ ВАС ОТ САМОУБИЙСТВА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ff00"/>
                </a:solidFill>
                <a:latin typeface="Constantia"/>
              </a:rPr>
              <a:t>ИНСТИНКТ САМОСОХРАН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ff"/>
                </a:solidFill>
                <a:latin typeface="Constantia"/>
              </a:rPr>
              <a:t>РАЗУМ, ГОВОРЯЩИЙ, ЧТО СМЕРТЬ НЕИЗБЕЖНА И ЧТО УМЕРЕТЬ Я ВСЕГДА УСПЕ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6600"/>
                </a:solidFill>
                <a:latin typeface="Constantia"/>
              </a:rPr>
              <a:t>ЛЮБОВЬ К САМОЙ ЖИЗНИ, К ЛЮДЯМ, К МИРУ, К САМОМУ ЖИЗНЕННОМУ ПРОЦЕСС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C:\Program Files\Microsoft Office\MEDIA\CAGCAT10\j0297707.wmf"/>
          <p:cNvPicPr/>
          <p:nvPr/>
        </p:nvPicPr>
        <p:blipFill>
          <a:blip r:embed="rId1"/>
          <a:stretch/>
        </p:blipFill>
        <p:spPr>
          <a:xfrm>
            <a:off x="7118280" y="4334040"/>
            <a:ext cx="1479600" cy="1820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900" spc="-1" strike="noStrike">
                <a:solidFill>
                  <a:srgbClr val="008000"/>
                </a:solidFill>
                <a:latin typeface="Calibri"/>
              </a:rPr>
              <a:t>  </a:t>
            </a:r>
            <a:r>
              <a:rPr b="0" i="1" lang="ru-RU" sz="5900" spc="-1" strike="noStrike">
                <a:solidFill>
                  <a:srgbClr val="008000"/>
                </a:solidFill>
                <a:latin typeface="Calibri"/>
              </a:rPr>
              <a:t>СОВЕТ ВИКТОРА ФРАНКЛА.</a:t>
            </a:r>
            <a:endParaRPr b="0" lang="en-US" sz="5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Constantia"/>
              </a:rPr>
              <a:t>Живите так, как будто вы живете уже второй раз и как будто вы совершили в первый раз ту ошибку, которую собираетесь совершить сейчас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4" descr="C:\Program Files\Microsoft Office\MEDIA\CAGCAT10\j0090386.wmf"/>
          <p:cNvPicPr/>
          <p:nvPr/>
        </p:nvPicPr>
        <p:blipFill>
          <a:blip r:embed="rId1"/>
          <a:stretch/>
        </p:blipFill>
        <p:spPr>
          <a:xfrm>
            <a:off x="5908680" y="4160880"/>
            <a:ext cx="2698920" cy="2309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71424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i="1" lang="ru-RU" sz="6000" spc="-1" strike="noStrike">
                <a:solidFill>
                  <a:srgbClr val="0000ff"/>
                </a:solidFill>
                <a:latin typeface="Constantia"/>
              </a:rPr>
              <a:t>СПАСИБО ЗА                            ВНИМАНИЕ!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ff"/>
                </a:solidFill>
                <a:latin typeface="Constantia"/>
              </a:rPr>
              <a:t>                     </a:t>
            </a:r>
            <a:r>
              <a:rPr b="0" i="1" lang="ru-RU" sz="2400" spc="-1" strike="noStrike">
                <a:solidFill>
                  <a:srgbClr val="0000ff"/>
                </a:solidFill>
                <a:latin typeface="Constantia"/>
              </a:rPr>
              <a:t>Презентацию выполнил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onstantia"/>
              </a:rPr>
              <a:t>                                                     </a:t>
            </a:r>
            <a:r>
              <a:rPr b="0" i="1" lang="ru-RU" sz="2400" spc="-1" strike="noStrike">
                <a:solidFill>
                  <a:srgbClr val="0000ff"/>
                </a:solidFill>
                <a:latin typeface="Constantia"/>
              </a:rPr>
              <a:t>ученица 9 «Б» класс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onstantia"/>
              </a:rPr>
              <a:t>                                                     </a:t>
            </a:r>
            <a:r>
              <a:rPr b="0" i="1" lang="ru-RU" sz="2400" spc="-1" strike="noStrike">
                <a:solidFill>
                  <a:srgbClr val="0000ff"/>
                </a:solidFill>
                <a:latin typeface="Constantia"/>
              </a:rPr>
              <a:t>МОУ гимназии № 2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onstantia"/>
              </a:rPr>
              <a:t>                                                      </a:t>
            </a:r>
            <a:r>
              <a:rPr b="0" i="1" lang="ru-RU" sz="2400" spc="-1" strike="noStrike">
                <a:solidFill>
                  <a:srgbClr val="0000ff"/>
                </a:solidFill>
                <a:latin typeface="Constantia"/>
              </a:rPr>
              <a:t>им. С.С.Станчев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onstantia"/>
              </a:rPr>
              <a:t>                                                     </a:t>
            </a:r>
            <a:r>
              <a:rPr b="0" i="1" lang="ru-RU" sz="2400" spc="-1" strike="noStrike">
                <a:solidFill>
                  <a:srgbClr val="0000ff"/>
                </a:solidFill>
                <a:latin typeface="Constantia"/>
              </a:rPr>
              <a:t>Клейнова Олес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3840" y="713880"/>
            <a:ext cx="864396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3840" y="714240"/>
            <a:ext cx="864396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187280" indent="-20952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33ff"/>
                </a:solidFill>
                <a:latin typeface="Constantia"/>
              </a:rPr>
              <a:t>  </a:t>
            </a:r>
            <a:r>
              <a:rPr b="0" i="1" lang="ru-RU" sz="3600" spc="-1" strike="noStrike">
                <a:solidFill>
                  <a:srgbClr val="9933ff"/>
                </a:solidFill>
                <a:latin typeface="Constantia"/>
              </a:rPr>
              <a:t>Кто Я ? Каково мое предназначение ? В чем смысл моей жизни ? Зачем я пришел в этот мир ? Размышления над этими вопросами может дать совершенно разные результаты: может наступить ясность, но существует вероятность погружения в депрессию</a:t>
            </a:r>
            <a:r>
              <a:rPr b="0" i="1" lang="ru-RU" sz="3200" spc="-1" strike="noStrike">
                <a:solidFill>
                  <a:srgbClr val="9933ff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4" descr="C:\Program Files\Microsoft Office\MEDIA\CAGCAT10\j0301076.wmf"/>
          <p:cNvPicPr/>
          <p:nvPr/>
        </p:nvPicPr>
        <p:blipFill>
          <a:blip r:embed="rId1"/>
          <a:stretch/>
        </p:blipFill>
        <p:spPr>
          <a:xfrm>
            <a:off x="7143840" y="47149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071720"/>
            <a:ext cx="872964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ff00"/>
                </a:solidFill>
                <a:latin typeface="Calibri"/>
              </a:rPr>
              <a:t>   </a:t>
            </a:r>
            <a:r>
              <a:rPr b="0" i="1" lang="ru-RU" sz="4500" spc="-1" strike="noStrike">
                <a:solidFill>
                  <a:srgbClr val="00ff00"/>
                </a:solidFill>
                <a:latin typeface="Calibri"/>
              </a:rPr>
              <a:t>Человек в поисках смысла жизни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ff"/>
                </a:solidFill>
                <a:latin typeface="Constantia"/>
              </a:rPr>
              <a:t>Поиск  смысла  жизни – это отнюдь не предмет праздного любопытства и пафосных речей, это вопрос жизни и смерт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ff"/>
                </a:solidFill>
                <a:latin typeface="Constantia"/>
              </a:rPr>
              <a:t>Не мы задаем вопрос в чем смысл нашей жизни. Смерть задает  вопрос</a:t>
            </a:r>
            <a:r>
              <a:rPr b="0" i="1" lang="ru-RU" sz="2600" spc="-1" strike="noStrike">
                <a:solidFill>
                  <a:srgbClr val="0066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4" descr="C:\Program Files\Microsoft Office\MEDIA\CAGCAT10\j0285750.wmf"/>
          <p:cNvPicPr/>
          <p:nvPr/>
        </p:nvPicPr>
        <p:blipFill>
          <a:blip r:embed="rId1"/>
          <a:stretch/>
        </p:blipFill>
        <p:spPr>
          <a:xfrm>
            <a:off x="6932520" y="5468760"/>
            <a:ext cx="1824120" cy="1121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-281160" y="195120"/>
            <a:ext cx="9431640" cy="17067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4400" spc="-1" strike="noStrike">
                <a:solidFill>
                  <a:srgbClr val="ff00ff"/>
                </a:solidFill>
                <a:latin typeface="Constantia"/>
              </a:rPr>
              <a:t>«Если человек задумался о смысле жизни, значит, он серьезно болен» – так считал знаменитый психолог Зигмунд Фрейд</a:t>
            </a:r>
            <a:r>
              <a:rPr b="0" lang="ru-RU" sz="4400" spc="-1" strike="noStrike">
                <a:solidFill>
                  <a:srgbClr val="ff00ff"/>
                </a:solidFill>
                <a:latin typeface="Constantia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2" descr="C:\Program Files\Microsoft Office\MEDIA\CAGCAT10\j0234657.wmf"/>
          <p:cNvPicPr/>
          <p:nvPr/>
        </p:nvPicPr>
        <p:blipFill>
          <a:blip r:embed="rId2"/>
          <a:stretch/>
        </p:blipFill>
        <p:spPr>
          <a:xfrm>
            <a:off x="6859440" y="4595760"/>
            <a:ext cx="1713240" cy="16686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642960"/>
            <a:ext cx="8229600" cy="56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3399"/>
                </a:solidFill>
                <a:latin typeface="Constantia"/>
              </a:rPr>
              <a:t>Найти смысл жизни – это взять ответственность за решение  проблем, которые тебе не безразличны. А если все безразлично, тогда ты еще дитя и для окружающих ты просто «пыль» и жизнь твоя бедн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5" descr="C:\Program Files\Microsoft Office\MEDIA\CAGCAT10\j0216858.wmf"/>
          <p:cNvPicPr/>
          <p:nvPr/>
        </p:nvPicPr>
        <p:blipFill>
          <a:blip r:embed="rId1"/>
          <a:stretch/>
        </p:blipFill>
        <p:spPr>
          <a:xfrm>
            <a:off x="6330960" y="5113440"/>
            <a:ext cx="1827360" cy="833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66ff"/>
                </a:solidFill>
                <a:latin typeface="Constantia"/>
              </a:rPr>
              <a:t>Найти и понять смысл всей жизни – единый вопрос для всех и каждого. Это первая из задач, которую необходимо решить человеку. Пока задача не решена, он и не человек еще, а всего лишь «заготовка для буратина.» И решить эту задачу самостоятельно человек не способен, поскольку смысл очень большой и сложный. Необходима и обязательна помощь людей уже способных осознавать смысл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2" descr="C:\Program Files\Microsoft Office\MEDIA\CAGCAT10\j0216588.wmf"/>
          <p:cNvPicPr/>
          <p:nvPr/>
        </p:nvPicPr>
        <p:blipFill>
          <a:blip r:embed="rId1"/>
          <a:stretch/>
        </p:blipFill>
        <p:spPr>
          <a:xfrm>
            <a:off x="7139160" y="4668840"/>
            <a:ext cx="1609560" cy="1808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71424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00"/>
                </a:solidFill>
                <a:latin typeface="Constantia"/>
              </a:rPr>
              <a:t>Реальность такова, что смысл жизни искать не надо, его надо самим создавать и предназначение тоже определять самим, мы же созданы по образу Божьему, т. е. сами себе хозяева… А то кинулись искать этот смысл… философия сушит мозги, т. к. она есть размышление о смерти, а мы пока что </a:t>
            </a:r>
            <a:r>
              <a:rPr b="0" i="1" lang="ru-RU" sz="3200" spc="-1" strike="noStrike">
                <a:solidFill>
                  <a:srgbClr val="9933ff"/>
                </a:solidFill>
                <a:latin typeface="Constantia"/>
              </a:rPr>
              <a:t>ЖИВЫ ! ! 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900" spc="-1" strike="noStrike">
                <a:solidFill>
                  <a:srgbClr val="9933ff"/>
                </a:solidFill>
                <a:latin typeface="Calibri"/>
              </a:rPr>
              <a:t>        </a:t>
            </a:r>
            <a:r>
              <a:rPr b="0" i="1" lang="ru-RU" sz="4000" spc="-1" strike="noStrike">
                <a:solidFill>
                  <a:srgbClr val="9933ff"/>
                </a:solidFill>
                <a:latin typeface="Calibri"/>
              </a:rPr>
              <a:t>Где искать смысл жизни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66"/>
                </a:solidFill>
                <a:latin typeface="Constantia"/>
              </a:rPr>
              <a:t>Если  знание  смысла жизни так важно, то остаются вопросы: так и где его искать? Человек  не должен  спрашивать в чем смысл его жизни, но скорее должен осознать , что он сам и есть тот, к кому обращен вопрос. Нам нужно было  перестать спрашивать о смысле жизни, а вместо этого понять, что жизнь задает вопросы нам, ставит задачи – ежедневно и ежечасно. Наш ответ должен состоять не в разговорах и размышлениях, а в правильных поступках и правильном поведении. В конечном счете жить означает брать на себя ответственность за выбор правильного ответа на проблемы жизни, и выполнять задачи, которые она постоянно дает каждому человеку. Эти задачи – смысл жизни, разные для разных людей, они меняются от  одного момента к другому. Поэтому определить смысл жизни невозможн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" descr="C:\Program Files\Microsoft Office\MEDIA\CAGCAT10\j0205582.wmf"/>
          <p:cNvPicPr/>
          <p:nvPr/>
        </p:nvPicPr>
        <p:blipFill>
          <a:blip r:embed="rId1"/>
          <a:stretch/>
        </p:blipFill>
        <p:spPr>
          <a:xfrm>
            <a:off x="7215120" y="5000760"/>
            <a:ext cx="1776600" cy="163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900" spc="-1" strike="noStrike">
                <a:solidFill>
                  <a:srgbClr val="ff00ff"/>
                </a:solidFill>
                <a:latin typeface="Calibri"/>
              </a:rPr>
              <a:t>   </a:t>
            </a:r>
            <a:r>
              <a:rPr b="0" i="1" lang="ru-RU" sz="4900" spc="-1" strike="noStrike">
                <a:solidFill>
                  <a:srgbClr val="ff00ff"/>
                </a:solidFill>
                <a:latin typeface="Calibri"/>
              </a:rPr>
              <a:t>Ради чего вы живете    сейчас</a:t>
            </a:r>
            <a:r>
              <a:rPr b="0" lang="ru-RU" sz="4900" spc="-1" strike="noStrike">
                <a:solidFill>
                  <a:srgbClr val="ff00ff"/>
                </a:solidFill>
                <a:latin typeface="Calibri"/>
              </a:rPr>
              <a:t>?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856800" y="1856880"/>
            <a:ext cx="67150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2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0000ff"/>
                </a:solidFill>
                <a:latin typeface="Constantia"/>
              </a:rPr>
              <a:t>Существуют вопросы, указывающие направление для нахождения своего смысла жизни.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C:\Program Files\Microsoft Office\MEDIA\CAGCAT10\j0230876.wmf"/>
          <p:cNvPicPr/>
          <p:nvPr/>
        </p:nvPicPr>
        <p:blipFill>
          <a:blip r:embed="rId1"/>
          <a:stretch/>
        </p:blipFill>
        <p:spPr>
          <a:xfrm>
            <a:off x="6143760" y="1285920"/>
            <a:ext cx="2714400" cy="3000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2T10:19:11Z</dcterms:created>
  <dc:creator>Ренат</dc:creator>
  <dc:description/>
  <dc:language>en-US</dc:language>
  <cp:lastModifiedBy>Ренат</cp:lastModifiedBy>
  <dcterms:modified xsi:type="dcterms:W3CDTF">2009-12-29T10:52:37Z</dcterms:modified>
  <cp:revision>24</cp:revision>
  <dc:subject/>
  <dc:title>ПОИСК          СМЫСЛА        ЖИЗНИ</dc:title>
</cp:coreProperties>
</file>