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A54-17ED-4225-AA4B-29828313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EF2-35EE-499D-A5B9-356B28CB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A52-8576-4361-BE23-7BD60068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01B-2CDB-430D-A8EE-F56C4271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6F0C-30C6-4F7F-94F0-AE3D77B8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3C0E-3BE4-4559-81CD-5EB8E619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00A7-1CA7-4CE6-8023-2D83AB3B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5552-1C11-4960-B24E-FFD2F2E9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21CA-4559-4B24-B178-59338C0A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533B-9E96-4E2A-9792-B190B1D9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6F4A-0362-4156-9115-1CCEDD9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E8E-6CB9-4F4A-A204-FFD2072D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995B-11FE-4934-AF56-EAFFF4A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B56A-8C11-4F24-84BD-28D9031F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F9D0-9067-407B-AAAE-C2CEE8C6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996E-BEFC-4AA2-A09E-CEF93419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4AAD-C8AB-4AFD-960D-68438589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AAF-8232-4BAD-B0F4-A460DB78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851-2C67-43B7-9DE9-11709DA6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B72-AED2-4B03-B9D9-C114579C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DE5-A1BC-43A9-880D-97336B29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D37-4F05-426A-8893-E37492AA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77E-9963-4229-9DED-FBF21873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80B-4D85-4EA9-892C-6E61C8FD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3D0B-819B-4A05-873C-ECBAE169E3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AF6B-E0CE-4469-9B86-9F59EB7E416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1143000" y="1785960"/>
            <a:ext cx="633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929120" y="4786200"/>
            <a:ext cx="35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огорева Евг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31" descr="i[10]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8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5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2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708360" y="1844640"/>
            <a:ext cx="180036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12" descr="wer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rer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511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5" descr="Kletka[1]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692360" y="105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С.Есенина, А.Фадеева, А.Твардовского, В.Высоцкого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6" descr="42"/>
          <p:cNvPicPr/>
          <p:nvPr/>
        </p:nvPicPr>
        <p:blipFill>
          <a:blip r:embed="rId1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60"/>
          <p:cNvPicPr/>
          <p:nvPr/>
        </p:nvPicPr>
        <p:blipFill>
          <a:blip r:embed="rId2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1" descr="30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i[13]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i[7]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[9]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i[8]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Светлана</cp:lastModifiedBy>
  <dcterms:modified xsi:type="dcterms:W3CDTF">2010-02-25T11:13:46Z</dcterms:modified>
  <cp:revision>62</cp:revision>
  <dc:subject/>
  <dc:title>Слайд 1</dc:title>
</cp:coreProperties>
</file>