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3.wmf" ContentType="image/x-wmf"/>
  <Override PartName="/ppt/media/image8.jpeg" ContentType="image/jpeg"/>
  <Override PartName="/ppt/media/image10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0E1C-E2AA-4784-9486-89077134D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BF2-EDAD-4B07-BAA0-11665651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8C4F-9886-468D-9DFE-FD9D68DB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DC3B-4EC1-4519-A3AA-60204127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35818-DE7F-4B38-B487-357AE0976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C95F-E8A8-454A-9942-090C2B59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A6E78-01F9-4579-88E7-C3568C79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5FE9-FF6C-42D8-A582-8E769181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5DF5-3157-4557-A806-B8DDC985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4F3B-DDD2-4FB9-9CEF-7C9069646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04EA-E99B-4F43-9548-E1259F7E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7775-0CDD-43B5-B117-36A355E8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B2BC-F01E-48FE-8690-0DCF9E1C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A4E9-4228-4A6D-84FB-E7674F4A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B82B8-7AA3-4F81-A9B3-151943CF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3BB5-C854-4143-8AB0-E79B304A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18A3-03D1-465E-B7FD-D528E22B3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B7BC-7B4B-4704-B327-7F37F81D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DA07-6AC8-4F9D-A76D-CC360B25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389-66A9-411A-9BBE-3196D459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7A5-7454-443D-92DE-B9C9870A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C08-8D84-4F17-99B5-811B31F4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528-56F7-476F-B71A-FBA7E2A2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E81-FD58-471A-8531-D11FBEA70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DBD9-7D58-4DE9-8979-8C3887F6E7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950C-9911-461D-9C99-05107D4601B9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6"/>
          <p:cNvSpPr/>
          <p:nvPr/>
        </p:nvSpPr>
        <p:spPr>
          <a:xfrm>
            <a:off x="1143000" y="1785960"/>
            <a:ext cx="6335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«Влияние алкоголя на организм человека»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TextBox 2"/>
          <p:cNvSpPr/>
          <p:nvPr/>
        </p:nvSpPr>
        <p:spPr>
          <a:xfrm>
            <a:off x="4929120" y="4786200"/>
            <a:ext cx="350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Выполнила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Гогорева Евгения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1 класс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6"/>
          <p:cNvSpPr/>
          <p:nvPr/>
        </p:nvSpPr>
        <p:spPr>
          <a:xfrm>
            <a:off x="179280" y="333360"/>
            <a:ext cx="5040360" cy="53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Влияние алкоголя на организм человека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Принятый алкоголь быстро всасывается и поступает в кровь. Из крови алкоголь поступает в ткани, где распределяется неравномерно. Поскольку он хорошо растворяется в липидах – жироподобных веществах, которыми богаты нервные клетки, – то наибольшее его накопление происходит в мозгу. Именно эти клетки и гибнут в первую очередь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7" name="Picture 7" descr="сканирование0003"/>
          <p:cNvPicPr/>
          <p:nvPr/>
        </p:nvPicPr>
        <p:blipFill>
          <a:blip r:embed="rId1"/>
          <a:stretch/>
        </p:blipFill>
        <p:spPr>
          <a:xfrm>
            <a:off x="5867280" y="189000"/>
            <a:ext cx="2797200" cy="637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4"/>
          <p:cNvSpPr/>
          <p:nvPr/>
        </p:nvSpPr>
        <p:spPr>
          <a:xfrm>
            <a:off x="1619280" y="333360"/>
            <a:ext cx="561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Механизм гибели клеток при употреблении спиртного был раскрыт в 1960-х советскими и американскими учеными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11280" y="2205000"/>
            <a:ext cx="7848360" cy="2592360"/>
          </a:xfrm>
          <a:prstGeom prst="rect">
            <a:avLst/>
          </a:prstGeom>
          <a:noFill/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Line 8"/>
          <p:cNvSpPr/>
          <p:nvPr/>
        </p:nvSpPr>
        <p:spPr>
          <a:xfrm>
            <a:off x="611280" y="2781360"/>
            <a:ext cx="7848360" cy="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826920" y="2349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755640" y="2276640"/>
            <a:ext cx="7488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eaeaea"/>
                </a:solidFill>
                <a:latin typeface="Tahoma"/>
              </a:rPr>
              <a:t>Таблица 8.        МЕХАНИЗМ ГИБЕЛИ КЛЕТОК ПОД ДЕЙСТВИЕМ АЛКОГОЛЯ. </a:t>
            </a:r>
            <a:endParaRPr b="0" lang="en-US" sz="15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205092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 Box 14"/>
          <p:cNvSpPr/>
          <p:nvPr/>
        </p:nvSpPr>
        <p:spPr>
          <a:xfrm>
            <a:off x="611280" y="3068640"/>
            <a:ext cx="1439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клеивание эритроцитов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Line 16"/>
          <p:cNvSpPr/>
          <p:nvPr/>
        </p:nvSpPr>
        <p:spPr>
          <a:xfrm>
            <a:off x="212400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 Box 17"/>
          <p:cNvSpPr/>
          <p:nvPr/>
        </p:nvSpPr>
        <p:spPr>
          <a:xfrm>
            <a:off x="2700360" y="3068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закупорка капилляра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428472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 Box 20"/>
          <p:cNvSpPr/>
          <p:nvPr/>
        </p:nvSpPr>
        <p:spPr>
          <a:xfrm>
            <a:off x="4932360" y="2924280"/>
            <a:ext cx="180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прекращение подачи кислорода и питательных веществ в клетку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Line 22"/>
          <p:cNvSpPr/>
          <p:nvPr/>
        </p:nvSpPr>
        <p:spPr>
          <a:xfrm>
            <a:off x="6948360" y="3357720"/>
            <a:ext cx="360360" cy="0"/>
          </a:xfrm>
          <a:prstGeom prst="line">
            <a:avLst/>
          </a:prstGeom>
          <a:ln w="85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Text Box 23"/>
          <p:cNvSpPr/>
          <p:nvPr/>
        </p:nvSpPr>
        <p:spPr>
          <a:xfrm>
            <a:off x="7451640" y="3213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eaeaea"/>
                </a:solidFill>
                <a:latin typeface="Tahoma"/>
              </a:rPr>
              <a:t>гибель клет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Line 24"/>
          <p:cNvSpPr/>
          <p:nvPr/>
        </p:nvSpPr>
        <p:spPr>
          <a:xfrm>
            <a:off x="262728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Line 25"/>
          <p:cNvSpPr/>
          <p:nvPr/>
        </p:nvSpPr>
        <p:spPr>
          <a:xfrm>
            <a:off x="414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Line 26"/>
          <p:cNvSpPr/>
          <p:nvPr/>
        </p:nvSpPr>
        <p:spPr>
          <a:xfrm>
            <a:off x="4788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Line 27"/>
          <p:cNvSpPr/>
          <p:nvPr/>
        </p:nvSpPr>
        <p:spPr>
          <a:xfrm>
            <a:off x="680400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Line 28"/>
          <p:cNvSpPr/>
          <p:nvPr/>
        </p:nvSpPr>
        <p:spPr>
          <a:xfrm>
            <a:off x="7380360" y="2781360"/>
            <a:ext cx="0" cy="2016000"/>
          </a:xfrm>
          <a:prstGeom prst="line">
            <a:avLst/>
          </a:prstGeom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Picture 31" descr="i[10]"/>
          <p:cNvPicPr/>
          <p:nvPr/>
        </p:nvPicPr>
        <p:blipFill>
          <a:blip r:embed="rId1"/>
          <a:stretch/>
        </p:blipFill>
        <p:spPr>
          <a:xfrm>
            <a:off x="3492360" y="4941720"/>
            <a:ext cx="1960560" cy="191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1979640" y="189000"/>
            <a:ext cx="51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Мотивы употребления алкоголя в разных возрасте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1116000" y="1989000"/>
            <a:ext cx="60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042920" y="1197000"/>
            <a:ext cx="640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Хотя поводы первого приобщения к алкоголю разнообразны, но прослеживаются их характерные изменения в зависимости от возраста. В целом мотивы употребления спиртного делятся на две группы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826920" y="2852640"/>
            <a:ext cx="7201080" cy="335772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826920" y="3357720"/>
            <a:ext cx="7201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1476360" y="299736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ahoma"/>
              </a:rPr>
              <a:t>Мотивы употребления  спиртного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1042920" y="3500280"/>
            <a:ext cx="324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молоды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Line 9"/>
          <p:cNvSpPr/>
          <p:nvPr/>
        </p:nvSpPr>
        <p:spPr>
          <a:xfrm>
            <a:off x="826920" y="4508640"/>
            <a:ext cx="37450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4788000" y="350028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Мотивы употребления спиртного, типичные для взрослых людей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Line 11"/>
          <p:cNvSpPr/>
          <p:nvPr/>
        </p:nvSpPr>
        <p:spPr>
          <a:xfrm>
            <a:off x="4500720" y="4508640"/>
            <a:ext cx="352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1116000" y="4508640"/>
            <a:ext cx="316872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ледовать традициям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испытывать новые ощущения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любопытство,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«для храбрости» и т.п.</a:t>
            </a:r>
            <a:r>
              <a:rPr b="0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4500720" y="4437000"/>
            <a:ext cx="345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стремление избавиться от скуки.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снять с себя напряжение, </a:t>
            </a:r>
            <a:br>
              <a:rPr sz="1600"/>
            </a:br>
            <a:r>
              <a:rPr b="0" lang="en-US" sz="1600" spc="-1" strike="noStrike">
                <a:solidFill>
                  <a:srgbClr val="eaeaea"/>
                </a:solidFill>
                <a:latin typeface="Tahoma"/>
              </a:rPr>
              <a:t>желание освободиться от неприятных переживаний в семье, профессиональном, учебном коллектив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Line 14"/>
          <p:cNvSpPr/>
          <p:nvPr/>
        </p:nvSpPr>
        <p:spPr>
          <a:xfrm>
            <a:off x="4356000" y="3357720"/>
            <a:ext cx="0" cy="11509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4356000" y="4508640"/>
            <a:ext cx="0" cy="16570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826920" y="299736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Таблица 7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4"/>
          <p:cNvSpPr/>
          <p:nvPr/>
        </p:nvSpPr>
        <p:spPr>
          <a:xfrm>
            <a:off x="1403280" y="333360"/>
            <a:ext cx="626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ahoma"/>
              </a:rPr>
              <a:t>Отношение школьников к пьянству в зависимости от возраст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Rectangle 6"/>
          <p:cNvSpPr/>
          <p:nvPr/>
        </p:nvSpPr>
        <p:spPr>
          <a:xfrm>
            <a:off x="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74" name="Object 5"/>
          <p:cNvGraphicFramePr/>
          <p:nvPr/>
        </p:nvGraphicFramePr>
        <p:xfrm>
          <a:off x="4317840" y="1773360"/>
          <a:ext cx="4826160" cy="40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7840" y="1773360"/>
                    <a:ext cx="4826160" cy="40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Text Box 8"/>
          <p:cNvSpPr/>
          <p:nvPr/>
        </p:nvSpPr>
        <p:spPr>
          <a:xfrm>
            <a:off x="324000" y="1916280"/>
            <a:ext cx="39607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eaeaea"/>
                </a:solidFill>
                <a:latin typeface="Tahoma"/>
              </a:rPr>
              <a:t>С возрастом меняются оценки учащимися состояния опьянения окружающих. Частота случаев квалификации пьянства как нормального явления имеет у мальчиков прямую связь с увеличением возраста. Юноши в 16 лет с меньшим осуждением, чем девушки, относятся к пьянству окружающих. В наибольшей степени затрудняются однозначно выражают свое отношение к пьянству дети 9 лет (в равной мере девочки и мальчики). Но, начиная с 13 лет, девочки определеннее мальчиков выражали свое отношение к пьянству окружающих. Надо заметить, что девочки вообще более однозначно высказывались по всем предложенным вопросам, чем мальчик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 Box 11"/>
          <p:cNvSpPr/>
          <p:nvPr/>
        </p:nvSpPr>
        <p:spPr>
          <a:xfrm>
            <a:off x="4500720" y="6021360"/>
            <a:ext cx="43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Исследование проводилось в Росси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 Box 13"/>
          <p:cNvSpPr/>
          <p:nvPr/>
        </p:nvSpPr>
        <p:spPr>
          <a:xfrm>
            <a:off x="4859280" y="5084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630072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4"/>
          <p:cNvSpPr/>
          <p:nvPr/>
        </p:nvSpPr>
        <p:spPr>
          <a:xfrm>
            <a:off x="611280" y="4762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Отношение  школьников к употреблению спиртных напитков в компании друзей (на 100 обследованных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-19440" y="-518400"/>
            <a:ext cx="194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Мальчики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  <a:ea typeface="Times New Roman"/>
              </a:rPr>
              <a:t>Девоч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809640"/>
                <a:tab algn="l" pos="990720"/>
                <a:tab algn="l" pos="3781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0" y="373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83" name="Object 6"/>
          <p:cNvGraphicFramePr/>
          <p:nvPr/>
        </p:nvGraphicFramePr>
        <p:xfrm>
          <a:off x="0" y="2708280"/>
          <a:ext cx="4427640" cy="377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708280"/>
                    <a:ext cx="4427640" cy="37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5"/>
          <p:cNvGraphicFramePr/>
          <p:nvPr/>
        </p:nvGraphicFramePr>
        <p:xfrm>
          <a:off x="4356000" y="2782800"/>
          <a:ext cx="4788000" cy="37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2782800"/>
                    <a:ext cx="4788000" cy="37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2"/>
          <p:cNvSpPr/>
          <p:nvPr/>
        </p:nvSpPr>
        <p:spPr>
          <a:xfrm>
            <a:off x="755640" y="234936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мальчи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5580000" y="2349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девочки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4"/>
          <p:cNvSpPr/>
          <p:nvPr/>
        </p:nvSpPr>
        <p:spPr>
          <a:xfrm>
            <a:off x="179280" y="189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Статистика употребления алкоголя а нашей гимназии(опрос среди всех классов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Text Box 6"/>
          <p:cNvSpPr/>
          <p:nvPr/>
        </p:nvSpPr>
        <p:spPr>
          <a:xfrm>
            <a:off x="0" y="1268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Употребляли ли Вы хотя бы раз в жизни алкоголь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 Box 7"/>
          <p:cNvSpPr/>
          <p:nvPr/>
        </p:nvSpPr>
        <p:spPr>
          <a:xfrm>
            <a:off x="3708360" y="1844640"/>
            <a:ext cx="1800360" cy="20372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7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8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9 класс-8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0 класс-90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Arial"/>
              </a:rPr>
              <a:t>11 класс-85%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2556000" y="2133720"/>
            <a:ext cx="604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3" name="Picture 12" descr="wer"/>
          <p:cNvPicPr/>
          <p:nvPr/>
        </p:nvPicPr>
        <p:blipFill>
          <a:blip r:embed="rId1"/>
          <a:stretch/>
        </p:blipFill>
        <p:spPr>
          <a:xfrm>
            <a:off x="6786720" y="4076640"/>
            <a:ext cx="1984320" cy="2338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4" descr="rer"/>
          <p:cNvPicPr/>
          <p:nvPr/>
        </p:nvPicPr>
        <p:blipFill>
          <a:blip r:embed="rId2"/>
          <a:stretch/>
        </p:blipFill>
        <p:spPr>
          <a:xfrm>
            <a:off x="324000" y="4149720"/>
            <a:ext cx="1649160" cy="22906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2627280" y="443700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2,84,8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78,10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4"/>
          <p:cNvSpPr/>
          <p:nvPr/>
        </p:nvSpPr>
        <p:spPr>
          <a:xfrm>
            <a:off x="1476360" y="33336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Вывод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179280" y="907920"/>
            <a:ext cx="87138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Необходимость усиления  противоалкогольной  работы  с  подросткам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бусловлена прежде  всего  распространенностью  употребления  алкогол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реди населения. Пьянство  родителей создает, с одной стороны, крайне не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благоприятные условия для нравственного воспитания и интеллектуального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развития детей  и подростков; с другой стороны, способствует их раннему приобщению к употреблению алкогольных напитков. В свою очередь раннее приобщение к  алкоголю и систематическое его употребление в молодые годы приводят к пьянству и раннему развитию алкоголизма. Употребление  алкоголя тяжело сказывается на здоровье нравственном и умственном, развитии подростка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Особенно чревато последствиями употребление спиртных напитков в переходном возрасте  (10-20лет). Употребление  алкогольных  напитков  в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этом возрасте способно надолго задержать, а в особо тяжелых  случаях  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овсе остановить  формирование этических и нравственных категорий, раз-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вития высших форм мышления, эстетических понятий. При неустойчивой нервной системе, еще  несформировавшихся жизненных  взглядах и убеждениях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подросток под влиянием алкоголя нередко становится более восприимчивым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к примерам негативного поведения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eaeaea"/>
                </a:solidFill>
                <a:latin typeface="Arial"/>
              </a:rPr>
              <a:t>Судя по проведенному исследованию, я пришел к выводу что необходимо запретить продажу алкогольных напитков лицам моложе 18 лет, а также запретить пропагандировать алкоголь через средства массовой информации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2556000" y="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Введени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539640" y="620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Проблема употребления алкоголя очень актуальна в наши дни. Сейчас потребление спиртных напитков в мире характеризуется огромными цифрами. От этого страдает все общество, но в первую очередь под угрозу ставится подрастающее поколение: дети, подростки, молодежь, а также здоровье будущих матерей. Ведь алкоголь особенно активно влияет на несформировавшийся организм, постепенно разрушая его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Вред алкоголя очевиден. Доказано, что при попадании алкоголя внутрь организма, он разносится по крови ко всем органам и неблагоприятно действует на них вплоть до разрушения. При систематическом употреблении алкоголя развивается опасная болезнь алкоголизм. Алкоголизм опасен для здоровья человека, но он излечим, как и многие другие болезни. 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      Но главная проблема состоит в том, что большая часть алкогольной продукции, выпускаемой  негосударственными предприятиями, содержит большое количество ядовитых веществ. Недоброкачественная продукция нередко приводит к отравлениям и даже смертям.</a:t>
            </a:r>
            <a:br>
              <a:rPr sz="1800"/>
            </a:b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Все это наносит большой урон обществу, его культурным ценностям. Я обратился к этой теме  потому, что меня как подростка ,прежде всего, касается эта проблема. При выполнении проекта я анализировал научную литературу, таблицы, а так же использовал данные социологических  опрос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1403280" y="476280"/>
            <a:ext cx="54723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АЛКОГОЛИЗМ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alcoholism)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– биопсихосоциальное заболевание, в основе которого лежит зависимость человека от алкоголя («алкоголь» по-арабски «одурманивающий»), является одной из форм отклоняющегося (девиантного) поведен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24000" y="2924280"/>
          <a:ext cx="8459640" cy="2751120"/>
        </p:xfrm>
        <a:graphic>
          <a:graphicData uri="http://schemas.openxmlformats.org/drawingml/2006/table">
            <a:tbl>
              <a:tblPr/>
              <a:tblGrid>
                <a:gridCol w="3995640"/>
                <a:gridCol w="4464000"/>
              </a:tblGrid>
              <a:tr h="338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Таблица 1. </a:t>
                      </a: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ДЕРЖАНИЕ ПОНЯТИЯ «АЛКОГОЛИЗМ»</a:t>
                      </a:r>
                      <a:endParaRPr b="0" lang="en-US" sz="16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болезнь индивида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формирование у него психологической и физиологической зависимости от спиртного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социальная патология</a:t>
                      </a: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Times New Roman"/>
                          <a:ea typeface="Times New Roman"/>
                        </a:rPr>
                        <a:t> - проявление социального неблагополучия и причина его усилен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971640" y="28080"/>
            <a:ext cx="7345440" cy="19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eaeaea"/>
                </a:solidFill>
                <a:uFillTx/>
                <a:latin typeface="Tahoma"/>
              </a:rPr>
              <a:t>Исторические закономерности развития алкоголизма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      </a:t>
            </a:r>
            <a:r>
              <a:rPr b="1" i="1" lang="en-US" sz="1700" spc="-1" strike="noStrike">
                <a:solidFill>
                  <a:srgbClr val="eaeaea"/>
                </a:solidFill>
                <a:latin typeface="Tahoma"/>
              </a:rPr>
              <a:t>Опьяняющие напитки известны человечеству со времен первобытности. Их потребление чаще всего было частью религиозного ритуала, которым сопровождались празднества. Однако уже в древности появилось как чисто бытовое потребление алкоголя, так и злоупотребление им. </a:t>
            </a:r>
            <a:endParaRPr b="0" lang="en-US" sz="17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Picture 5" descr="Kletka[1]"/>
          <p:cNvPicPr/>
          <p:nvPr/>
        </p:nvPicPr>
        <p:blipFill>
          <a:blip r:embed="rId1"/>
          <a:stretch/>
        </p:blipFill>
        <p:spPr>
          <a:xfrm>
            <a:off x="2700360" y="2060640"/>
            <a:ext cx="3816360" cy="479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1187280" y="126828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Открытие технологии изготовления спирта  сделали арабы в 9 в. Но в Европе она получила распространение лишь с 13–15 вв. Поэтому спиртные напитки были относительно слабыми, что сильно сдерживало распространение алкоголизма. Поэтому в древнем мире и в средние века алкоголизм существовал только как индивидуальное заболевание, но не как социальная патология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971640" y="4149720"/>
            <a:ext cx="6985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aeaea"/>
                </a:solidFill>
                <a:latin typeface="Tahoma"/>
              </a:rPr>
              <a:t>Социальной патологией алкоголизм в Западной Европе стал лишь в эпоху нового времени. Известно, например, что в 18 в. среди английских бедняков самое широкое распространение получил дешевый джин. Чтобы остановить распространение пьянства, государства Западной Европы начали ужесточать контроль за качеством спиртного и повышать его цену за счет специальной наценки (акциза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971640" y="33336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eaeaea"/>
                </a:solidFill>
                <a:latin typeface="Tahoma"/>
              </a:rPr>
              <a:t>Появление алкоголя в Европ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332000" y="1751040"/>
            <a:ext cx="6553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ahoma"/>
              </a:rPr>
              <a:t>Проблема алкоголизма в России усугублялась преобладанием на российском рынке низкокачественных сортов водки. Систематический экспорт русской ржаной водки в Германию привел к преобладанию на внутреннем российском рынке дешевой картофельной водки из украинских губерний, что способствовало распространению в России самых худших форм пьянства. Правительство отказывалось бороться с ним, поскольку в начале 20 в. более 1/3 доходов ежегодного госбюджета составляла именно выручка от торговли водкой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692360" y="40464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eaeaea"/>
                </a:solidFill>
                <a:latin typeface="Tahoma"/>
              </a:rPr>
              <a:t>Алкоголизм в Росси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1692360" y="105264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Фискальный интерес к продаже алкоголя сохранился и в советскую эпоху. Поэтому в СССР осталась «традиция» чрезмерного винопития, алкоголизм по-прежнему являлся острой национальной проблемой. Тяга к «зеленому змию» получила широкое распространение не только у «простых» людей, но и среди творческой интеллигенции (можно вспомнить, например, С.Есенина, А.Фадеева, А.Твардовского, В.Высоцкого)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547640" y="0"/>
            <a:ext cx="52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aeaea"/>
                </a:solidFill>
                <a:uFillTx/>
                <a:latin typeface="Tahoma"/>
              </a:rPr>
              <a:t>Продажа алкоголя в советское врем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Picture 6" descr="42"/>
          <p:cNvPicPr/>
          <p:nvPr/>
        </p:nvPicPr>
        <p:blipFill>
          <a:blip r:embed="rId1"/>
          <a:stretch/>
        </p:blipFill>
        <p:spPr>
          <a:xfrm>
            <a:off x="900000" y="3544920"/>
            <a:ext cx="2406600" cy="3313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60"/>
          <p:cNvPicPr/>
          <p:nvPr/>
        </p:nvPicPr>
        <p:blipFill>
          <a:blip r:embed="rId2"/>
          <a:stretch/>
        </p:blipFill>
        <p:spPr>
          <a:xfrm>
            <a:off x="6443640" y="3573360"/>
            <a:ext cx="2444760" cy="328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Статистика потребления алкоголя в России(таблица 4.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11" descr="30"/>
          <p:cNvPicPr/>
          <p:nvPr/>
        </p:nvPicPr>
        <p:blipFill>
          <a:blip r:embed="rId1"/>
          <a:stretch/>
        </p:blipFill>
        <p:spPr>
          <a:xfrm>
            <a:off x="395280" y="1052640"/>
            <a:ext cx="8440920" cy="53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6"/>
          <p:cNvSpPr/>
          <p:nvPr/>
        </p:nvSpPr>
        <p:spPr>
          <a:xfrm>
            <a:off x="1187280" y="333360"/>
            <a:ext cx="6553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aeaea"/>
                </a:solidFill>
                <a:latin typeface="Tahoma"/>
              </a:rPr>
              <a:t>В 1990-е на российском рынке появилось большое количество низкопробных, часто фальсифицированных (нестандартных и низкокачественных) крепких алкогольных напитков. Российский рынок захлестнул поток отечественных и иностранных псевдоводок, широко распространилось самогоноварение. По некоторым данным, в 1993 каждая четвертая бутылка была подделкой. В результате проблема алкоголизма стала еще более острой: на учете в лечебно-профилактических учреждениях состояло более 2,5 млн. человек, но реальное число больных алкоголизмом было заметно выше – порядка 10 млн. (примерно 7% всего населения). От алкогольного отравления в 1990-е ежегодно умирало примерно 30 тыс. человек (большинство из них – жертвы суррогатов)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2" name="Picture 7" descr="i[13]"/>
          <p:cNvPicPr/>
          <p:nvPr/>
        </p:nvPicPr>
        <p:blipFill>
          <a:blip r:embed="rId1"/>
          <a:stretch/>
        </p:blipFill>
        <p:spPr>
          <a:xfrm>
            <a:off x="179280" y="189000"/>
            <a:ext cx="1143000" cy="14396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8" descr="i[7]"/>
          <p:cNvPicPr/>
          <p:nvPr/>
        </p:nvPicPr>
        <p:blipFill>
          <a:blip r:embed="rId2"/>
          <a:stretch/>
        </p:blipFill>
        <p:spPr>
          <a:xfrm>
            <a:off x="7740720" y="5373720"/>
            <a:ext cx="1218960" cy="1257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i[9]"/>
          <p:cNvPicPr/>
          <p:nvPr/>
        </p:nvPicPr>
        <p:blipFill>
          <a:blip r:embed="rId3"/>
          <a:stretch/>
        </p:blipFill>
        <p:spPr>
          <a:xfrm>
            <a:off x="7451640" y="189000"/>
            <a:ext cx="1548000" cy="137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i[8]"/>
          <p:cNvPicPr/>
          <p:nvPr/>
        </p:nvPicPr>
        <p:blipFill>
          <a:blip r:embed="rId4"/>
          <a:stretch/>
        </p:blipFill>
        <p:spPr>
          <a:xfrm>
            <a:off x="179280" y="537372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6T13:46:55Z</dcterms:created>
  <dc:creator>Михаил</dc:creator>
  <dc:description/>
  <dc:language>en-US</dc:language>
  <cp:lastModifiedBy>Светлана</cp:lastModifiedBy>
  <dcterms:modified xsi:type="dcterms:W3CDTF">2010-02-25T11:13:46Z</dcterms:modified>
  <cp:revision>62</cp:revision>
  <dc:subject/>
  <dc:title>Слайд 1</dc:title>
</cp:coreProperties>
</file>