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296-D36E-4F9F-BDED-4AB9C391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8A8-77A8-47AC-9D6B-5DAEFBA0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2F8-9A66-42DB-8F98-E9186735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C5C-B718-4C53-8BBD-79626CE1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82D8-35C9-47AE-BBD3-A2B40387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D47F-9398-4B39-9AA3-0A63E9D1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4E68-28BF-4CB9-B0D8-F4C74AD6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1A10-CE67-4CD8-A51E-D091AFB9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4B8A-E434-4DA2-BB01-212B605A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BA1E-911C-4887-BDA6-03BE6E11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1643-5804-4AA9-BDCC-500C2DF5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700-DA35-488B-8673-95A2E07F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2567-3903-46B3-B901-416967A2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C89D-6AF6-45B0-8C36-9557AE29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2972-C54A-458B-9ABA-CFD48B4C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9124-DAD4-412F-829D-6B2CA16E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0E11-321F-4FB2-8BEB-579020A0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32D-82C7-4101-AD1A-14F05048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193-1786-4B3E-B0C6-2AEAEB23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BAE-989A-4362-AB19-0A130209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651-8D22-4CF8-A020-76CDB864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F26-4523-472B-AF53-5F86B11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371-9F82-4B77-B63C-59BFDF4E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2BF-6DA3-46FA-B041-74D3283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670-E151-4A0E-8B27-C444071165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AA0D-2F30-4256-A155-4FE516D95D3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1143000" y="1785960"/>
            <a:ext cx="633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929120" y="4786200"/>
            <a:ext cx="35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огорева Евг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31" descr="i[10]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8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5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2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708360" y="1844640"/>
            <a:ext cx="180036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12" descr="wer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rer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511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5" descr="Kletka[1]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692360" y="105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С.Есенина, А.Фадеева, А.Твардовского, В.Высоцкого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6" descr="42"/>
          <p:cNvPicPr/>
          <p:nvPr/>
        </p:nvPicPr>
        <p:blipFill>
          <a:blip r:embed="rId1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60"/>
          <p:cNvPicPr/>
          <p:nvPr/>
        </p:nvPicPr>
        <p:blipFill>
          <a:blip r:embed="rId2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1" descr="30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i[13]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i[7]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[9]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i[8]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Светлана</cp:lastModifiedBy>
  <dcterms:modified xsi:type="dcterms:W3CDTF">2010-02-25T11:13:46Z</dcterms:modified>
  <cp:revision>62</cp:revision>
  <dc:subject/>
  <dc:title>Слайд 1</dc:title>
</cp:coreProperties>
</file>