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push.wav" ContentType="audio/x-wav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F1B-251E-468D-9FBC-9587F1BB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A7C-4E9B-4AB0-82BA-F14A8305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223-77D6-4C5F-83AC-2FAE0E37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37A-C1D2-4F4F-98C1-D28DE600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FCCA-7D5E-4B8D-B6F0-BBF9498A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32B1-95E9-4D40-B6CF-F9A943E0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AECA-B589-4191-9347-47AF5825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AD3A-28F3-48CC-A3FD-EB2C7D19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CC21-E859-4B63-AC24-78260493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485F-0FD1-480C-9E5E-A8E324B1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F2EB-307D-4A13-A31F-D582BDC2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8A1-161A-46D6-9411-DF81633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35DA-C72A-4B98-BDDE-F54C28A1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DCF6-E046-446C-B78E-357736A2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054A-4A73-45A2-B975-77847C54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C860-7105-41E5-A77B-A721DC2D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7E8C-4D0D-41F2-89A7-0C981F2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57F5-CDCE-42F0-8A78-F25CA000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48D6-58D1-46C7-A425-4DD9EC26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0D57-7FD8-4F13-8053-D6BDAC88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4574-BF6B-4DD2-995B-404B2F88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1DBC-D5DC-4853-AD8E-76DA151F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6CC-B93F-4FDB-B18F-0FBC4EAE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939E-4ED9-41E9-B171-D286924B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3091-1E52-435A-9852-3BBB5C43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0B02-3FF3-4687-B4B3-EAEAD713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EBD3-065B-45CC-AA5E-F4C0E57F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5BE3-0BA4-4B30-B523-268BA8BF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109C-667A-4EE3-9500-903FCB29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AE6E-8B90-4249-9D8E-7819A4B7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59BA-E81C-4E5E-9DFB-5C229E29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4A6B-4F06-454A-A63F-3233576E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274B-0275-44F0-B6D9-5ADDB039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169-25BE-49BD-A764-ED0289BD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630C5-8906-41DA-9A59-6F1C4F89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D9EA-3C38-4C10-986D-5BCB9E5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36F85-2CAF-4BF9-924B-D5257B06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F5D0-5C70-4731-9B78-F338506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7009-36FE-4BF6-9189-5621F6A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9E88-7277-4596-B4D0-6D5104AF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0C66F-EAEB-40DD-926B-D9B22C92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160F-CD1E-4825-92CB-148CE63D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5944-501F-4EF5-BE8F-2B84FE36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FCCC-9BD5-40FF-AC1F-553B82B9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B5C-31E0-40B2-A6C9-EE31A1CC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FEC8-4D09-413D-AB88-E8CF322F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4137B-850C-4952-9B8A-D8FFA866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D071-BB82-48AC-907A-9B9D8F75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DC73-2EA0-4876-8214-18C867F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1C4E-607B-4857-80CC-90BEF4CE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85B5-F59F-4FCB-8CCE-8F70423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B707-CB08-4522-BF7F-7D266B2C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4605-1A65-4372-BB23-12D80E73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0E06-C993-43E2-B9B2-51C81ABE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A4EE-7F53-4F5C-862F-DFA7FB62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0BE-7E83-4945-B5C0-08A16BF6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E9DC-9FBD-450F-AF6F-AF7E4680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BD635-3767-4530-B20A-98581308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AD0E-5E7E-453E-BD05-57C17CE7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53B7-C181-4CB2-9A7D-105D26BB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8A43A-229C-482B-8B1F-ACDE083A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288AC-2CCC-48CB-971F-EFAD7295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7DE5C-96BE-43E5-A433-DB849D1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E75C-8965-48A5-93CC-DA5ED9C0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9126-3E5E-486C-9D11-D10FC15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8BCC-82C8-47A6-94DB-3D024259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59D-F3F1-4AB0-8226-BE31A0F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4ACD-AC84-4133-9F20-CCDC25D0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8330-5807-4982-95B7-4681A0EA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CBDB-EF95-488C-B117-CE8087D7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5501-DDB3-4221-AEE6-96592CC4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5611-74DE-4654-B661-814491B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5433-98EA-4280-A0F7-1D24C5DF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CBF1D-FD51-4CA2-9971-ECBD7A70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E2329-F055-490F-8799-786E0B75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B3CB-DC79-438D-837D-BAC4BE47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1E55-97BA-4690-95CD-7DDD05D9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A62-389D-40CE-B832-9F52840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49C3-B86A-476E-B435-611533F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5C04D-E7B3-4213-888E-95FCD59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E34B3-1672-408E-BD9F-B7EE1AD6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0B47-F781-4C39-A5D1-A1C8874A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05FF-3E43-48C0-B020-84395A4D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AD73-9AE7-4848-A446-EA0615B2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B7132-2249-4F36-95F7-23055EC5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FC837-BDE9-4C22-963B-2B39335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E1BED-2101-44AC-8E64-7B41CAA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D687E-F76F-411D-9318-A134F32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680-3902-4843-9F34-74DB371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9270-238F-4FD0-BEF3-0D4E6B0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7FACD-E0C7-4A60-9AD9-12E8A2F2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6127A-4622-4007-BFDE-B0FE4C1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DF41C-8568-4654-88FA-5FEED16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2B081-0CA1-4DF6-9CE6-3218750B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100FE-A17D-4EA9-8679-F766ACFB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B9523-3D77-418A-99D2-6CCB1684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395-A02B-4A45-B201-BF3D0095639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C62-75C9-401A-8589-B148827D5CE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39B4-EA2F-4DBD-BE55-2E2EA00C3679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47E3-F381-4AFE-86E2-0F60B29A769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7611-70AE-4ED5-8E17-CD97E63D3BB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68CE-5E37-426E-9B75-8F7516501E4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527-B26F-43F3-ADD1-22361016722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111A-7EBA-4308-9740-6567991420C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6"/>
          <p:cNvSpPr txBox="1"/>
          <p:nvPr/>
        </p:nvSpPr>
        <p:spPr>
          <a:xfrm>
            <a:off x="0" y="17002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 дается один ра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3" name="TextBox 4" descr=""/>
          <p:cNvPicPr/>
          <p:nvPr/>
        </p:nvPicPr>
        <p:blipFill>
          <a:blip r:embed="rId1"/>
          <a:stretch/>
        </p:blipFill>
        <p:spPr>
          <a:xfrm>
            <a:off x="579600" y="3486240"/>
            <a:ext cx="5072040" cy="16095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6000840" y="414324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хакян Земфиир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2428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котик – это любое химическое соединение, которое воздействует на функционирование организма. Злоупотребление наркотиками – это их употребление любым неприемлемым с медицинской и социальной точек зрения образом или приемлемым, но неправильны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WordArt 7"/>
          <p:cNvSpPr txBox="1"/>
          <p:nvPr/>
        </p:nvSpPr>
        <p:spPr>
          <a:xfrm>
            <a:off x="684360" y="189000"/>
            <a:ext cx="766764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такое наркотик?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ая статистика в отношении наркомании очень тревожна. В течение последних 6 лет распространенность наркомании среди подростков увеличилась в 10 раз, число больных подростков в Санкт-Петербурге в 1,8 раза выше, чем в России и в 2,6 раза выше, чем в Москве. Тенденция увеличения наркотических заболеваний заставляет все большее число родителей опасаться того, что тема наркотиков станет ужасной реальностью в их семье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684360" y="260280"/>
            <a:ext cx="794196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ет-наркотикам"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0">
    <p:circle/>
    <p:sndAc>
      <p:stSnd>
        <p:snd r:embed="rId1" name="pu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27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mbria"/>
              </a:rPr>
              <a:t>О вреде наркотиков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819520" y="3276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133720" y="2362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838080" y="4724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447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1523880" y="914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7" name="Line 10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8" name="Line 11"/>
          <p:cNvSpPr/>
          <p:nvPr/>
        </p:nvSpPr>
        <p:spPr>
          <a:xfrm>
            <a:off x="42670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9" name="Line 12"/>
          <p:cNvSpPr/>
          <p:nvPr/>
        </p:nvSpPr>
        <p:spPr>
          <a:xfrm flipV="1">
            <a:off x="4267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42670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конопл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2" name="Picture 4" descr="HM00250_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1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4572000" y="270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376" name="Group 18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377" name="Line 7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0" name="Line 14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1" name="Line 16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384" name="Picture 20" descr="j0234673"/>
          <p:cNvPicPr/>
          <p:nvPr/>
        </p:nvPicPr>
        <p:blipFill>
          <a:blip r:embed="rId3"/>
          <a:stretch/>
        </p:blipFill>
        <p:spPr>
          <a:xfrm>
            <a:off x="5003640" y="36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1" descr="j0234734"/>
          <p:cNvPicPr/>
          <p:nvPr/>
        </p:nvPicPr>
        <p:blipFill>
          <a:blip r:embed="rId4"/>
          <a:stretch/>
        </p:blipFill>
        <p:spPr>
          <a:xfrm>
            <a:off x="2843280" y="5445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386" name="Line 22"/>
          <p:cNvSpPr/>
          <p:nvPr/>
        </p:nvSpPr>
        <p:spPr>
          <a:xfrm>
            <a:off x="558000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4788000" y="53928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tencil"/>
              </a:rPr>
              <a:t>Снижение памяти, интеллекта, нарушение внимания, мышле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7885080" y="342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7236000" y="4437000"/>
            <a:ext cx="15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Организм магнит для всех болезней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опиатных наркотик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392" name="Line 3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6" name="Line 7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98" name="Text Box 9"/>
          <p:cNvSpPr/>
          <p:nvPr/>
        </p:nvSpPr>
        <p:spPr>
          <a:xfrm>
            <a:off x="228600" y="37339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3505320" y="41148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1752480" y="30481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03" name="Picture 14" descr="HM00302_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легкие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скелет3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8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Cambria"/>
              </a:rPr>
              <a:t>Употребление психостимуляторов</a:t>
            </a:r>
            <a:endParaRPr b="0" lang="en-US" sz="34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08" name="Group 13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409" name="Line 3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1" name="Line 5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19" name="Picture 14" descr="сердце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420" name="Line 15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1" name="Line 16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6934320" y="4191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галлюциноген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426" name="Line 3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7" name="Line 4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29" name="Text Box 6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38" name="Picture 16" descr="голмозг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7" descr="печень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ЛНД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41" name="Group 16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442" name="Line 3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3" name="Line 4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4" name="Line 5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5" name="Line 6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5" name="Line 17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9" name="Line 21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60" name="Picture 22" descr="пневмония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3" descr="голмозг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печень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FuckYouBill</cp:lastModifiedBy>
  <dcterms:modified xsi:type="dcterms:W3CDTF">2010-01-25T15:40:25Z</dcterms:modified>
  <cp:revision>24</cp:revision>
  <dc:subject/>
  <dc:title>Жизнь дается один раз</dc:title>
</cp:coreProperties>
</file>