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.png" ContentType="image/png"/>
  <Override PartName="/ppt/media/image2.png" ContentType="image/png"/>
  <Override PartName="/ppt/media/push.wav" ContentType="audio/x-wav"/>
  <Override PartName="/ppt/media/image3.png" ContentType="image/png"/>
  <Override PartName="/ppt/media/image4.wmf" ContentType="image/x-wmf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F5A-B823-4808-9B41-C731CFC3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59F-F713-403D-9B76-74C8C918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255-CB6F-4B85-8B75-2D0BD76B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A42-DD62-4DC7-B94E-EA01790E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6CDB-FAED-4C9E-92F1-C6FC869D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40E7-9BD4-461C-99A5-D3E45591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876F-B34E-47A7-BE1F-9943E5C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CA27-ADBC-40D5-9B25-33BB9F03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9200-2D7A-46F6-992D-7567A064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3857-3915-48CE-9716-3FF694A5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B585-679B-4530-8D16-7B02B64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B62-ACFB-422D-B057-DA3C3E52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F971-65D9-4EBD-ACEC-E36975D0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E02D-B387-4A38-B4E0-B8152914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541C-18B9-46D2-9D74-699C175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993F-B0F6-4347-B558-C53626E50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A240-2731-48CE-A759-164BEFD7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B646-EC0F-4D4E-9B6F-9A2F0FF2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FF10-9181-4FA6-AC6D-5C1FF74D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504E-3253-454D-8964-784577BB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4966E-09E8-456E-8379-D318B0B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55A8-026E-4F6C-8E18-520660C4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8AB-ACC8-4DDD-85D4-15269613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8EAF-90B9-48F9-A15D-240EE6B5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4968-10CA-4B6A-9208-65D92C0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63EC-87B1-4FC8-9774-1A1411E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A2C7-E147-4E2C-9B36-09FA276A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7E4A-D287-4F28-A29A-728D974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41433-773C-454B-8B41-862B399A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7B11-FA90-49B2-A3E7-1280F3BD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7882-D375-4FE0-9557-5F24A4E3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34132-57E1-45FC-82FB-AA015115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6791-EEC4-4F38-9843-F64FAE8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142-2AB3-4450-83B2-62E82905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9CCF-2079-4F61-B0F5-50C93852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FCDD-11C9-4F28-89B4-E2E70BEC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5D369-1419-4357-9F78-3F551D61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4F5FD-0BC3-4064-AFAD-D4E70AB7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99508-00B6-4BDA-9BDA-6F3B4E8B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CECFC-77DC-4E5E-9763-1CF046A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D1A6-8409-438A-AD91-89427FF5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9AAAF-ADA7-42B3-9926-E9ADFD25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87C2C-EC77-4E68-B728-A3221AAE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D87E-0FA5-421D-A308-2AE294A0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6E9-6B5E-4E84-A14C-0BCCD811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E29B-217E-4C99-9152-24C4524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8881-BEC8-4521-A130-FD6B6E01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31839-40D5-4371-87DA-CB04D1C1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C18C6-EAC9-4D99-B968-9B4CA591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28D69-58E3-415B-B360-3A73E79F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488C9-C46B-4009-9A80-D1A86417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4D79-8FBB-421D-90D2-39EAF94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0A6FA-00FE-4AA4-806B-9AA9AD78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3EFB0-CC1F-4594-B80A-1D9E3FB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23EFF-A796-4AE4-B7F2-5893AEBD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388-D6DB-4194-B09F-C2ED974D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D1C1-5D03-4546-8808-A3E86E04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08392-A7D4-4733-B882-FB6CCE8B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719D4-0D40-45F4-9C4D-4B9B87CC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E7C78-B0A7-4EF6-AEBE-FBFAE409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E679-D3DA-44E0-B5A0-4D53D1DF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02BD-E2AC-4850-8C99-3323AE1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B23BC-29C0-4F9C-B8FB-F73A5FCA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86984-7F26-43FF-A5D9-15BD18C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A1C0F-0B43-46D7-91A6-B0DFF46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65103-CD9E-4F15-BA72-54ABBB5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6E2-7346-4440-B763-06487D6C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205D-12D6-46A2-B6D0-6F5C2758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6FA41-A45F-49C5-A936-A2871C4F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F83DB-ABCA-4F16-A349-888E0D12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4E8BA-68F2-4D8A-A524-0FA00ED4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3C74-EAAC-446D-9735-A78F1FA5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8DBE5-9434-4987-8084-8D297D4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52D6F-181F-401C-B8BC-7ECD126A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180BB-641C-4E59-B3D9-8F66E8A7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34663-9B8A-40B6-A7E9-E965280D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4D375-0FF3-44D6-9A3E-CD60D8B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64D-805D-41BC-A8DB-5CF7E666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F3CA9-CDF7-4ED5-9AC2-DF547A12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D6AA6-C098-486C-A91E-3864210F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41286-6ECD-4ED3-94E1-16DE12AF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D46F7-C7FB-42EB-BB40-4065B99E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3F5D7-D710-4792-9877-293B4EF0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4886B-0050-4C7C-917F-72E550F8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19A40-2C60-4362-A022-E94F084E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91E7-CE3A-4839-995B-C0F32BF5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18BC-4942-4783-B790-5D9DA4B8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5143B-C5EA-4617-8BAF-B226FEE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559-D257-4C69-8A28-8CB2B9A1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147C6-0AB9-42A9-981E-972C21AE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2D982-12BE-4C07-A205-072FAF5D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FDD9B-123E-403C-B661-08B7304C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AFF8C-40F1-46B9-A3C8-7330D72B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5BC07-EE5C-40E3-B312-C29F766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CD24B-4869-4B78-9A0F-2F675639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0BB86-5C6E-4A28-8F56-BFEE16F0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950D-DEED-4E68-8FD7-5407A6C4EF5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FCE-035C-4734-866E-BAD698631B2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96B5-C932-420C-AE0E-F4B1A780559C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72D-E799-4A6A-A4ED-CF989201A2E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15D6-C2F6-4F94-8C23-2765A7FE6CD0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2CB-69DC-49F0-8E2A-D3A05DA108FE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AC98-CDD2-4378-8151-8BCDCBEFF026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D187-6BB3-4C01-BDD6-DAB811E1F3D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6"/>
          <p:cNvSpPr txBox="1"/>
          <p:nvPr/>
        </p:nvSpPr>
        <p:spPr>
          <a:xfrm>
            <a:off x="0" y="17002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 дается один ра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3" name="TextBox 4" descr=""/>
          <p:cNvPicPr/>
          <p:nvPr/>
        </p:nvPicPr>
        <p:blipFill>
          <a:blip r:embed="rId1"/>
          <a:stretch/>
        </p:blipFill>
        <p:spPr>
          <a:xfrm>
            <a:off x="579600" y="3486240"/>
            <a:ext cx="5072040" cy="16095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6000840" y="414324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хакян Земфиир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11 класс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28760" y="2428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ркотик – это любое химическое соединение, которое воздействует на функционирование организма. Злоупотребление наркотиками – это их употребление любым неприемлемым с медицинской и социальной точек зрения образом или приемлемым, но неправильны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WordArt 7"/>
          <p:cNvSpPr txBox="1"/>
          <p:nvPr/>
        </p:nvSpPr>
        <p:spPr>
          <a:xfrm>
            <a:off x="684360" y="189000"/>
            <a:ext cx="766764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такое наркотик?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ициальная статистика в отношении наркомании очень тревожна. В течение последних 6 лет распространенность наркомании среди подростков увеличилась в 10 раз, число больных подростков в Санкт-Петербурге в 1,8 раза выше, чем в России и в 2,6 раза выше, чем в Москве. Тенденция увеличения наркотических заболеваний заставляет все большее число родителей опасаться того, что тема наркотиков станет ужасной реальностью в их семье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WordArt 4"/>
          <p:cNvSpPr txBox="1"/>
          <p:nvPr/>
        </p:nvSpPr>
        <p:spPr>
          <a:xfrm>
            <a:off x="684360" y="260280"/>
            <a:ext cx="7941960" cy="19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ет-наркотикам"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0">
    <p:circle/>
    <p:sndAc>
      <p:stSnd>
        <p:snd r:embed="rId1" name="push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27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Cambria"/>
              </a:rPr>
              <a:t>О вреде наркотиков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819520" y="3276720"/>
            <a:ext cx="304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133720" y="2362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838080" y="4724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447920" y="57913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1523880" y="9144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7" name="Line 10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8" name="Line 11"/>
          <p:cNvSpPr/>
          <p:nvPr/>
        </p:nvSpPr>
        <p:spPr>
          <a:xfrm>
            <a:off x="42670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9" name="Line 12"/>
          <p:cNvSpPr/>
          <p:nvPr/>
        </p:nvSpPr>
        <p:spPr>
          <a:xfrm flipV="1">
            <a:off x="42670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0" name="Line 13"/>
          <p:cNvSpPr/>
          <p:nvPr/>
        </p:nvSpPr>
        <p:spPr>
          <a:xfrm>
            <a:off x="426708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конопл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2" name="Picture 4" descr="HM00250_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1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4572000" y="27082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grpSp>
        <p:nvGrpSpPr>
          <p:cNvPr id="376" name="Group 18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377" name="Line 7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0" name="Line 14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81" name="Line 16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384" name="Picture 20" descr="j0234673"/>
          <p:cNvPicPr/>
          <p:nvPr/>
        </p:nvPicPr>
        <p:blipFill>
          <a:blip r:embed="rId3"/>
          <a:stretch/>
        </p:blipFill>
        <p:spPr>
          <a:xfrm>
            <a:off x="5003640" y="36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1" descr="j0234734"/>
          <p:cNvPicPr/>
          <p:nvPr/>
        </p:nvPicPr>
        <p:blipFill>
          <a:blip r:embed="rId4"/>
          <a:stretch/>
        </p:blipFill>
        <p:spPr>
          <a:xfrm>
            <a:off x="2843280" y="54450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386" name="Line 22"/>
          <p:cNvSpPr/>
          <p:nvPr/>
        </p:nvSpPr>
        <p:spPr>
          <a:xfrm>
            <a:off x="558000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4788000" y="53928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tencil"/>
              </a:rPr>
              <a:t>Снижение памяти, интеллекта, нарушение внимания, мышле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8" name="Line 24"/>
          <p:cNvSpPr/>
          <p:nvPr/>
        </p:nvSpPr>
        <p:spPr>
          <a:xfrm>
            <a:off x="7885080" y="342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7236000" y="4437000"/>
            <a:ext cx="158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Организм магнит для всех болезней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опиатных наркотик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391" name="Group 17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392" name="Line 3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5" name="Line 6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6" name="Line 7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397" name="Line 8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398" name="Text Box 9"/>
          <p:cNvSpPr/>
          <p:nvPr/>
        </p:nvSpPr>
        <p:spPr>
          <a:xfrm>
            <a:off x="228600" y="373392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3505320" y="41148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1752480" y="30481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03" name="Picture 14" descr="HM00302_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5" descr="легкие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скелет3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8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3366"/>
                </a:solidFill>
                <a:latin typeface="Cambria"/>
              </a:rPr>
              <a:t>Употребление психостимуляторов</a:t>
            </a:r>
            <a:endParaRPr b="0" lang="en-US" sz="34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08" name="Group 13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409" name="Line 3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11" name="Line 5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12" name="Text Box 6"/>
          <p:cNvSpPr/>
          <p:nvPr/>
        </p:nvSpPr>
        <p:spPr>
          <a:xfrm>
            <a:off x="45720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19" name="Picture 14" descr="сердце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420" name="Line 15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1" name="Line 16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2" name="Line 17"/>
          <p:cNvSpPr/>
          <p:nvPr/>
        </p:nvSpPr>
        <p:spPr>
          <a:xfrm>
            <a:off x="6934320" y="41911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3" name="Line 18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Cambria"/>
              </a:rPr>
              <a:t>Употребление галлюциногенов</a:t>
            </a:r>
            <a:endParaRPr b="0" lang="en-US" sz="36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426" name="Line 3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7" name="Line 4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28" name="Line 5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29" name="Text Box 6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6" name="Line 14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38" name="Picture 16" descr="голмозг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7" descr="печень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ambria"/>
              </a:rPr>
              <a:t>Употребление ЛНДВ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grpSp>
        <p:nvGrpSpPr>
          <p:cNvPr id="441" name="Group 16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442" name="Line 3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3" name="Line 4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4" name="Line 5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  <p:sp>
          <p:nvSpPr>
            <p:cNvPr id="445" name="Line 6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Stencil"/>
              </a:endParaRPr>
            </a:p>
          </p:txBody>
        </p:sp>
      </p:grpSp>
      <p:sp>
        <p:nvSpPr>
          <p:cNvPr id="446" name="Text Box 7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0" y="3962520"/>
            <a:ext cx="213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1" name="Text Box 12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5" name="Line 17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6" name="Line 18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7" name="Line 19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8" name="Line 20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59" name="Line 21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</p:txBody>
      </p:sp>
      <p:pic>
        <p:nvPicPr>
          <p:cNvPr id="460" name="Picture 22" descr="пневмония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3" descr="голмозг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печень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FuckYouBill</cp:lastModifiedBy>
  <dcterms:modified xsi:type="dcterms:W3CDTF">2010-01-25T15:40:25Z</dcterms:modified>
  <cp:revision>24</cp:revision>
  <dc:subject/>
  <dc:title>Жизнь дается один раз</dc:title>
</cp:coreProperties>
</file>