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push.wav" ContentType="audio/x-wav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1C3-EF9F-43CC-8DFD-C2C8E680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16E-BB67-45FF-B3A0-EAC579C1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F14-E1F9-4375-A9C7-1478EBDE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EBB-92C5-4906-81E5-3C81D87A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E2D9-5934-4AAA-902E-2573E93A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0B9-C95B-415E-BB2E-9F43C9E7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73F9-96E6-4900-822F-F4643CAF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F153-F31F-4738-82E6-F25AF0F4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F02C-B851-4D68-9BB3-71E67456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BE0E-3070-4D22-BF0E-78972BB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AC73-5A26-494B-AEF3-DE6C791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FDB-83DD-4655-B67C-8F45E9CF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8D42-BB87-4444-B005-01B618E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292C-7B85-4309-8D56-85084EF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8AD0-7AC1-440D-96F9-962356E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82E8-59EB-46F0-BC3A-3B747066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459A-DE7D-4346-8C0E-8174011F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3047-1BE7-49AF-AAB9-B9B51491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8BBA-D9E0-47C4-AF02-445ADACB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3810-FE0B-44ED-B730-1A939A5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E1C9-E5A1-4157-8394-93585039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3156-EF3D-4567-88B8-82AB6EE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804-69C7-4CD1-8519-BA7FC23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C8E7-31AA-427B-93E8-614B126E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41D8-4388-4E74-8387-6903D828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17C1-10B3-4F8D-A3CF-E83A1F9E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B6EF-AFCF-4804-B538-04048557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0694-3ED0-4EFC-AAD1-6686459A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A226-C39A-4E05-916E-C8D3A88D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665B0-7878-4D73-B118-2541C58A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525A-7078-4A88-8D14-54BB965F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4F8A-09A5-4808-A26E-2257BB23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ED3D-1959-4C51-BE03-641C06F9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E48-A9E9-44B8-947A-A268329F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7472-01A6-491E-BE56-F747051F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5264-ADA7-4370-8BE4-D33EC1B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C60B-A2B1-47D8-9EE5-5293578E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97F2-0433-4897-BB84-E9AEE56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C7D6-0849-42FE-985E-F3691A6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85C83-69EC-462F-9E69-2E7FB01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A4E3-CCDF-4E4C-BFAF-48D30E04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A00B-D923-4D31-9639-2FCB5F79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3415-4B78-4DA9-9D0F-347D4304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D624-F159-4B0F-809C-0F10EFA6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B89-6259-4B57-826C-BC79F90E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B536-3CF3-4BAA-9A5B-38A76271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F2CA-EDEB-4BD2-99FE-D5F776DE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80A5-0A86-4037-B3F0-E9C731CC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F9D7-C788-43AB-B00B-3150075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906E3-CD4D-4035-8A0C-E175FBD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E986A-B55B-4918-8708-229CD49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20C3-4A72-4297-A30B-758F0EEF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0DA7-6A93-4FB7-8A64-3C6CC0A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70705-87A9-45FB-A898-01250EB0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A4236-D02D-45C8-92FC-E7CF9449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5FF-8F97-4B4B-B142-C35C6FCA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FC7FC-D97D-41B3-86FB-74B5B05C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AFC6-D9F0-42F5-916C-13C61EB4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9D788-4C51-4CF1-8F91-78C6C0EB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49CC-8417-4324-A2B4-1334815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9B6C-6D0E-46C2-8458-7D1E5884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C5B7-1BAE-47CB-9008-7B350BB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4FB0-1BBB-4BB0-961D-409A6B8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EFA5-A71D-42F4-9FAF-65EEDE11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DEA34-ACCC-4857-A133-118B866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CD914-B44D-4961-B590-574BE79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AC6-AD98-4718-A172-5637B57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5A379-D838-4EA5-AB5C-B2681C0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1C83-756A-4766-8CC3-8E758471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BB22-9209-4B35-B031-67FF313E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9040F-7791-49C6-88C5-23CC0E70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6C0FC-FC31-4520-83CC-C029F1A9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0F569-A98F-4F22-8AA4-7B094A66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80F2B-59DD-4973-8109-77FAE7A2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A9D2-7807-4070-9BF5-0D8914C2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142C-3C54-4226-8F32-E98A477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C0CE-24F0-4A56-9D3F-E66B54F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AD2-541A-4BC3-B2D1-D219BF7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088FD-B967-4CA4-B411-F20C764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B498-C8B9-4498-8351-E87FD41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54A6A-0EC2-4F93-ACE8-0EC97AAB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CD12-3401-4328-8070-5F884F38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9C9BD-0C8B-4330-A4B1-E78E9876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0CAD-2E3F-4EED-8EBA-8D15CF0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1EB28-4B74-4AB9-99ED-B52190D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2549-B946-49E2-AD3B-31AD1DF0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65F2-B7FF-4D43-A97D-B3547CED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FB9F-0FB8-44BC-BED2-91148510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601-EDD0-4E6C-94FC-78406642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130B7-6253-42E4-941A-6F6E5573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6278F-E1AE-4F2C-AFF5-99C3E0F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9C13C-0002-4A84-9D7E-D432DE9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97F3-07FC-4B66-A3F1-A1932F9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5D8C6-2DA7-4CD8-897E-EE5B1463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EA08C-B951-4A45-9D96-DCCEC16E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CD00-38CB-4A0E-8950-9BC345C4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85E-C925-407E-AA53-D7E3CFB0B88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018-5BD5-41C6-B3A6-888F7A92E8D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E86-70ED-4420-B5F2-4EE4F676BFA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3F7-B59C-48DB-98D5-234D295AB46D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5FF1-F6F2-46FD-9A09-244150CC4A2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4D6-85D2-49A5-A813-69FD6AB3016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01B-6EB0-44F4-95F8-4E6CA4AB46F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B95-4B77-4BEE-ABF9-517BB8E8E6A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6"/>
          <p:cNvSpPr txBox="1"/>
          <p:nvPr/>
        </p:nvSpPr>
        <p:spPr>
          <a:xfrm>
            <a:off x="0" y="17002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 дается один ра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3" name="TextBox 4" descr=""/>
          <p:cNvPicPr/>
          <p:nvPr/>
        </p:nvPicPr>
        <p:blipFill>
          <a:blip r:embed="rId1"/>
          <a:stretch/>
        </p:blipFill>
        <p:spPr>
          <a:xfrm>
            <a:off x="579600" y="3486240"/>
            <a:ext cx="5072040" cy="1609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6000840" y="414324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хакян Земфиир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2428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котик – это любое химическое соединение, которое воздействует на функционирование организма. Злоупотребление наркотиками – это их употребление любым неприемлемым с медицинской и социальной точек зрения образом или приемлемым, но неправильн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WordArt 7"/>
          <p:cNvSpPr txBox="1"/>
          <p:nvPr/>
        </p:nvSpPr>
        <p:spPr>
          <a:xfrm>
            <a:off x="684360" y="189000"/>
            <a:ext cx="766764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наркотик?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ая статистика в отношении наркомании очень тревожна. В течение последних 6 лет распространенность наркомании среди подростков увеличилась в 10 раз, число больных подростков в Санкт-Петербурге в 1,8 раза выше, чем в России и в 2,6 раза выше, чем в Москве. Тенденция увеличения наркотических заболеваний заставляет все большее число родителей опасаться того, что тема наркотиков станет ужасной реальностью в их семье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684360" y="260280"/>
            <a:ext cx="794196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ет-наркотикам"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0">
    <p:circle/>
    <p:sndAc>
      <p:stSnd>
        <p:snd r:embed="rId1" name="pu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27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mbria"/>
              </a:rPr>
              <a:t>О вреде наркотиков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819520" y="3276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133720" y="2362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838080" y="4724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447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1523880" y="914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7" name="Line 10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8" name="Line 11"/>
          <p:cNvSpPr/>
          <p:nvPr/>
        </p:nvSpPr>
        <p:spPr>
          <a:xfrm>
            <a:off x="42670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9" name="Line 12"/>
          <p:cNvSpPr/>
          <p:nvPr/>
        </p:nvSpPr>
        <p:spPr>
          <a:xfrm flipV="1">
            <a:off x="4267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42670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конопл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Picture 4" descr="HM00250_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4572000" y="270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376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377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0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1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384" name="Picture 20" descr="j0234673"/>
          <p:cNvPicPr/>
          <p:nvPr/>
        </p:nvPicPr>
        <p:blipFill>
          <a:blip r:embed="rId3"/>
          <a:stretch/>
        </p:blipFill>
        <p:spPr>
          <a:xfrm>
            <a:off x="5003640" y="36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1" descr="j0234734"/>
          <p:cNvPicPr/>
          <p:nvPr/>
        </p:nvPicPr>
        <p:blipFill>
          <a:blip r:embed="rId4"/>
          <a:stretch/>
        </p:blipFill>
        <p:spPr>
          <a:xfrm>
            <a:off x="2843280" y="5445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386" name="Line 22"/>
          <p:cNvSpPr/>
          <p:nvPr/>
        </p:nvSpPr>
        <p:spPr>
          <a:xfrm>
            <a:off x="558000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4788000" y="53928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tencil"/>
              </a:rPr>
              <a:t>Снижение памяти, интеллекта, нарушение внимания, мышле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7885080" y="342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7236000" y="4437000"/>
            <a:ext cx="15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Организм магнит для всех болезней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опиатных наркотик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392" name="Line 3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98" name="Text Box 9"/>
          <p:cNvSpPr/>
          <p:nvPr/>
        </p:nvSpPr>
        <p:spPr>
          <a:xfrm>
            <a:off x="228600" y="3733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350532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1752480" y="30481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03" name="Picture 14" descr="HM00302_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легки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скелет3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8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Cambria"/>
              </a:rPr>
              <a:t>Употребление психостимуляторов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08" name="Group 13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409" name="Line 3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1" name="Line 5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19" name="Picture 14" descr="сердце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420" name="Line 15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1" name="Line 16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6934320" y="4191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галлюциноген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426" name="Line 3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29" name="Text Box 6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38" name="Picture 16" descr="голмозг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7" descr="печень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ЛНД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41" name="Group 16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442" name="Line 3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3" name="Line 4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4" name="Line 5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5" name="Line 6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60" name="Picture 22" descr="пневмония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3" descr="голмозг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печень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FuckYouBill</cp:lastModifiedBy>
  <dcterms:modified xsi:type="dcterms:W3CDTF">2010-01-25T15:40:25Z</dcterms:modified>
  <cp:revision>24</cp:revision>
  <dc:subject/>
  <dc:title>Жизнь дается один раз</dc:title>
</cp:coreProperties>
</file>