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6.jpeg" ContentType="image/jpeg"/>
  <Override PartName="/ppt/media/image26.jpeg" ContentType="image/jpeg"/>
  <Override PartName="/ppt/media/image18.wmf" ContentType="image/x-wmf"/>
  <Override PartName="/ppt/media/image7.gif" ContentType="image/gif"/>
  <Override PartName="/ppt/media/image20.wmf" ContentType="image/x-wmf"/>
  <Override PartName="/ppt/media/image9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2.gif" ContentType="image/gif"/>
  <Override PartName="/ppt/media/image8.jpeg" ContentType="image/jpeg"/>
  <Override PartName="/ppt/media/image13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12.jpeg" ContentType="image/jpeg"/>
  <Override PartName="/ppt/media/image1.jpeg" ContentType="image/jpeg"/>
  <Override PartName="/ppt/media/image22.jpeg" ContentType="image/jpeg"/>
  <Override PartName="/ppt/media/image10.wmf" ContentType="image/x-wmf"/>
  <Override PartName="/ppt/media/image14.gif" ContentType="image/gif"/>
  <Override PartName="/ppt/media/image15.jpeg" ContentType="image/jpeg"/>
  <Override PartName="/ppt/media/image16.jpeg" ContentType="image/jpeg"/>
  <Override PartName="/ppt/media/image19.wmf" ContentType="image/x-wmf"/>
  <Override PartName="/ppt/media/image21.jpeg" ContentType="image/jpeg"/>
  <Override PartName="/ppt/media/image23.jpeg" ContentType="image/jpeg"/>
  <Override PartName="/ppt/media/image2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D866-67AB-44C2-B082-B3F642AD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82AA-45F3-4381-9B63-75BFAD68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F6B6-A8C8-4C7E-B179-5FBBAEBC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3E59-5CB2-483B-B495-171F7318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4752-338D-4327-A22F-CF9BFF01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55AC-C93B-41A5-80DF-060CE240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40BC-7C55-4A8A-9020-6D9C83BD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659D-B874-4D1B-8716-FFBA33D4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1183-8660-4579-ACD1-5C9E8DF3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02E0-BED4-438F-8B38-471F1746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90DE-B6BE-42DD-AD7A-E1E8C908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2DA-5A74-437A-9AE3-D9D85217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6B93-DFDB-4CDE-A776-15312BBD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B369-C73B-48A9-AEC5-79086BC6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67DF-BAC5-4040-8BB2-FCAFAEBC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883E-8503-4AEA-BE72-960FF4D4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0DC1-54E9-4CE3-A2B7-05A03FC4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C1E4-8A53-4B7C-ACBC-D1DF530A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411B-FB58-4E73-8BD6-84327AC7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FCEB-B5E3-4A48-8E28-B9157DF2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703E-88AB-45F5-ACA9-C9F38497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7384-D1BA-4A7C-8EAD-DA5A944B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0B5A-8570-4605-9DD4-D59227EA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5686-7E84-40DA-BF83-B2C92396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0401-74DB-4B06-A462-7A236A83FF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160C-C1B5-4821-840E-E3B24A26F9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1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slide36.xml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df711"/>
                </a:solidFill>
                <a:uFillTx/>
                <a:latin typeface="Arial Black"/>
              </a:rPr>
              <a:t>К чему приводят вредные привычки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843280" y="3284640"/>
            <a:ext cx="3743280" cy="2981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вопрос №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к в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носитесь 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урению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932360" y="2133720"/>
          <a:ext cx="392760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133720"/>
                    <a:ext cx="39276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Алкоголизм. Что это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560" y="4076640"/>
            <a:ext cx="800748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лкоголиз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хроническое (неизлечимое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грессирующее, смертельн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болевание, затрагивающе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разрушающее все сферы человечес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изни - тело, психику, душу и социальну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изнь человека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3671640" cy="201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df711"/>
                </a:solidFill>
                <a:uFillTx/>
                <a:latin typeface="Arial Black"/>
              </a:rPr>
              <a:t>Синонимы пьянства, употребляемые в быту: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ьянств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ытовой алкоголиз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вычное пьянство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ытовое пьянство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нняя алкоголизац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320840" y="2104920"/>
            <a:ext cx="2965320" cy="3791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Также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5267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фоне алкоголизма тяжелее протекают различные заболевания, особенно хронические (туберкулез, сифилис и др.), инфекционно-аллергические (бронхиальная астма, ревматизм) и сердечно-сосудистые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3273480" cy="2462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df711"/>
                </a:solidFill>
                <a:uFillTx/>
                <a:latin typeface="Arial Black"/>
              </a:rPr>
              <a:t>На употребление алкоголя влияют 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5338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кономические услов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итейные обыча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правильное воспит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ремление подражать старши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урные приме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натомо-физиологические особенности детского и юношеского организ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156360" y="2637000"/>
            <a:ext cx="2716200" cy="2716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Очень рано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 ранней алкоголизации относится знакомство с опьяняющими дозами алкоголя в возрасте до 16 лет.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df711"/>
                </a:solidFill>
                <a:uFillTx/>
                <a:latin typeface="Arial Black"/>
              </a:rPr>
              <a:t>Социальные предпосылки развития алкоголизма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1915920"/>
            <a:ext cx="784692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потребление химических веществ (алкоголь, табак) - традиционно и легально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полная семья, нездоровая атмосфера в семье (даже в полной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астые переезды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висимость в семь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оступность вещест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д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клам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сутствие четких жизненных ориентиров, разорванные поко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т позитивного взрослого - здоровой модели пове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df711"/>
                </a:solidFill>
                <a:uFillTx/>
                <a:latin typeface="Arial Black"/>
              </a:rPr>
              <a:t>Социальные проявления алкоголизма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77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е круга общ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щество отвергает алкоголиков и боится и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интересность и ненужность обществ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ношения "ты мне - я тебе", манипуляции, обман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теря социальных навы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кружающий мир воспринимается враждебн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теря друзей, довер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рушение отношений в семь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теря работы, учебы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оляц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ступ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Духовные последствия алкоголизм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оразруш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ысли или попытки суицид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теря интереса к жизн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гоцентриз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нев на Бог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теря нравственных ценностей, деградация личност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оуничижен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df711"/>
                </a:solidFill>
                <a:uFillTx/>
                <a:latin typeface="Arial Black"/>
              </a:rPr>
              <a:t>Опьянение – это…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4897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о, что мы в быту благодушно называем опьянением, в сущности есть не что иное, как острое отравление алкогол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807160" y="2203560"/>
            <a:ext cx="2984400" cy="2085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Какие они бывают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Курени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Алкоголиз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Наркомания</a:t>
            </a:r>
            <a:r>
              <a:rPr b="0" lang="en-US" sz="28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Заключ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5292720" y="184464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Найди в себе мужество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5977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до найти в себе мужество противостоять тем, кто пытается склонить тебя к употреблению спиртного. Избегай вечеринок, собирающихся с целью выпить, и людей, не представляющих себе веселье без выпив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516720" y="1916280"/>
            <a:ext cx="228276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вопрос №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4392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 скольк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ет 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рвый р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пробова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пиртно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917960" y="2276640"/>
          <a:ext cx="3927600" cy="33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7960" y="2276640"/>
                    <a:ext cx="392760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вопрос №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191592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потребля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ы спирт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питк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917960" y="2276640"/>
          <a:ext cx="3927600" cy="28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7960" y="2276640"/>
                    <a:ext cx="3927600" cy="28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вопрос №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к в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носитесь 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лкоголю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917960" y="2276640"/>
          <a:ext cx="392760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7960" y="2276640"/>
                    <a:ext cx="392760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Наркотик – это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775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аркотик – э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любое химическ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оединение, котор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оздействует 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функцио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рганизм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940360" y="2205000"/>
            <a:ext cx="2976480" cy="2211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Удовольстви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5399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на из главных причи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чему люди употребляю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котики, - э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путствующие прият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щущения, от хороше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очувствия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лаксации д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истической эйфо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300720" y="2349360"/>
            <a:ext cx="2371680" cy="3032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Уход от физического стрес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246560" y="1773360"/>
            <a:ext cx="4897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ольшинству люд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дается справляться 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иболее стрессовы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туациями их жизни, 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которые пытаю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йти убежище в фор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котичес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висим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2941560" cy="3221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df711"/>
                </a:solidFill>
                <a:uFillTx/>
                <a:latin typeface="Arial Black"/>
              </a:rPr>
              <a:t>Психоактивные наркотик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71280" y="1817280"/>
            <a:ext cx="4978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сихоактивные наркот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разделяют на четы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лавные группы 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ответствии с 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здействием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Депрессанты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Стимуляторы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Галлюциноген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Марихуа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651640" y="2060640"/>
            <a:ext cx="3111480" cy="2489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0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3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6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9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df711"/>
                </a:solidFill>
                <a:uFillTx/>
                <a:latin typeface="Arial Black"/>
              </a:rPr>
              <a:t>Наркотики и здоровье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00000" y="1915920"/>
            <a:ext cx="540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известно, перв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лом нарко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ражается 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доровье. Главн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болева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команов, явля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болезнь гряз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прицов» 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СПИД.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156360" y="2205000"/>
            <a:ext cx="1873080" cy="2776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Кроме того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4005360"/>
            <a:ext cx="822960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ин грамм героина стоит сегодня   300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0 долларов. А ведь это дневная до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комана. Где он может добыть 9 тыся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ларов в месяц?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348000" y="1916280"/>
            <a:ext cx="2662200" cy="1806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Курени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63280" y="1700280"/>
            <a:ext cx="82803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урение табака - одна из самых распространенных вредных привычек, приводящая иногда к серьезным нарушениям здоровья. Это настоящая наркомания, и тем более опасная, что многие не принимают ее всерьез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00400" y="4724280"/>
            <a:ext cx="301140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вопрос №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680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 скольк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е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рвый р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пробова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ркот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траву)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076720" y="1916280"/>
          <a:ext cx="3927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916280"/>
                    <a:ext cx="3927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вопрос №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482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потребляе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ы сейча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ркот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траву)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003640" y="1989000"/>
          <a:ext cx="3927600" cy="27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989000"/>
                    <a:ext cx="3927600" cy="27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вопрос №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к в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носитесь 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ркотикам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932360" y="2060640"/>
          <a:ext cx="392760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060640"/>
                    <a:ext cx="392760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Заключени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5472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ое употребление наркотиков, а к ним относится и курение, и алкоголь, и сами наркотики быстро разрушает организм. Так как злоупотребляют этими вредными, можно сказать, смертельными веществами, в большей части подростки и люди, не имеющие еще семей, то можно сказать: будущего у них нет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372360" y="2133720"/>
            <a:ext cx="2481120" cy="2268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полни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цы 11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У гимназии № 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лконян Эмма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умаченко Дар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df711"/>
                </a:solidFill>
                <a:uFillTx/>
                <a:latin typeface="Arial Black"/>
              </a:rPr>
              <a:t>Воздействие курения на школьник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349992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ражая старшим, молодые люди приобщаются к курению, а со временем и сами становятся источником подражания для друг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урильщики, как правило, не могут сформулировать точно, почему они потянулись к сигарете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76720" y="1916280"/>
            <a:ext cx="2735280" cy="1798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df711"/>
                </a:solidFill>
                <a:uFillTx/>
                <a:latin typeface="Arial Black"/>
              </a:rPr>
              <a:t>Курение в </a:t>
            </a:r>
            <a:br>
              <a:rPr sz="4800"/>
            </a:br>
            <a:r>
              <a:rPr b="1" lang="en-US" sz="4800" spc="-1" strike="noStrike" u="sng">
                <a:solidFill>
                  <a:srgbClr val="fdf711"/>
                </a:solidFill>
                <a:uFillTx/>
                <a:latin typeface="Arial Black"/>
              </a:rPr>
              <a:t>школьные годы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7440" y="1930320"/>
            <a:ext cx="4846680" cy="41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урение и школьник несовместимы. Организму нужно много сил, чтобы справиться со всеми нагрузками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24144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Раз и навсегда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343240" y="2457360"/>
            <a:ext cx="917640" cy="912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росить курить нужно раз и навсегда! Это единственно разумный путь. Это решение курящего должно поддерживаться окружающими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32000" y="198900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df711"/>
                </a:solidFill>
                <a:uFillTx/>
                <a:latin typeface="Arial Black"/>
              </a:rPr>
              <a:t>Если всё же удалось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489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Вместе с хорошим аппетитом приходит спокойный, глубокий сон, изменяется внешний вид человека, выравнивается настроение, повышается работоспособность. Нормализуются все функции организма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2805120" cy="439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 вопрос №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4681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 сколько лет первый раз я попробовал(а) курить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216400" y="1916280"/>
          <a:ext cx="3927600" cy="37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6400" y="1916280"/>
                    <a:ext cx="3927600" cy="37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f711"/>
                </a:solidFill>
                <a:uFillTx/>
                <a:latin typeface="Arial Black"/>
              </a:rPr>
              <a:t>Социологический опрос вопрос №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ури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и вы сейчас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917960" y="2276640"/>
          <a:ext cx="3927600" cy="31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7960" y="2276640"/>
                    <a:ext cx="3927600" cy="31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08:34:12Z</dcterms:created>
  <dc:creator/>
  <dc:description/>
  <dc:language>en-US</dc:language>
  <cp:lastModifiedBy>Светлана</cp:lastModifiedBy>
  <dcterms:modified xsi:type="dcterms:W3CDTF">2010-02-25T11:18:38Z</dcterms:modified>
  <cp:revision>23</cp:revision>
  <dc:subject/>
  <dc:title>Вредные привычки</dc:title>
</cp:coreProperties>
</file>