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6.jpeg" ContentType="image/jpeg"/>
  <Override PartName="/ppt/media/image26.jpeg" ContentType="image/jpeg"/>
  <Override PartName="/ppt/media/image18.wmf" ContentType="image/x-wmf"/>
  <Override PartName="/ppt/media/image7.gif" ContentType="image/gif"/>
  <Override PartName="/ppt/media/image20.wmf" ContentType="image/x-wmf"/>
  <Override PartName="/ppt/media/image9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2.gif" ContentType="image/gif"/>
  <Override PartName="/ppt/media/image8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1.jpeg" ContentType="image/jpeg"/>
  <Override PartName="/ppt/media/image22.jpeg" ContentType="image/jpeg"/>
  <Override PartName="/ppt/media/image10.wmf" ContentType="image/x-wmf"/>
  <Override PartName="/ppt/media/image14.gif" ContentType="image/gif"/>
  <Override PartName="/ppt/media/image15.jpeg" ContentType="image/jpeg"/>
  <Override PartName="/ppt/media/image16.jpeg" ContentType="image/jpeg"/>
  <Override PartName="/ppt/media/image19.wmf" ContentType="image/x-wmf"/>
  <Override PartName="/ppt/media/image21.jpeg" ContentType="image/jpeg"/>
  <Override PartName="/ppt/media/image23.jpeg" ContentType="image/jpeg"/>
  <Override PartName="/ppt/media/image2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376-2B59-4A05-9183-56249B57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614-979E-42D5-B948-9EAD60C2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5AE-26BD-4B75-A12C-EF86398F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B4E-BD47-4031-83F3-6B735DE7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B8FE-D477-42C0-B8E0-160A8E4B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4202-9EFB-45FD-A667-17DDAD82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AEB8-59B5-4BE8-94EC-D0A12AF8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3728-112E-493A-A302-A7C40D29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BDFE-2B74-4EAD-9B93-6E60F9D0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7C3F-4E0C-4159-871A-890491A6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37A1-B496-4BF4-B8A9-00C5C3BD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07D-D976-4337-B338-176AB96C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4ECC-64F3-409E-A613-B4BA9BD3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C86A-86C0-4AA0-9C3B-181A00C4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B642-736A-4AA0-9307-2986693D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D3BA-EEF0-416A-A55E-DB94161A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E26A-656B-4663-9448-8157EFD4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B3C-85A6-4644-A5BF-9A77A164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7E3-6D41-4632-A453-A1463DEB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F1F-9A8B-4D33-9190-3C5A6511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926-F103-4F72-8999-D9891B78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B95-B3C4-44A6-AFB5-DF655A81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7E89-6E3D-4CBF-AEA3-4EC8DB16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AE31-BFED-4113-89D9-4029C086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75DF-87E5-44EB-82B0-B7A2C1962E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6DA2-0373-4AC0-AE79-5DF272EA54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36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df711"/>
                </a:solidFill>
                <a:uFillTx/>
                <a:latin typeface="Arial Black"/>
              </a:rPr>
              <a:t>К чему приводят вредные привычки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743280" cy="2981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носитесь 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урению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932360" y="2133720"/>
          <a:ext cx="39276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33720"/>
                    <a:ext cx="3927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Алкоголизм. Что это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4076640"/>
            <a:ext cx="800748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коголиз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хроническое (неизлечимое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грессирующее, смертель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болевание, затрагивающе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разрушающее все сферы челове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зни - тело, психику, душу и социальн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знь человек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67164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df711"/>
                </a:solidFill>
                <a:uFillTx/>
                <a:latin typeface="Arial Black"/>
              </a:rPr>
              <a:t>Синонимы пьянства, употребляемые в быту: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ьян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товой алкоголиз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вычное пьянство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товое пьянство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нняя алкоголизац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20840" y="2104920"/>
            <a:ext cx="2965320" cy="3791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Также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5267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фоне алкоголизма тяжелее протекают различные заболевания, особенно хронические (туберкулез, сифилис и др.), инфекционно-аллергические (бронхиальная астма, ревматизм) и сердечно-сосудисты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3273480" cy="2462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df711"/>
                </a:solidFill>
                <a:uFillTx/>
                <a:latin typeface="Arial Black"/>
              </a:rPr>
              <a:t>На употребление алкоголя влияют 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5338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кономические услов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тейные обыча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правильное воспит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емление подражать старш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урные приме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атомо-физиологические особенности детского и юношеского организ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2716200" cy="271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Очень рано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 ранней алкоголизации относится знакомство с опьяняющими дозами алкоголя в возрасте до 16 лет.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df711"/>
                </a:solidFill>
                <a:uFillTx/>
                <a:latin typeface="Arial Black"/>
              </a:rPr>
              <a:t>Социальные предпосылки развития алкоголизм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84692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отребление химических веществ (алкоголь, табак) - традиционно и легально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полная семья, нездоровая атмосфера в семье (даже в полно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астые переезд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исимость в семь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ступность вещест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д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ла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сутствие четких жизненных ориентиров, разорванные поко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т позитивного взрослого - здоровой модели п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df711"/>
                </a:solidFill>
                <a:uFillTx/>
                <a:latin typeface="Arial Black"/>
              </a:rPr>
              <a:t>Социальные проявления алкоголизм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руга об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ество отвергает алкоголиков и боится 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интересность и ненужность обществ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ношения "ты мне - я тебе", манипуляции, обман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еря социальных навы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кружающий мир воспринимается враждеб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еря друзей, довер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рушение отношений в семь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еря работы, учеб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оляц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ступ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Духовные последствия алкоголизм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разруш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сли или попытки суицид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еря интереса к жиз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гоцентриз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нев на Бог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еря нравственных ценностей, деградация личност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уничиже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Опьянение – это…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489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, что мы в быту благодушно называем опьянением, в сущности есть не что иное, как острое отравление алкогол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807160" y="2203560"/>
            <a:ext cx="2984400" cy="2085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Какие они бывают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Курен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Алкоголиз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Наркомания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Заклю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292720" y="184464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Найди в себе мужеств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5977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до найти в себе мужество противостоять тем, кто пытается склонить тебя к употреблению спиртного. Избегай вечеринок, собирающихся с целью выпить, и людей, не представляющих себе веселье без выпи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516720" y="1916280"/>
            <a:ext cx="228276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4392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 скольк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т 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вый р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пробов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пиртно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917960" y="2276640"/>
          <a:ext cx="392760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2276640"/>
                    <a:ext cx="392760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отребля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 спирт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питк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917960" y="2276640"/>
          <a:ext cx="3927600" cy="28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2276640"/>
                    <a:ext cx="3927600" cy="28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носитесь 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лкоголю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917960" y="2276640"/>
          <a:ext cx="392760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2276640"/>
                    <a:ext cx="39276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Наркотик – это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775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ркотик – э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любое химическ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единение, котор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здействует 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ункцио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рганизм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940360" y="2205000"/>
            <a:ext cx="2976480" cy="2211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Удовольств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5399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а из главных прич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люди употребля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тики, - э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путствующие прия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щущения, от хорош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чувствия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лаксации 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истической эйфо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2349360"/>
            <a:ext cx="2371680" cy="3032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Уход от физического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246560" y="1773360"/>
            <a:ext cx="4897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льшинству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ается справляться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иболее стрессов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туациями их жизни, 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которые пыт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йти убежище в фор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тичес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висим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294156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Психоактивные наркоти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71280" y="1817280"/>
            <a:ext cx="497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сихоактивные нарко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разделяют на четы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лавные группы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ответствии с 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действие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Депрессант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Стимулятор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Галлюциноген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Марихуа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111480" cy="2489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0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6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9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Наркотики и здоровье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540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известно, перв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лом нарко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ражается 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оровье. Глав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болева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манов, явля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болезнь гряз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прицов» 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СПИД.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56360" y="2205000"/>
            <a:ext cx="1873080" cy="2776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Кроме того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4005360"/>
            <a:ext cx="822960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ин грамм героина стоит сегодня   300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долларов. А ведь это дневная д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мана. Где он может добыть 9 тыся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ларов в месяц?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2662200" cy="1806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Куре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82803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рение табака - одна из самых распространенных вредных привычек, приводящая иногда к серьезным нарушениям здоровья. Это настоящая наркомания, и тем более опасная, что многие не принимают ее всерье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301140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680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 скольк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вый р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пробов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ркот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траву)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076720" y="1916280"/>
          <a:ext cx="3927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16280"/>
                    <a:ext cx="3927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482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отребля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 сейча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траву)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003640" y="1989000"/>
          <a:ext cx="392760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989000"/>
                    <a:ext cx="392760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носитесь 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ркотикам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932360" y="2060640"/>
          <a:ext cx="39276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060640"/>
                    <a:ext cx="39276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Заключе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5472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ое употребление наркотиков, а к ним относится и курение, и алкоголь, и сами наркотики быстро разрушает организм. Так как злоупотребляют этими вредными, можно сказать, смертельными веществами, в большей части подростки и люди, не имеющие еще семей, то можно сказать: будущего у них нет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372360" y="2133720"/>
            <a:ext cx="248112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олн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цы 11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У гимназии №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лконян Эмма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умаченко Дар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Воздействие курения на школьник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34999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ражая старшим, молодые люди приобщаются к курению, а со временем и сами становятся источником подражания для друг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рильщики, как правило, не могут сформулировать точно, почему они потянулись к сигарете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7352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Курение в </a:t>
            </a:r>
            <a:br>
              <a:rPr sz="4800"/>
            </a:b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школьные годы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7440" y="1930320"/>
            <a:ext cx="4846680" cy="41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урение и школьник несовместимы. Организму нужно много сил, чтобы справиться со всеми нагрузками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4144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Раз и навсегд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43240" y="2457360"/>
            <a:ext cx="917640" cy="912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росить курить нужно раз и навсегда! Это единственно разумный путь. Это решение курящего должно поддерживаться окружающим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32000" y="1989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Если всё же удалось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489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месте с хорошим аппетитом приходит спокойный, глубокий сон, изменяется внешний вид человека, выравнивается настроение, повышается работоспособность. Нормализуются все функции организма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805120" cy="43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 вопрос №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4681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 сколько лет первый раз я попробовал(а) кури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216400" y="1916280"/>
          <a:ext cx="3927600" cy="37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6400" y="1916280"/>
                    <a:ext cx="392760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ури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 вы сейчас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17960" y="2276640"/>
          <a:ext cx="3927600" cy="31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2276640"/>
                    <a:ext cx="392760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8:34:12Z</dcterms:created>
  <dc:creator/>
  <dc:description/>
  <dc:language>en-US</dc:language>
  <cp:lastModifiedBy>Светлана</cp:lastModifiedBy>
  <dcterms:modified xsi:type="dcterms:W3CDTF">2010-02-25T11:18:38Z</dcterms:modified>
  <cp:revision>23</cp:revision>
  <dc:subject/>
  <dc:title>Вредные привычки</dc:title>
</cp:coreProperties>
</file>