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4543A-1227-491F-8E8C-97BF444C0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AD9BB-D7C0-4FCE-83AD-363031A9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EC95F-8AB7-4624-95F6-6EA176E8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60C68-9904-4A08-A074-A0237E734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6CEC1-F258-42F8-84E4-4EE25F55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4B9D3-1D94-44DD-A76E-D57504C7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580DA-B802-4432-A2DC-8769260C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7132B-194F-4341-911C-4897F238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4FC2A-F64D-4E83-9DC5-2BAC95F8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6F2F7-2A8B-48EA-9C19-FF9088B4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8CAB1-F6A2-46E4-B837-D3FE1164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771AE-85FE-41BE-9900-983D1ABF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D3637-BB22-4B9B-8483-39087027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46D8B-C7E0-4251-8288-0F0F948F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55D35-4CE2-43D2-8E1A-607BD295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8101A-BDE0-4888-9F0F-FB3CA4F2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DBD29-5F3E-4280-BAB3-861F5DBB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3C786-F14E-4DA7-8A0E-DDF0015C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A21AA-CC40-4397-B6F8-E2E0C482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42CC5-08E1-45DA-851C-34A1BDC6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F3030-C30D-4DE3-AC97-FD4F1485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F7250-30C2-4120-BBC3-42CD64C0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EC55D-38A6-41A5-BE9B-35555D47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A0EB1-BE1B-4B32-8B0C-341D188F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3270-7A47-434E-9783-55B226CE4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7F48-2A13-462F-8787-F68DF2F89E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76;&#1086;&#1088;&#1086;&#1074;&#1100;&#1077;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5;&#1072;&#1089;&#1080;&#1083;&#1086;&#1074;&#1072;&#1085;&#1080;&#1077;" TargetMode="External"/><Relationship Id="rId2" Type="http://schemas.openxmlformats.org/officeDocument/2006/relationships/hyperlink" Target="http://ru.wikipedia.org/wiki/&#1057;&#1084;&#1099;&#1089;&#1083;_&#1078;&#1080;&#1079;&#1085;&#1080;" TargetMode="External"/><Relationship Id="rId3" Type="http://schemas.openxmlformats.org/officeDocument/2006/relationships/hyperlink" Target="http://ru.wikipedia.org/wiki/&#1069;&#1074;&#1090;&#1072;&#1085;&#1072;&#1079;&#1080;&#1103;" TargetMode="External"/><Relationship Id="rId4" Type="http://schemas.openxmlformats.org/officeDocument/2006/relationships/hyperlink" Target="http://ru.wikipedia.org/wiki/&#1060;&#1083;&#1086;&#1088;&#1080;&#1076;&#1072;" TargetMode="External"/><Relationship Id="rId5" Type="http://schemas.openxmlformats.org/officeDocument/2006/relationships/hyperlink" Target="http://ru.wikipedia.org/wiki/&#1057;&#1064;&#1040;" TargetMode="External"/><Relationship Id="rId6" Type="http://schemas.openxmlformats.org/officeDocument/2006/relationships/hyperlink" Target="http://ru.wikipedia.org/wiki/&#1057;&#1077;&#1082;&#1090;&#1072;" TargetMode="External"/><Relationship Id="rId7" Type="http://schemas.openxmlformats.org/officeDocument/2006/relationships/hyperlink" Target="http://ru.wikipedia.org/wiki/&#1044;&#1077;&#1087;&#1088;&#1077;&#1089;&#1089;&#1080;&#1103;" TargetMode="External"/><Relationship Id="rId8" Type="http://schemas.openxmlformats.org/officeDocument/2006/relationships/hyperlink" Target="http://ru.wikipedia.org/wiki/&#1041;&#1080;&#1087;&#1086;&#1083;&#1103;&#1088;&#1085;&#1086;&#1077;_&#1072;&#1092;&#1092;&#1077;&#1082;&#1090;&#1080;&#1074;&#1085;&#1086;&#1077;_&#1088;&#1072;&#1089;&#1089;&#1090;&#1088;&#1086;&#1081;&#1089;&#1090;&#1074;&#1086;" TargetMode="External"/><Relationship Id="rId9" Type="http://schemas.openxmlformats.org/officeDocument/2006/relationships/hyperlink" Target="http://ru.wikipedia.org/wiki/&#1064;&#1080;&#1079;&#1086;&#1092;&#1088;&#1077;&#1085;&#1080;&#1103;" TargetMode="External"/><Relationship Id="rId10" Type="http://schemas.openxmlformats.org/officeDocument/2006/relationships/hyperlink" Target="http://ru.wikipedia.org/wiki/&#1055;&#1083;&#1077;&#1085;_%28&#1074;&#1086;&#1077;&#1085;&#1085;&#1099;&#1081;%29" TargetMode="Externa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6;&#1074;&#1077;&#1096;&#1077;&#1085;&#1080;&#1077;" TargetMode="External"/><Relationship Id="rId2" Type="http://schemas.openxmlformats.org/officeDocument/2006/relationships/hyperlink" Target="http://ru.wikipedia.org/wiki/&#1059;&#1090;&#1086;&#1087;&#1083;&#1077;&#1085;&#1080;&#1077;" TargetMode="External"/><Relationship Id="rId3" Type="http://schemas.openxmlformats.org/officeDocument/2006/relationships/hyperlink" Target="http://ru.wikipedia.org/wiki/&#1054;&#1090;&#1088;&#1072;&#1074;&#1083;&#1077;&#1085;&#1080;&#1077;" TargetMode="External"/><Relationship Id="rId4" Type="http://schemas.openxmlformats.org/officeDocument/2006/relationships/hyperlink" Target="http://ru.wikipedia.org/wiki/&#1065;&#1105;&#1083;&#1086;&#1095;&#1100;" TargetMode="External"/><Relationship Id="rId5" Type="http://schemas.openxmlformats.org/officeDocument/2006/relationships/hyperlink" Target="http://ru.wikipedia.org/wiki/&#1050;&#1080;&#1089;&#1083;&#1086;&#1090;&#1072;" TargetMode="External"/><Relationship Id="rId6" Type="http://schemas.openxmlformats.org/officeDocument/2006/relationships/hyperlink" Target="http://ru.wikipedia.org/w/index.php?title=&#1057;&#1072;&#1084;&#1086;&#1089;&#1086;&#1078;&#1078;&#1077;&#1085;&#1080;&#1077;&amp;action=edit&amp;redlink=1" TargetMode="External"/><Relationship Id="rId7" Type="http://schemas.openxmlformats.org/officeDocument/2006/relationships/hyperlink" Target="http://ru.wikipedia.org/wiki/&#1043;&#1086;&#1083;&#1086;&#1076;" TargetMode="External"/><Relationship Id="rId8" Type="http://schemas.openxmlformats.org/officeDocument/2006/relationships/hyperlink" Target="http://ru.wikipedia.org/wiki/&#1046;&#1072;&#1078;&#1076;&#1072;" TargetMode="External"/><Relationship Id="rId9" Type="http://schemas.openxmlformats.org/officeDocument/2006/relationships/hyperlink" Target="http://ru.wikipedia.org/wiki/&#1057;&#1101;&#1087;&#1087;&#1091;&#1082;&#1091;" TargetMode="External"/><Relationship Id="rId10" Type="http://schemas.openxmlformats.org/officeDocument/2006/relationships/hyperlink" Target="http://ru.wikipedia.org/wiki/&#1071;&#1087;&#1086;&#1085;&#1080;&#1103;" TargetMode="External"/><Relationship Id="rId11" Type="http://schemas.openxmlformats.org/officeDocument/2006/relationships/hyperlink" Target="http://ru.wikipedia.org/w/index.php?title=&#1055;&#1072;&#1076;&#1077;&#1085;&#1080;&#1077;_&#1085;&#1072;_&#1084;&#1077;&#1095;&amp;action=edit&amp;redlink=1" TargetMode="External"/><Relationship Id="rId12" Type="http://schemas.openxmlformats.org/officeDocument/2006/relationships/hyperlink" Target="http://ru.wikipedia.org/wiki/&#1044;&#1088;&#1077;&#1074;&#1085;&#1080;&#1081;_&#1056;&#1080;&#1084;" TargetMode="External"/><Relationship Id="rId13" Type="http://schemas.openxmlformats.org/officeDocument/2006/relationships/hyperlink" Target="http://ru.wikipedia.org/wiki/&#1042;&#1089;&#1082;&#1088;&#1099;&#1090;&#1080;&#1077;_&#1074;&#1077;&#1085;" TargetMode="External"/><Relationship Id="rId14" Type="http://schemas.openxmlformats.org/officeDocument/2006/relationships/hyperlink" Target="http://ru.wikipedia.org/wiki/&#1055;&#1086;&#1077;&#1079;&#1076;" TargetMode="External"/><Relationship Id="rId15" Type="http://schemas.openxmlformats.org/officeDocument/2006/relationships/hyperlink" Target="http://ru.wikipedia.org/wiki/&#1040;&#1074;&#1090;&#1086;&#1084;&#1086;&#1073;&#1080;&#1083;&#1100;" TargetMode="External"/><Relationship Id="rId16" Type="http://schemas.openxmlformats.org/officeDocument/2006/relationships/hyperlink" Target="http://ru.wikipedia.org/wiki/&#1069;&#1083;&#1077;&#1082;&#1090;&#1088;&#1080;&#1095;&#1077;&#1089;&#1090;&#1074;&#1086;" TargetMode="External"/><Relationship Id="rId17" Type="http://schemas.openxmlformats.org/officeDocument/2006/relationships/hyperlink" Target="http://ru.wikipedia.org/wiki/&#1063;&#1072;&#1089;&#1086;&#1074;&#1086;&#1081;" TargetMode="External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2;&#1084;&#1080;&#1082;&#1072;&#1076;&#1079;&#1077;" TargetMode="External"/><Relationship Id="rId2" Type="http://schemas.openxmlformats.org/officeDocument/2006/relationships/hyperlink" Target="http://ru.wikipedia.org/wiki/&#1040;&#1083;&#1077;&#1082;&#1089;&#1072;&#1085;&#1076;&#1088;_&#1052;&#1072;&#1090;&#1088;&#1086;&#1089;&#1086;&#1074;" TargetMode="External"/><Relationship Id="rId3" Type="http://schemas.openxmlformats.org/officeDocument/2006/relationships/hyperlink" Target="http://ru.wikipedia.org/wiki/&#1052;&#1091;&#1095;&#1077;&#1085;&#1080;&#1082;&#1080;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2;&#1089;&#1089;&#1072;&#1076;&#1072;" TargetMode="External"/><Relationship Id="rId2" Type="http://schemas.openxmlformats.org/officeDocument/2006/relationships/hyperlink" Target="http://ru.wikipedia.org/wiki/&#1057;&#1090;&#1072;&#1088;&#1086;&#1074;&#1077;&#1088;&#1099;" TargetMode="External"/><Relationship Id="rId3" Type="http://schemas.openxmlformats.org/officeDocument/2006/relationships/hyperlink" Target="http://ru.wikipedia.org/wiki/&#1061;&#1072;&#1088;&#1072;&#1082;&#1080;&#1088;&#1080;" TargetMode="External"/><Relationship Id="rId4" Type="http://schemas.openxmlformats.org/officeDocument/2006/relationships/hyperlink" Target="http://ru.wikipedia.org/wiki/&#1044;&#1078;&#1086;&#1085;&#1089;&#1090;&#1072;&#1091;&#1085;" TargetMode="External"/><Relationship Id="rId5" Type="http://schemas.openxmlformats.org/officeDocument/2006/relationships/hyperlink" Target="http://ru.wikipedia.org/wiki/&#1043;&#1072;&#1081;&#1072;&#1085;&#1072;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doni MT"/>
              </a:rPr>
              <a:t>Самоуби́йство</a:t>
            </a:r>
            <a:r>
              <a:rPr b="0" lang="ru-RU" sz="2400" spc="-1" strike="noStrike">
                <a:solidFill>
                  <a:srgbClr val="800000"/>
                </a:solidFill>
                <a:latin typeface="Bodoni MT"/>
              </a:rPr>
              <a:t>, </a:t>
            </a:r>
            <a:r>
              <a:rPr b="1" lang="ru-RU" sz="2400" spc="-1" strike="noStrike">
                <a:solidFill>
                  <a:srgbClr val="800000"/>
                </a:solidFill>
                <a:latin typeface="Bodoni MT"/>
              </a:rPr>
              <a:t>Суици́д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 (от </a:t>
            </a:r>
            <a:r>
              <a:rPr b="0" lang="ru-RU" sz="2400" spc="-1" strike="noStrike" u="sng">
                <a:solidFill>
                  <a:srgbClr val="999933"/>
                </a:solidFill>
                <a:uFillTx/>
                <a:latin typeface="Bodoni MT"/>
                <a:hlinkClick r:id="rId1"/>
              </a:rPr>
              <a:t>лат.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i="1" lang="ru-RU" sz="2400" spc="-1" strike="noStrike">
                <a:solidFill>
                  <a:srgbClr val="999933"/>
                </a:solidFill>
                <a:latin typeface="Bodoni MT"/>
              </a:rPr>
              <a:t>sui caedere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 — убивать себя) — самостоятельное и целенаправленное лишение себя жизни, как правило, добровольное, хотя бывают и случаи вынужденного самоубий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4" descr="istarii8"/>
          <p:cNvPicPr/>
          <p:nvPr/>
        </p:nvPicPr>
        <p:blipFill>
          <a:blip r:embed="rId2"/>
          <a:stretch/>
        </p:blipFill>
        <p:spPr>
          <a:xfrm>
            <a:off x="4191120" y="0"/>
            <a:ext cx="4952880" cy="3851280"/>
          </a:xfrm>
          <a:prstGeom prst="rect">
            <a:avLst/>
          </a:prstGeom>
          <a:ln w="0">
            <a:noFill/>
          </a:ln>
        </p:spPr>
      </p:pic>
      <p:pic>
        <p:nvPicPr>
          <p:cNvPr id="95" name="005 Znaki Voprosa - For Sex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Окол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80%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самоубийц предварительно дают знать о своих намерениях окружающим, хотя способы сообщения об этом могут быть завуалирова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У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6%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покончивших с собой, один из родителей был самоубийц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2%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после неудачной попытки суицида в течение двух лет повторяют ее и достигают желаемого.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80%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покончивших с собой, пытались сделать это в прошлом по крайней мере однаж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В окружении каждого человека, покончившего с собой, в среднем остается 6 человек, для которых его самоубийство является тяжелой душевной травм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С начал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9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века наблюдается постоянное и равномерное возрастание статистики самоубийств во всех странах ми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По прогнозам, к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02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ежегодно будут кончать самоубийством </a:t>
            </a:r>
            <a:r>
              <a:rPr b="1" lang="ru-RU" sz="2000" spc="-1" strike="noStrike">
                <a:solidFill>
                  <a:srgbClr val="ffffff"/>
                </a:solidFill>
                <a:latin typeface="Bodoni MT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 500 000</a:t>
            </a:r>
            <a:r>
              <a:rPr b="1" lang="ru-RU" sz="2000" spc="-1" strike="noStrike">
                <a:solidFill>
                  <a:srgbClr val="ffffff"/>
                </a:solidFill>
                <a:latin typeface="Bodoni MT"/>
              </a:rPr>
              <a:t> человек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Суициды среди молодежи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За последнее десятилетие число самоубийств среди молодежи выросло в </a:t>
            </a:r>
            <a:r>
              <a:rPr b="0" lang="ru-RU" sz="2000" spc="-1" strike="noStrike">
                <a:solidFill>
                  <a:srgbClr val="999933"/>
                </a:solidFill>
                <a:latin typeface="Bodoni MT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раза. Основные причины суицида:  неразделенная любовь,  конфликты с родителями и сверстниками, страх перед будущим, одиночество. Ежегодно, каждый двенадцатый подросток в возрасте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5-19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лет пытается совершить попытку самоубийства. По абсолютному количеству подростковых самоубийств Россия занимает первое мест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60%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всех суицидов приходится на лето и весну. Может быть потому, что именно в этот период особенно заметен контраст между  расцветом природы и неизменностью внутреннего состоя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Считается, что</a:t>
            </a:r>
            <a:r>
              <a:rPr b="1" lang="ru-RU" sz="20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Bodoni MT"/>
              </a:rPr>
              <a:t>болезнью самоубийц является депрессия</a:t>
            </a:r>
            <a:r>
              <a:rPr b="1" lang="ru-RU" sz="20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— </a:t>
            </a:r>
            <a:r>
              <a:rPr b="1" lang="ru-RU" sz="2000" spc="-1" strike="noStrike">
                <a:solidFill>
                  <a:srgbClr val="ffffff"/>
                </a:solidFill>
                <a:latin typeface="Bodoni MT"/>
              </a:rPr>
              <a:t>д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70%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депрессивных больных обнаруживают суицидальные тенденции,  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5%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из них совершают самоубийства. Поэтому </a:t>
            </a:r>
            <a:r>
              <a:rPr b="1" lang="ru-RU" sz="2000" spc="-1" strike="noStrike">
                <a:solidFill>
                  <a:srgbClr val="800000"/>
                </a:solidFill>
                <a:latin typeface="Bodoni MT"/>
              </a:rPr>
              <a:t>проблема самоубийств — это проблема депрессий</a:t>
            </a:r>
            <a:r>
              <a:rPr b="0" lang="ru-RU" sz="2000" spc="-1" strike="noStrike">
                <a:solidFill>
                  <a:srgbClr val="800000"/>
                </a:solidFill>
                <a:latin typeface="Bodoni M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005 Znaki Voprosa - For Sex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doni MT"/>
              </a:rPr>
              <a:t>Прослеживается связь </a:t>
            </a: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числа самоубийств с возрастом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26" name="Picture 4" descr="Статистика самоубийств (мужчины)"/>
          <p:cNvPicPr/>
          <p:nvPr/>
        </p:nvPicPr>
        <p:blipFill>
          <a:blip r:embed="rId1"/>
          <a:stretch/>
        </p:blipFill>
        <p:spPr>
          <a:xfrm>
            <a:off x="0" y="1600200"/>
            <a:ext cx="4543560" cy="2266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Статистика самоубийств (женщины)"/>
          <p:cNvPicPr/>
          <p:nvPr/>
        </p:nvPicPr>
        <p:blipFill>
          <a:blip r:embed="rId2"/>
          <a:stretch/>
        </p:blipFill>
        <p:spPr>
          <a:xfrm>
            <a:off x="4600440" y="1600200"/>
            <a:ext cx="4543560" cy="22669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304920" y="3961440"/>
            <a:ext cx="853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33"/>
                </a:solidFill>
                <a:latin typeface="Bodoni MT"/>
              </a:rPr>
              <a:t>Семейное положение.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 По статистике, состоящие в браке кончают с собой значительно реже, нежели холостые или разведенные. Высокий уровень самоубийств у тех, кто потерял партнера - они кончают с собой в три раза чаще, чем семейны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458200" cy="14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Статистика самоубийств в мире, </a:t>
            </a:r>
            <a:br>
              <a:rPr sz="4000"/>
            </a:b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в России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Всемирная организации здравоохранения, приводя данные з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0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год, отмечает, что количество самоубийств в Японии составлял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4,1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н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тыс. человек. По этому показателю Страна восходящего солнца уступала тогда лишь России, где число самоубийств составлял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39,4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н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0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тыс. человек. В США данный показатель составлял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,4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н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тыс.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Следует отметить, что Россия в последнее время находилась в мировых лидерах по количеству самоубийств. Всего с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995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п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003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год в России покончили с собой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500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тыс. человек. Если учесть, что, по статистике, из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попыток самоубийства только одна приводит к смерти, то получается, что за последние годы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 млн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человек пытались наложить на себя ру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62120" y="4037400"/>
            <a:ext cx="815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Количество самоубийств в России в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раза больше, чем в среднем в мире. Причем мужчины убивают себя в 6 раз чаще, чем женщины. Более половины ушедших из жизни — это молодые люди, д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3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лет. Всего по стране ежегодно кончают жизнь самоубийством окол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8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де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48769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Однако в последние годы в России наблюдается постепенное снижение количества случаев самоубийств как в абсолютном, так и в относительном выражении. Так если в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992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году число самоубийств резко возросло д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46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н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0 0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жителей, в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994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году оно составлял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42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случая самоубийств н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0 0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, в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999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году —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39,4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н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0 0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, в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007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году оно упало д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36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н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0 0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. Наиболее благополучными в этом плане регионами являются республики Северного Кавказа, Москва (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1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случаев н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0 0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) и Санкт-Петербург (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8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н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0 0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Новые времена"/>
          <p:cNvPicPr/>
          <p:nvPr/>
        </p:nvPicPr>
        <p:blipFill>
          <a:blip r:embed="rId1"/>
          <a:stretch/>
        </p:blipFill>
        <p:spPr>
          <a:xfrm>
            <a:off x="6019920" y="1523880"/>
            <a:ext cx="3124080" cy="4343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doni MT"/>
              </a:rPr>
              <a:t>По официальной статистике, каждый год кончают жизнь самоубийством </a:t>
            </a:r>
            <a:r>
              <a:rPr b="1" lang="ru-RU" sz="2400" spc="-1" strike="noStrike">
                <a:solidFill>
                  <a:srgbClr val="999933"/>
                </a:solidFill>
                <a:latin typeface="Bodoni MT"/>
              </a:rPr>
              <a:t>1 000 000</a:t>
            </a:r>
            <a:r>
              <a:rPr b="1" lang="ru-RU" sz="2400" spc="-1" strike="noStrike">
                <a:solidFill>
                  <a:srgbClr val="ffffff"/>
                </a:solidFill>
                <a:latin typeface="Bodoni MT"/>
              </a:rPr>
              <a:t> человек. 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Среди них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- </a:t>
            </a:r>
            <a:r>
              <a:rPr b="0" lang="ru-RU" sz="2400" spc="-1" strike="noStrike">
                <a:solidFill>
                  <a:srgbClr val="999933"/>
                </a:solidFill>
                <a:latin typeface="Bodoni MT"/>
              </a:rPr>
              <a:t>280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 тысяч китайцев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- </a:t>
            </a:r>
            <a:r>
              <a:rPr b="0" lang="ru-RU" sz="2400" spc="-1" strike="noStrike">
                <a:solidFill>
                  <a:srgbClr val="999933"/>
                </a:solidFill>
                <a:latin typeface="Bodoni MT"/>
              </a:rPr>
              <a:t>60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 тысяч русских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- </a:t>
            </a:r>
            <a:r>
              <a:rPr b="0" lang="ru-RU" sz="2400" spc="-1" strike="noStrike">
                <a:solidFill>
                  <a:srgbClr val="999933"/>
                </a:solidFill>
                <a:latin typeface="Bodoni MT"/>
              </a:rPr>
              <a:t>30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 тысяч американцев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- </a:t>
            </a:r>
            <a:r>
              <a:rPr b="0" lang="ru-RU" sz="2400" spc="-1" strike="noStrike">
                <a:solidFill>
                  <a:srgbClr val="999933"/>
                </a:solidFill>
                <a:latin typeface="Bodoni MT"/>
              </a:rPr>
              <a:t>25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 тысяч японцев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- </a:t>
            </a:r>
            <a:r>
              <a:rPr b="0" lang="ru-RU" sz="2400" spc="-1" strike="noStrike">
                <a:solidFill>
                  <a:srgbClr val="999933"/>
                </a:solidFill>
                <a:latin typeface="Bodoni MT"/>
              </a:rPr>
              <a:t>20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 тысяч французов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- </a:t>
            </a:r>
            <a:r>
              <a:rPr b="0" lang="ru-RU" sz="2400" spc="-1" strike="noStrike">
                <a:solidFill>
                  <a:srgbClr val="999933"/>
                </a:solidFill>
                <a:latin typeface="Bodoni MT"/>
              </a:rPr>
              <a:t>10 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тысяч украинц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Bodoni MT"/>
              </a:rPr>
              <a:t>Официальная статистика суицида значительно отличается от реальных цифр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 (приблизительно </a:t>
            </a:r>
            <a:r>
              <a:rPr b="1" lang="ru-RU" sz="2400" spc="-1" strike="noStrike">
                <a:solidFill>
                  <a:srgbClr val="ffffff"/>
                </a:solidFill>
                <a:latin typeface="Bodoni MT"/>
              </a:rPr>
              <a:t>в </a:t>
            </a:r>
            <a:r>
              <a:rPr b="1" lang="ru-RU" sz="2400" spc="-1" strike="noStrike">
                <a:solidFill>
                  <a:srgbClr val="999933"/>
                </a:solidFill>
                <a:latin typeface="Bodoni MT"/>
              </a:rPr>
              <a:t>4 </a:t>
            </a:r>
            <a:r>
              <a:rPr b="1" lang="ru-RU" sz="2400" spc="-1" strike="noStrike">
                <a:solidFill>
                  <a:srgbClr val="ffffff"/>
                </a:solidFill>
                <a:latin typeface="Bodoni MT"/>
              </a:rPr>
              <a:t>раза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), поскольку в нее попадают только явные случаи суицида. По мнению судебных экспертов,  причиной большинства так называемых "смертей от несчастного случая" (передозировка лекарственных препаратов, автомобильные аварии, падение с высоты и т.д) на самом деле являются суициды. Также никто 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 фиксирует неудачные попытки суицида, число которых по разным оценкам в </a:t>
            </a:r>
            <a:r>
              <a:rPr b="1" lang="ru-RU" sz="2400" spc="-1" strike="noStrike">
                <a:solidFill>
                  <a:srgbClr val="999933"/>
                </a:solidFill>
                <a:latin typeface="Bodoni MT"/>
              </a:rPr>
              <a:t>10-20</a:t>
            </a:r>
            <a:r>
              <a:rPr b="1" lang="ru-RU" sz="2400" spc="-1" strike="noStrike">
                <a:solidFill>
                  <a:srgbClr val="ffffff"/>
                </a:solidFill>
                <a:latin typeface="Bodoni MT"/>
              </a:rPr>
              <a:t> раз больше,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 чем законченных самоубий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Самоубийство в животном мире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Июль </a:t>
            </a:r>
            <a:r>
              <a:rPr b="1" lang="ru-RU" sz="2000" spc="-1" strike="noStrike">
                <a:solidFill>
                  <a:srgbClr val="ffffff"/>
                </a:solidFill>
                <a:latin typeface="Bodoni MT"/>
              </a:rPr>
              <a:t>2005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года —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5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овец синхронно спрыгнули в пропасть в Турции, причём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45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из них погиб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Известны неоднократные массовые выбрасывания китов на берег. Однако нет точных данных, является ли это и в самом деле желанем животных покончить с жизнью, либо сбоем в достаточно сложной системе биолокации (получение ложных эхо-сигналов, приводящих к дезориентации животного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Регулярные «самоубийства» лемминг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Древние времена"/>
          <p:cNvPicPr/>
          <p:nvPr/>
        </p:nvPicPr>
        <p:blipFill>
          <a:blip r:embed="rId1"/>
          <a:stretch/>
        </p:blipFill>
        <p:spPr>
          <a:xfrm>
            <a:off x="5486400" y="3548160"/>
            <a:ext cx="3657600" cy="33098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Мы не можем вырвать ни одной страницы из нашей жизни, хотя легко можем бросить в огонь самую книгу /</a:t>
            </a:r>
            <a:r>
              <a:rPr b="0" lang="ru-RU" sz="2000" spc="-1" strike="noStrike">
                <a:solidFill>
                  <a:srgbClr val="999933"/>
                </a:solidFill>
                <a:latin typeface="Bodoni MT"/>
              </a:rPr>
              <a:t>Ж. Санд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25360" y="899280"/>
            <a:ext cx="88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Убийца убивает человека, самоубийца – человечество /</a:t>
            </a:r>
            <a:r>
              <a:rPr b="0" lang="en-US" sz="2000" spc="-1" strike="noStrike">
                <a:solidFill>
                  <a:srgbClr val="999933"/>
                </a:solidFill>
                <a:latin typeface="Bodoni MT"/>
              </a:rPr>
              <a:t>Г.Честертон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838080" y="14468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Перед удачливыми открыты все двери, перед неудачливыми - все окна  /</a:t>
            </a:r>
            <a:r>
              <a:rPr b="0" lang="ru-RU" sz="2000" spc="-1" strike="noStrike">
                <a:solidFill>
                  <a:srgbClr val="999933"/>
                </a:solidFill>
                <a:latin typeface="Bodoni MT"/>
              </a:rPr>
              <a:t>В. Верховский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11760" y="2056320"/>
            <a:ext cx="835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Имейте мужество жить. Умереть-то любой может  /</a:t>
            </a:r>
            <a:r>
              <a:rPr b="0" lang="ru-RU" sz="2000" spc="-1" strike="noStrike">
                <a:solidFill>
                  <a:srgbClr val="999933"/>
                </a:solidFill>
                <a:latin typeface="Bodoni MT"/>
              </a:rPr>
              <a:t>Роберт Коди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7" descr="Самоубийство. Афоризмы"/>
          <p:cNvPicPr/>
          <p:nvPr/>
        </p:nvPicPr>
        <p:blipFill>
          <a:blip r:embed="rId1"/>
          <a:stretch/>
        </p:blipFill>
        <p:spPr>
          <a:xfrm>
            <a:off x="2743200" y="2819520"/>
            <a:ext cx="3333600" cy="3705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Попытка убить себя, которая не удалась, называются</a:t>
            </a:r>
            <a:r>
              <a:rPr b="0" lang="ru-RU" sz="2000" spc="-1" strike="noStrike">
                <a:solidFill>
                  <a:srgbClr val="999933"/>
                </a:solidFill>
                <a:latin typeface="Bodoni MT"/>
              </a:rPr>
              <a:t> </a:t>
            </a:r>
            <a:r>
              <a:rPr b="0" i="1" lang="ru-RU" sz="2000" spc="-1" strike="noStrike">
                <a:solidFill>
                  <a:srgbClr val="999933"/>
                </a:solidFill>
                <a:latin typeface="Bodoni MT"/>
              </a:rPr>
              <a:t>попыткой</a:t>
            </a:r>
            <a:r>
              <a:rPr b="0" i="1" lang="ru-RU" sz="20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i="1" lang="ru-RU" sz="2000" spc="-1" strike="noStrike">
                <a:solidFill>
                  <a:srgbClr val="999933"/>
                </a:solidFill>
                <a:latin typeface="Bodoni MT"/>
              </a:rPr>
              <a:t>самоубийства</a:t>
            </a:r>
            <a:r>
              <a:rPr b="0" lang="ru-RU" sz="2000" spc="-1" strike="noStrike">
                <a:solidFill>
                  <a:srgbClr val="999933"/>
                </a:solidFill>
                <a:latin typeface="Bodoni MT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Попытка самоубийства называется </a:t>
            </a:r>
            <a:r>
              <a:rPr b="0" i="1" lang="ru-RU" sz="2000" spc="-1" strike="noStrike">
                <a:solidFill>
                  <a:srgbClr val="999933"/>
                </a:solidFill>
                <a:latin typeface="Bodoni MT"/>
              </a:rPr>
              <a:t>серьёзной</a:t>
            </a:r>
            <a:r>
              <a:rPr b="0" lang="ru-RU" sz="2000" spc="-1" strike="noStrike">
                <a:solidFill>
                  <a:srgbClr val="999933"/>
                </a:solidFill>
                <a:latin typeface="Bodoni MT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если она могла привести к смерти с большой вероятностью. Попытки самоубийства опасны, потому что часто приводят к разрушению 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Bodoni MT"/>
                <a:hlinkClick r:id="rId1"/>
              </a:rPr>
              <a:t>здоровья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Кроме того, люди, совершившие попытку самоубийства, часто в дальнейшем совершают самоубийств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Эпоха античности"/>
          <p:cNvPicPr/>
          <p:nvPr/>
        </p:nvPicPr>
        <p:blipFill>
          <a:blip r:embed="rId2"/>
          <a:stretch/>
        </p:blipFill>
        <p:spPr>
          <a:xfrm>
            <a:off x="5810400" y="4800600"/>
            <a:ext cx="3333600" cy="20574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762120" y="2437200"/>
            <a:ext cx="8001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Препятствием для совершения суицида могут являться </a:t>
            </a:r>
            <a:r>
              <a:rPr b="0" i="1" lang="ru-RU" sz="2000" spc="-1" strike="noStrike">
                <a:solidFill>
                  <a:srgbClr val="999933"/>
                </a:solidFill>
                <a:latin typeface="Bodoni MT"/>
              </a:rPr>
              <a:t>антисуицидальные</a:t>
            </a:r>
            <a:r>
              <a:rPr b="0" i="1" lang="ru-RU" sz="20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i="1" lang="ru-RU" sz="2000" spc="-1" strike="noStrike">
                <a:solidFill>
                  <a:srgbClr val="999933"/>
                </a:solidFill>
                <a:latin typeface="Bodoni MT"/>
              </a:rPr>
              <a:t>факторы личности</a:t>
            </a:r>
            <a:r>
              <a:rPr b="0" lang="ru-RU" sz="2000" spc="-1" strike="noStrike">
                <a:solidFill>
                  <a:srgbClr val="999933"/>
                </a:solidFill>
                <a:latin typeface="Bodoni MT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обесценивающие самоубийство как способ разрешения проблем и формирующие </a:t>
            </a:r>
            <a:r>
              <a:rPr b="0" i="1" lang="ru-RU" sz="2000" spc="-1" strike="noStrike">
                <a:solidFill>
                  <a:srgbClr val="999933"/>
                </a:solidFill>
                <a:latin typeface="Bodoni MT"/>
              </a:rPr>
              <a:t>антисуицидальный</a:t>
            </a:r>
            <a:r>
              <a:rPr b="0" i="1" lang="ru-RU" sz="2000" spc="-1" strike="noStrike">
                <a:solidFill>
                  <a:srgbClr val="ffffff"/>
                </a:solidFill>
                <a:latin typeface="Bodoni MT"/>
              </a:rPr>
              <a:t> барьер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. Как правило, такими факторами являются нереализованные творческие планы, боязнь причинить душевную боль родным и близким, неуверенность в надёжности выбранного способа самоубийства, а также религиозные и социальные табу, связанные с проблемой смерти и самоубий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Подготовка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При истинном суициде намерение покончить с собой развивается в течение длительного времени — подготовка к нему может занимать от нескольких дней до нескольких лет. Суицидент долго анализирует причины и возможные последствия самоубийства, рассматривает различные способы и оценивает их эффективность и надёжность, планирует наиболее надёжный сценарий суицидального дей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Непосредственно перед актом самоубийства у суицидента может проявиться так называемое </a:t>
            </a:r>
            <a:r>
              <a:rPr b="0" i="1" lang="ru-RU" sz="2400" spc="-1" strike="noStrike">
                <a:solidFill>
                  <a:srgbClr val="999933"/>
                </a:solidFill>
                <a:latin typeface="Bodoni MT"/>
              </a:rPr>
              <a:t>терминальное поведение</a:t>
            </a:r>
            <a:r>
              <a:rPr b="0" lang="ru-RU" sz="2400" spc="-1" strike="noStrike">
                <a:solidFill>
                  <a:srgbClr val="ffffff"/>
                </a:solidFill>
                <a:latin typeface="Bodoni MT"/>
              </a:rPr>
              <a:t> — человек как бы «приводит в порядок» свою жизнь: отдаёт долги, закрывает счёт в банке, просит прощения у давних врагов, затевает генеральную уборку в квартире и т. 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Причины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Основные из них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Неурядицы в личной жизни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несчастная любов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непонимание окружающим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проблемы на работ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целенаправленная травля (в том числе доведение до самоубийства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физические издевательства (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"/>
              </a:rPr>
              <a:t>изнасилования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, побо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потеря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2"/>
              </a:rPr>
              <a:t>смысла жи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Финансовые пробл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Проблемы со здоровьем (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3"/>
              </a:rPr>
              <a:t>Эвтаназия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 в штате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4"/>
              </a:rPr>
              <a:t>Флорида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,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5"/>
              </a:rPr>
              <a:t>США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 также формально является самоубийством, так как, согласно закону, больной должен вводить препарат себе сам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Религиозный фанатизм (обычно распространённый в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6"/>
              </a:rPr>
              <a:t>сектах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), ритуальное самоубийств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Психические болезни (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7"/>
              </a:rPr>
              <a:t>депрессия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,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8"/>
              </a:rPr>
              <a:t>биполярное аффективное расстройство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,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9"/>
              </a:rPr>
              <a:t>шизофрения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Идеологические (политические, неприятие ценностей социума в целом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Военные (самоубийство с целью нанесения урона противнику</a:t>
            </a:r>
            <a:r>
              <a:rPr b="0" lang="en-US" sz="18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или избежания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0"/>
              </a:rPr>
              <a:t>плена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Вынужденное самоубийство (по приговору суда, под угрозой мучительной смерти или расправы с близкими родственникам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Подражательное самоубийство (после аналогичных смертей известных личносте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Способы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"/>
              </a:rPr>
              <a:t>Повешение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, Удушение,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2"/>
              </a:rPr>
              <a:t>Утоп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Химическое воздействие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3"/>
              </a:rPr>
              <a:t>Отравление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. В зависимости от препарата действует от нескольких секунд до нескольких дн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Сильная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4"/>
              </a:rPr>
              <a:t>щёлочь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 или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5"/>
              </a:rPr>
              <a:t>кислота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. При употреблении разъедает внутренние органы. Действует от нескольких минут до нескольких часов. Чрезвычайно болезненный спосо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Прыжок и падение с высоких зданий, скал, мостов и других возвыш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Самоубийство при помощи огнестрельного оруж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Самоубийство путём подрыва в непосредственной близи от себя заряда взрывчатого вещ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6"/>
              </a:rPr>
              <a:t>Самосожж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Cамоубийство путём доведения себя до физического истощения (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7"/>
              </a:rPr>
              <a:t>голодом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 или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8"/>
              </a:rPr>
              <a:t>жаждой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Самоубийство при помощи холодного оружия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9"/>
              </a:rPr>
              <a:t>Сэппуку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 или харакири — ритуальное самоубийство в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0"/>
              </a:rPr>
              <a:t>Япо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1"/>
              </a:rPr>
              <a:t>Падение на меч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 (в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2"/>
              </a:rPr>
              <a:t>Древнем Риме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3"/>
              </a:rPr>
              <a:t>Вскрытие вен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 (человек умирает от потери кров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Использование технических средств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Прыжок под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4"/>
              </a:rPr>
              <a:t>поезд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, под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5"/>
              </a:rPr>
              <a:t>машину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 и т. 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Использование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6"/>
              </a:rPr>
              <a:t>электрич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Bodoni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Отключение больным аппаратуры поддержания жиз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«Полицейское самоубийство» — нападение на сотрудника правоохранительных органов, охранника, </a:t>
            </a:r>
            <a:r>
              <a:rPr b="0" lang="ru-RU" sz="1800" spc="-1" strike="noStrike" u="sng">
                <a:solidFill>
                  <a:srgbClr val="999933"/>
                </a:solidFill>
                <a:uFillTx/>
                <a:latin typeface="Bodoni MT"/>
                <a:hlinkClick r:id="rId17"/>
              </a:rPr>
              <a:t>часового</a:t>
            </a:r>
            <a:r>
              <a:rPr b="0" lang="ru-RU" sz="1800" spc="-1" strike="noStrike">
                <a:solidFill>
                  <a:srgbClr val="ffffff"/>
                </a:solidFill>
                <a:latin typeface="Bodoni MT"/>
              </a:rPr>
              <a:t> с целью спровоцировать его на применение оруж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3818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Самопожертвование и самоубийство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Имеет распространение позиция, не отождествляющая с самоубийством самопожертвование. Например, это относится к смерти японских 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Bodoni MT"/>
                <a:hlinkClick r:id="rId1"/>
              </a:rPr>
              <a:t>камикадзе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и других лиц, сознательно отдавших свою жизнь ради идеалов (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Bodoni MT"/>
                <a:hlinkClick r:id="rId2"/>
              </a:rPr>
              <a:t>Александр Матросов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и другие), 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Bodoni MT"/>
                <a:hlinkClick r:id="rId3"/>
              </a:rPr>
              <a:t>мучеников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Средневековье"/>
          <p:cNvPicPr/>
          <p:nvPr/>
        </p:nvPicPr>
        <p:blipFill>
          <a:blip r:embed="rId4"/>
          <a:stretch/>
        </p:blipFill>
        <p:spPr>
          <a:xfrm>
            <a:off x="4495680" y="3429000"/>
            <a:ext cx="4648320" cy="342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246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Массовые самоубийства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Окол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0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евреев на горе 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Bodoni MT"/>
                <a:hlinkClick r:id="rId1"/>
              </a:rPr>
              <a:t>Массада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в I веке н.э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предпочли самоубийство римскому рабств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Самосожжения 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Bodoni MT"/>
                <a:hlinkClick r:id="rId2"/>
              </a:rPr>
              <a:t>староверов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в XVII—XVIII век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Массовое 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Bodoni MT"/>
                <a:hlinkClick r:id="rId3"/>
              </a:rPr>
              <a:t>харакири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японцев (число покончивших с жизнью в различных источниках варьируется от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350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д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0000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) после подписания капитуляции в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945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го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Секта «Народный храм» (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912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человек) в 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Bodoni MT"/>
                <a:hlinkClick r:id="rId4"/>
              </a:rPr>
              <a:t>Джонстауне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(</a:t>
            </a:r>
            <a:r>
              <a:rPr b="0" lang="ru-RU" sz="2000" spc="-1" strike="noStrike" u="sng">
                <a:solidFill>
                  <a:srgbClr val="999933"/>
                </a:solidFill>
                <a:uFillTx/>
                <a:latin typeface="Bodoni MT"/>
                <a:hlinkClick r:id="rId5"/>
              </a:rPr>
              <a:t>Гайана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) в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978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го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Секта «Ветвь Давидова» (самосожжение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87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человек) в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993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го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Музыка Суицида"/>
          <p:cNvPicPr/>
          <p:nvPr/>
        </p:nvPicPr>
        <p:blipFill>
          <a:blip r:embed="rId6"/>
          <a:stretch/>
        </p:blipFill>
        <p:spPr>
          <a:xfrm>
            <a:off x="6553080" y="4038480"/>
            <a:ext cx="2590920" cy="2819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325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Bodoni MT"/>
              </a:rPr>
              <a:t>Закономерности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Как правило самоубиства происходят с воскресенья на понедельник, что видимо связано с началом новой недели - новых проблем, и попытки "решить все проблемы разом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В случае неудачного самоубиства - основные рецидивы случаются на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7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й и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30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й день, что связано с физиологией организ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54"/>
          <p:cNvPicPr/>
          <p:nvPr/>
        </p:nvPicPr>
        <p:blipFill>
          <a:blip r:embed="rId1"/>
          <a:stretch/>
        </p:blipFill>
        <p:spPr>
          <a:xfrm>
            <a:off x="4419720" y="2971800"/>
            <a:ext cx="4724280" cy="38862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1213200" y="2361240"/>
            <a:ext cx="383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Bodoni MT"/>
              </a:rPr>
              <a:t>Время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Первая половина дня –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32%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Вторая половина –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44%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Ночь –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4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1447920" y="3427560"/>
            <a:ext cx="2666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doni MT"/>
              </a:rPr>
              <a:t>Прощальные</a:t>
            </a:r>
            <a:r>
              <a:rPr b="1" lang="en-US" sz="20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Bodoni MT"/>
              </a:rPr>
              <a:t>записки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оставляют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44% самоубийц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Они адресованы: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«всем»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 -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0%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близким 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2%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начальникам 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8%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никому 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4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228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Алкоголь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при жизни употребляло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60%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самоубийц, хотя непосредственно перед самоубийством алкоголь употребляется только в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8%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случаев, наркотики – в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4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Материальное обеспечение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Удовлетворительное –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44%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Неудовлетворительное –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56%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Уровень жизни и количество самоубийств не связаны между собой - так одна из самых высокоразвитых и богатых стран Европы - Швеция на протяжении десяти лет является одним из лидеров по числу суицидов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Сексуальная ориентация.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 По данным исследований, которые проводились в США, геи совершают попытки самоубийства в 7 раз чаще, чем натура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Образование</a:t>
            </a:r>
            <a:r>
              <a:rPr b="0" lang="ru-RU" sz="2000" spc="-1" strike="noStrike">
                <a:solidFill>
                  <a:srgbClr val="999933"/>
                </a:solidFill>
                <a:latin typeface="Bodoni MT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люди с высоким уровнем образования менее склонны к суициду. Самая опасная группа - люди с неполным средним образовани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doni MT"/>
              </a:rPr>
              <a:t>	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Взаимоотношения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Общались с широким кругом людей –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24%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С несколькими людьми –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60%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Bodoni MT"/>
              </a:rPr>
              <a:t>- Были замкнуты и избегали общения – </a:t>
            </a:r>
            <a:r>
              <a:rPr b="1" lang="ru-RU" sz="2000" spc="-1" strike="noStrike">
                <a:solidFill>
                  <a:srgbClr val="999933"/>
                </a:solidFill>
                <a:latin typeface="Bodoni MT"/>
              </a:rPr>
              <a:t>16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Музыка Суицида"/>
          <p:cNvPicPr/>
          <p:nvPr/>
        </p:nvPicPr>
        <p:blipFill>
          <a:blip r:embed="rId1"/>
          <a:stretch/>
        </p:blipFill>
        <p:spPr>
          <a:xfrm>
            <a:off x="6934320" y="4267080"/>
            <a:ext cx="2209680" cy="2590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лана</cp:lastModifiedBy>
  <dcterms:modified xsi:type="dcterms:W3CDTF">2010-02-15T08:46:4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