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DC87D-E42A-4DD1-A353-110EEB37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A85B-76B5-4FF8-AD33-3F0D75DD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DFF9-B881-4C10-9260-6EDF9259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D578-A180-4244-92AB-4969DE87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48D03-3099-40E9-AD9E-42E3AE21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FDA39-1075-423E-A3FE-9B53A46B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56EE7-8723-4A49-A046-5593DF9C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5A14F-7B79-49FE-A707-FA67FCE1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AD1C4-A589-4FBC-9C48-10A702B6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D7DD2-AF54-4959-BF43-9FBAD1B9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9D574-8669-40C9-871B-4F5E45B8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EB45-B95F-4E5C-9C81-942B2031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2D565-0E00-4857-8CF8-BD7DA6FA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4CE78-A58D-4352-A0B5-02530A8D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BDF8A-A02B-44CD-8B28-8D49EA42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3D668-A6EB-4D50-8E31-E9412939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285FF-F35F-44CE-89E2-0A9A2715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8F67-25A6-416F-B3FA-86412009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64BB-0690-491A-B1F6-5856B455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E0E5-AB4B-454C-AD16-A3CD64B3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919A3-095D-402E-95E5-560FB6DA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E09E-0426-4002-918C-F7505FA4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2549-20B2-43B5-9C8F-4434AB3F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C83E-27DA-49A7-9CBF-AC0EB87B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BD0D-1EE6-481E-A6EB-3C7450A59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1B34-D61D-45E7-A101-D6E1CD962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6;&#1086;&#1088;&#1086;&#1074;&#1100;&#1077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5;&#1072;&#1089;&#1080;&#1083;&#1086;&#1074;&#1072;&#1085;&#1080;&#1077;" TargetMode="External"/><Relationship Id="rId2" Type="http://schemas.openxmlformats.org/officeDocument/2006/relationships/hyperlink" Target="http://ru.wikipedia.org/wiki/&#1057;&#1084;&#1099;&#1089;&#1083;_&#1078;&#1080;&#1079;&#1085;&#1080;" TargetMode="External"/><Relationship Id="rId3" Type="http://schemas.openxmlformats.org/officeDocument/2006/relationships/hyperlink" Target="http://ru.wikipedia.org/wiki/&#1069;&#1074;&#1090;&#1072;&#1085;&#1072;&#1079;&#1080;&#1103;" TargetMode="External"/><Relationship Id="rId4" Type="http://schemas.openxmlformats.org/officeDocument/2006/relationships/hyperlink" Target="http://ru.wikipedia.org/wiki/&#1060;&#1083;&#1086;&#1088;&#1080;&#1076;&#1072;" TargetMode="External"/><Relationship Id="rId5" Type="http://schemas.openxmlformats.org/officeDocument/2006/relationships/hyperlink" Target="http://ru.wikipedia.org/wiki/&#1057;&#1064;&#1040;" TargetMode="External"/><Relationship Id="rId6" Type="http://schemas.openxmlformats.org/officeDocument/2006/relationships/hyperlink" Target="http://ru.wikipedia.org/wiki/&#1057;&#1077;&#1082;&#1090;&#1072;" TargetMode="External"/><Relationship Id="rId7" Type="http://schemas.openxmlformats.org/officeDocument/2006/relationships/hyperlink" Target="http://ru.wikipedia.org/wiki/&#1044;&#1077;&#1087;&#1088;&#1077;&#1089;&#1089;&#1080;&#1103;" TargetMode="External"/><Relationship Id="rId8" Type="http://schemas.openxmlformats.org/officeDocument/2006/relationships/hyperlink" Target="http://ru.wikipedia.org/wiki/&#1041;&#1080;&#1087;&#1086;&#1083;&#1103;&#1088;&#1085;&#1086;&#1077;_&#1072;&#1092;&#1092;&#1077;&#1082;&#1090;&#1080;&#1074;&#1085;&#1086;&#1077;_&#1088;&#1072;&#1089;&#1089;&#1090;&#1088;&#1086;&#1081;&#1089;&#1090;&#1074;&#1086;" TargetMode="External"/><Relationship Id="rId9" Type="http://schemas.openxmlformats.org/officeDocument/2006/relationships/hyperlink" Target="http://ru.wikipedia.org/wiki/&#1064;&#1080;&#1079;&#1086;&#1092;&#1088;&#1077;&#1085;&#1080;&#1103;" TargetMode="External"/><Relationship Id="rId10" Type="http://schemas.openxmlformats.org/officeDocument/2006/relationships/hyperlink" Target="http://ru.wikipedia.org/wiki/&#1055;&#1083;&#1077;&#1085;_%28&#1074;&#1086;&#1077;&#1085;&#1085;&#1099;&#1081;%29" TargetMode="Externa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74;&#1077;&#1096;&#1077;&#1085;&#1080;&#1077;" TargetMode="External"/><Relationship Id="rId2" Type="http://schemas.openxmlformats.org/officeDocument/2006/relationships/hyperlink" Target="http://ru.wikipedia.org/wiki/&#1059;&#1090;&#1086;&#1087;&#1083;&#1077;&#1085;&#1080;&#1077;" TargetMode="External"/><Relationship Id="rId3" Type="http://schemas.openxmlformats.org/officeDocument/2006/relationships/hyperlink" Target="http://ru.wikipedia.org/wiki/&#1054;&#1090;&#1088;&#1072;&#1074;&#1083;&#1077;&#1085;&#1080;&#1077;" TargetMode="External"/><Relationship Id="rId4" Type="http://schemas.openxmlformats.org/officeDocument/2006/relationships/hyperlink" Target="http://ru.wikipedia.org/wiki/&#1065;&#1105;&#1083;&#1086;&#1095;&#1100;" TargetMode="External"/><Relationship Id="rId5" Type="http://schemas.openxmlformats.org/officeDocument/2006/relationships/hyperlink" Target="http://ru.wikipedia.org/wiki/&#1050;&#1080;&#1089;&#1083;&#1086;&#1090;&#1072;" TargetMode="External"/><Relationship Id="rId6" Type="http://schemas.openxmlformats.org/officeDocument/2006/relationships/hyperlink" Target="http://ru.wikipedia.org/w/index.php?title=&#1057;&#1072;&#1084;&#1086;&#1089;&#1086;&#1078;&#1078;&#1077;&#1085;&#1080;&#1077;&amp;action=edit&amp;redlink=1" TargetMode="External"/><Relationship Id="rId7" Type="http://schemas.openxmlformats.org/officeDocument/2006/relationships/hyperlink" Target="http://ru.wikipedia.org/wiki/&#1043;&#1086;&#1083;&#1086;&#1076;" TargetMode="External"/><Relationship Id="rId8" Type="http://schemas.openxmlformats.org/officeDocument/2006/relationships/hyperlink" Target="http://ru.wikipedia.org/wiki/&#1046;&#1072;&#1078;&#1076;&#1072;" TargetMode="External"/><Relationship Id="rId9" Type="http://schemas.openxmlformats.org/officeDocument/2006/relationships/hyperlink" Target="http://ru.wikipedia.org/wiki/&#1057;&#1101;&#1087;&#1087;&#1091;&#1082;&#1091;" TargetMode="External"/><Relationship Id="rId10" Type="http://schemas.openxmlformats.org/officeDocument/2006/relationships/hyperlink" Target="http://ru.wikipedia.org/wiki/&#1071;&#1087;&#1086;&#1085;&#1080;&#1103;" TargetMode="External"/><Relationship Id="rId11" Type="http://schemas.openxmlformats.org/officeDocument/2006/relationships/hyperlink" Target="http://ru.wikipedia.org/w/index.php?title=&#1055;&#1072;&#1076;&#1077;&#1085;&#1080;&#1077;_&#1085;&#1072;_&#1084;&#1077;&#1095;&amp;action=edit&amp;redlink=1" TargetMode="External"/><Relationship Id="rId12" Type="http://schemas.openxmlformats.org/officeDocument/2006/relationships/hyperlink" Target="http://ru.wikipedia.org/wiki/&#1044;&#1088;&#1077;&#1074;&#1085;&#1080;&#1081;_&#1056;&#1080;&#1084;" TargetMode="External"/><Relationship Id="rId13" Type="http://schemas.openxmlformats.org/officeDocument/2006/relationships/hyperlink" Target="http://ru.wikipedia.org/wiki/&#1042;&#1089;&#1082;&#1088;&#1099;&#1090;&#1080;&#1077;_&#1074;&#1077;&#1085;" TargetMode="External"/><Relationship Id="rId14" Type="http://schemas.openxmlformats.org/officeDocument/2006/relationships/hyperlink" Target="http://ru.wikipedia.org/wiki/&#1055;&#1086;&#1077;&#1079;&#1076;" TargetMode="External"/><Relationship Id="rId15" Type="http://schemas.openxmlformats.org/officeDocument/2006/relationships/hyperlink" Target="http://ru.wikipedia.org/wiki/&#1040;&#1074;&#1090;&#1086;&#1084;&#1086;&#1073;&#1080;&#1083;&#1100;" TargetMode="External"/><Relationship Id="rId16" Type="http://schemas.openxmlformats.org/officeDocument/2006/relationships/hyperlink" Target="http://ru.wikipedia.org/wiki/&#1069;&#1083;&#1077;&#1082;&#1090;&#1088;&#1080;&#1095;&#1077;&#1089;&#1090;&#1074;&#1086;" TargetMode="External"/><Relationship Id="rId17" Type="http://schemas.openxmlformats.org/officeDocument/2006/relationships/hyperlink" Target="http://ru.wikipedia.org/wiki/&#1063;&#1072;&#1089;&#1086;&#1074;&#1086;&#1081;" TargetMode="Externa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4;&#1080;&#1082;&#1072;&#1076;&#1079;&#1077;" TargetMode="External"/><Relationship Id="rId2" Type="http://schemas.openxmlformats.org/officeDocument/2006/relationships/hyperlink" Target="http://ru.wikipedia.org/wiki/&#1040;&#1083;&#1077;&#1082;&#1089;&#1072;&#1085;&#1076;&#1088;_&#1052;&#1072;&#1090;&#1088;&#1086;&#1089;&#1086;&#1074;" TargetMode="External"/><Relationship Id="rId3" Type="http://schemas.openxmlformats.org/officeDocument/2006/relationships/hyperlink" Target="http://ru.wikipedia.org/wiki/&#1052;&#1091;&#1095;&#1077;&#1085;&#1080;&#1082;&#1080;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9;&#1089;&#1072;&#1076;&#1072;" TargetMode="External"/><Relationship Id="rId2" Type="http://schemas.openxmlformats.org/officeDocument/2006/relationships/hyperlink" Target="http://ru.wikipedia.org/wiki/&#1057;&#1090;&#1072;&#1088;&#1086;&#1074;&#1077;&#1088;&#1099;" TargetMode="External"/><Relationship Id="rId3" Type="http://schemas.openxmlformats.org/officeDocument/2006/relationships/hyperlink" Target="http://ru.wikipedia.org/wiki/&#1061;&#1072;&#1088;&#1072;&#1082;&#1080;&#1088;&#1080;" TargetMode="External"/><Relationship Id="rId4" Type="http://schemas.openxmlformats.org/officeDocument/2006/relationships/hyperlink" Target="http://ru.wikipedia.org/wiki/&#1044;&#1078;&#1086;&#1085;&#1089;&#1090;&#1072;&#1091;&#1085;" TargetMode="External"/><Relationship Id="rId5" Type="http://schemas.openxmlformats.org/officeDocument/2006/relationships/hyperlink" Target="http://ru.wikipedia.org/wiki/&#1043;&#1072;&#1081;&#1072;&#1085;&#1072;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doni MT"/>
              </a:rPr>
              <a:t>Самоуби́йство</a:t>
            </a:r>
            <a:r>
              <a:rPr b="0" lang="ru-RU" sz="2400" spc="-1" strike="noStrike">
                <a:solidFill>
                  <a:srgbClr val="800000"/>
                </a:solidFill>
                <a:latin typeface="Bodoni MT"/>
              </a:rPr>
              <a:t>, </a:t>
            </a:r>
            <a:r>
              <a:rPr b="1" lang="ru-RU" sz="2400" spc="-1" strike="noStrike">
                <a:solidFill>
                  <a:srgbClr val="800000"/>
                </a:solidFill>
                <a:latin typeface="Bodoni MT"/>
              </a:rPr>
              <a:t>Суици́д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(от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лат.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ru-RU" sz="2400" spc="-1" strike="noStrike">
                <a:solidFill>
                  <a:srgbClr val="999933"/>
                </a:solidFill>
                <a:latin typeface="Bodoni MT"/>
              </a:rPr>
              <a:t>sui caedere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 — убивать себя) — самостоятельное и целенаправленное лишение себя жизни, как правило, добровольное, хотя бывают и случаи вынужденного самоуби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istarii8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3851280"/>
          </a:xfrm>
          <a:prstGeom prst="rect">
            <a:avLst/>
          </a:prstGeom>
          <a:ln w="0">
            <a:noFill/>
          </a:ln>
        </p:spPr>
      </p:pic>
      <p:pic>
        <p:nvPicPr>
          <p:cNvPr id="95" name="005 Znaki Voprosa - For Sex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ко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амоубийц предварительно дают знать о своих намерениях окружающим, хотя способы сообщения об этом могут быть завуалиров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У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кончивших с собой, один из родителей был самоубий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2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сле неудачной попытки суицида в течение двух лет повторяют ее и достигают желаемого.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кончивших с собой, пытались сделать это в прошлом по крайней мере однаж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В окружении каждого человека, покончившего с собой, в среднем остается 6 человек, для которых его самоубийство является тяжелой душевной трав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 начал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ека наблюдается постоянное и равномерное возрастание статистики самоубийств во всех странах ми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о прогнозам, к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2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ежегодно будут кончать самоубийством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 500 000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 человек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уициды среди молодежи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За последнее десятилетие число самоубийств среди молодежи выросло в 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раза. Основные причины суицида:  неразделенная любовь,  конфликты с родителями и сверстниками, страх перед будущим, одиночество. Ежегодно, каждый двенадцатый подросток в возрасте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5-19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лет пытается совершить попытку самоубийства. По абсолютному количеству подростковых самоубийств Россия занимает первое мест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сех суицидов приходится на лето и весну. Может быть потому, что именно в этот период особенно заметен контраст между  расцветом природы и неизменностью внутреннего состоя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читается, что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Bodoni MT"/>
              </a:rPr>
              <a:t>болезнью самоубийц является депрессия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—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7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депрессивных больных обнаруживают суицидальные тенденции,  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5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з них совершают самоубийства. Поэтому </a:t>
            </a:r>
            <a:r>
              <a:rPr b="1" lang="ru-RU" sz="2000" spc="-1" strike="noStrike">
                <a:solidFill>
                  <a:srgbClr val="800000"/>
                </a:solidFill>
                <a:latin typeface="Bodoni MT"/>
              </a:rPr>
              <a:t>проблема самоубийств — это проблема депрессий</a:t>
            </a:r>
            <a:r>
              <a:rPr b="0" lang="ru-RU" sz="2000" spc="-1" strike="noStrike">
                <a:solidFill>
                  <a:srgbClr val="800000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005 Znaki Voprosa - For Sex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doni MT"/>
              </a:rPr>
              <a:t>Прослеживается связь </a:t>
            </a: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числа самоубийств с возрастом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6" name="Picture 4" descr="Статистика самоубийств (мужчины)"/>
          <p:cNvPicPr/>
          <p:nvPr/>
        </p:nvPicPr>
        <p:blipFill>
          <a:blip r:embed="rId1"/>
          <a:stretch/>
        </p:blipFill>
        <p:spPr>
          <a:xfrm>
            <a:off x="0" y="1600200"/>
            <a:ext cx="4543560" cy="2266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Статистика самоубийств (женщины)"/>
          <p:cNvPicPr/>
          <p:nvPr/>
        </p:nvPicPr>
        <p:blipFill>
          <a:blip r:embed="rId2"/>
          <a:stretch/>
        </p:blipFill>
        <p:spPr>
          <a:xfrm>
            <a:off x="4600440" y="1600200"/>
            <a:ext cx="4543560" cy="2266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396144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33"/>
                </a:solidFill>
                <a:latin typeface="Bodoni MT"/>
              </a:rPr>
              <a:t>Семейное положение.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По статистике, состоящие в браке кончают с собой значительно реже, нежели холостые или разведенные. Высокий уровень самоубийств у тех, кто потерял партнера - они кончают с собой в три раза чаще, чем семейн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45820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татистика самоубийств в мире, 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в России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Всемирная организации здравоохранения, приводя данные з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, отмечает, что количество самоубийств в Японии состав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4,1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тыс. человек. По этому показателю Страна восходящего солнца уступала тогда лишь России, где число самоубийств состав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9,4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тыс. человек. В США данный показатель составлял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,4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тыс.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ледует отметить, что Россия в последнее время находилась в мировых лидерах по количеству самоубийств. Всего с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5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 в России покончили с собой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500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тыс. человек. Если учесть, что, по статистике, из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пыток самоубийства только одна приводит к смерти, то получается, что за последние годы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 млн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человек пытались наложить на себя ру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62120" y="403740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Количество самоубийств в России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раза больше, чем в среднем в мире. Причем мужчины убивают себя в 6 раз чаще, чем женщины. Более половины ушедших из жизни — это молодые люди,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лет. Всего по стране ежегодно кончают жизнь самоубийством око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8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днако в последние годы в России наблюдается постепенное снижение количества случаев самоубийств как в абсолютном, так и в относительном выражении. Так если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2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 число самоубийств резко возросло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6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жителей,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4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 оно состав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2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лучая самоубийств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,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9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 —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9,4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,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7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 оно упало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6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 Наиболее благополучными в этом плане регионами являются республики Северного Кавказа, Москва (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1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лучаев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 и Санкт-Петербург (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8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Новые времена"/>
          <p:cNvPicPr/>
          <p:nvPr/>
        </p:nvPicPr>
        <p:blipFill>
          <a:blip r:embed="rId1"/>
          <a:stretch/>
        </p:blipFill>
        <p:spPr>
          <a:xfrm>
            <a:off x="6019920" y="1523880"/>
            <a:ext cx="312408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По официальной статистике, каждый год кончают жизнь самоубийством </a:t>
            </a:r>
            <a:r>
              <a:rPr b="1" lang="ru-RU" sz="2400" spc="-1" strike="noStrike">
                <a:solidFill>
                  <a:srgbClr val="999933"/>
                </a:solidFill>
                <a:latin typeface="Bodoni MT"/>
              </a:rPr>
              <a:t>1 000 000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 человек. 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Среди них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28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китайце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6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русских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3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американце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25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японце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2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французо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10 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тысяч украин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Официальная статистика суицида значительно отличается от реальных цифр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(приблизительно 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в </a:t>
            </a:r>
            <a:r>
              <a:rPr b="1" lang="ru-RU" sz="2400" spc="-1" strike="noStrike">
                <a:solidFill>
                  <a:srgbClr val="999933"/>
                </a:solidFill>
                <a:latin typeface="Bodoni MT"/>
              </a:rPr>
              <a:t>4 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раза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), поскольку в нее попадают только явные случаи суицида. По мнению судебных экспертов,  причиной большинства так называемых "смертей от несчастного случая" (передозировка лекарственных препаратов, автомобильные аварии, падение с высоты и т.д) на самом деле являются суициды. Также никто 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фиксирует неудачные попытки суицида, число которых по разным оценкам в </a:t>
            </a:r>
            <a:r>
              <a:rPr b="1" lang="ru-RU" sz="2400" spc="-1" strike="noStrike">
                <a:solidFill>
                  <a:srgbClr val="999933"/>
                </a:solidFill>
                <a:latin typeface="Bodoni MT"/>
              </a:rPr>
              <a:t>10-20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 раз больше,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чем законченных самоуби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амоубийство в животном мире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юль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2005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а —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5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овец синхронно спрыгнули в пропасть в Турции, причём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5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з них погиб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звестны неоднократные массовые выбрасывания китов на берег. Однако нет точных данных, является ли это и в самом деле желанем животных покончить с жизнью, либо сбоем в достаточно сложной системе биолокации (получение ложных эхо-сигналов, приводящих к дезориентации животног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Регулярные «самоубийства» леммин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Древние времена"/>
          <p:cNvPicPr/>
          <p:nvPr/>
        </p:nvPicPr>
        <p:blipFill>
          <a:blip r:embed="rId1"/>
          <a:stretch/>
        </p:blipFill>
        <p:spPr>
          <a:xfrm>
            <a:off x="5486400" y="3548160"/>
            <a:ext cx="3657600" cy="3309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Мы не можем вырвать ни одной страницы из нашей жизни, хотя легко можем бросить в огонь самую книгу /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Ж. Санд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25360" y="89928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Убийца убивает человека, самоубийца – человечество /</a:t>
            </a:r>
            <a:r>
              <a:rPr b="0" lang="en-US" sz="2000" spc="-1" strike="noStrike">
                <a:solidFill>
                  <a:srgbClr val="999933"/>
                </a:solidFill>
                <a:latin typeface="Bodoni MT"/>
              </a:rPr>
              <a:t>Г.Честертон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838080" y="1446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еред удачливыми открыты все двери, перед неудачливыми - все окна  /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В. Верховский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11760" y="2056320"/>
            <a:ext cx="83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мейте мужество жить. Умереть-то любой может  /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Роберт Коди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7" descr="Самоубийство. Афоризмы"/>
          <p:cNvPicPr/>
          <p:nvPr/>
        </p:nvPicPr>
        <p:blipFill>
          <a:blip r:embed="rId1"/>
          <a:stretch/>
        </p:blipFill>
        <p:spPr>
          <a:xfrm>
            <a:off x="2743200" y="2819520"/>
            <a:ext cx="3333600" cy="3705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опытка убить себя, которая не удалась, называются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попыткой</a:t>
            </a:r>
            <a:r>
              <a:rPr b="0" i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самоубийства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пытка самоубийства называется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серьёзной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если она могла привести к смерти с большой вероятностью. Попытки самоубийства опасны, потому что часто приводят к разрушению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здоровья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Кроме того, люди, совершившие попытку самоубийства, часто в дальнейшем совершают самоубий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Эпоха античности"/>
          <p:cNvPicPr/>
          <p:nvPr/>
        </p:nvPicPr>
        <p:blipFill>
          <a:blip r:embed="rId2"/>
          <a:stretch/>
        </p:blipFill>
        <p:spPr>
          <a:xfrm>
            <a:off x="5810400" y="4800600"/>
            <a:ext cx="3333600" cy="2057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762120" y="243720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репятствием для совершения суицида могут являться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антисуицидальные</a:t>
            </a:r>
            <a:r>
              <a:rPr b="0" i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факторы личности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обесценивающие самоубийство как способ разрешения проблем и формирующие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антисуицидальный</a:t>
            </a:r>
            <a:r>
              <a:rPr b="0" i="1" lang="ru-RU" sz="2000" spc="-1" strike="noStrike">
                <a:solidFill>
                  <a:srgbClr val="ffffff"/>
                </a:solidFill>
                <a:latin typeface="Bodoni MT"/>
              </a:rPr>
              <a:t> барьер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 Как правило, такими факторами являются нереализованные творческие планы, боязнь причинить душевную боль родным и близким, неуверенность в надёжности выбранного способа самоубийства, а также религиозные и социальные табу, связанные с проблемой смерти и самоубий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Подготов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При истинном суициде намерение покончить с собой развивается в течение длительного времени — подготовка к нему может занимать от нескольких дней до нескольких лет. Суицидент долго анализирует причины и возможные последствия самоубийства, рассматривает различные способы и оценивает их эффективность и надёжность, планирует наиболее надёжный сценарий суицидального 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Непосредственно перед актом самоубийства у суицидента может проявиться так называемое </a:t>
            </a:r>
            <a:r>
              <a:rPr b="0" i="1" lang="ru-RU" sz="2400" spc="-1" strike="noStrike">
                <a:solidFill>
                  <a:srgbClr val="999933"/>
                </a:solidFill>
                <a:latin typeface="Bodoni MT"/>
              </a:rPr>
              <a:t>терминальное поведение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 — человек как бы «приводит в порядок» свою жизнь: отдаёт долги, закрывает счёт в банке, просит прощения у давних врагов, затевает генеральную уборку в квартире и т. 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Причин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Основные из ни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Неурядицы в личной жизн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несчастная любов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непонимание окружающи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облемы на работ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целенаправленная травля (в том числе доведение до самоубийств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физические издевательства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изнасилован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побо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отеря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смысла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Финансовые пробл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облемы со здоровьем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Эвтаназ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в штате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4"/>
              </a:rPr>
              <a:t>Флорид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5"/>
              </a:rPr>
              <a:t>СШ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также формально является самоубийством, так как, согласно закону, больной должен вводить препарат себе са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Религиозный фанатизм (обычно распространённый в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6"/>
              </a:rPr>
              <a:t>сектах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, ритуальное самоубий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сихические болезни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7"/>
              </a:rPr>
              <a:t>депресс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8"/>
              </a:rPr>
              <a:t>биполярное аффективное расстройство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9"/>
              </a:rPr>
              <a:t>шизофрен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деологические (политические, неприятие ценностей социума в цело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Военные (самоубийство с целью нанесения урона противнику</a:t>
            </a:r>
            <a:r>
              <a:rPr b="0" lang="en-US" sz="1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ли избежания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0"/>
              </a:rPr>
              <a:t>плен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Вынужденное самоубийство (по приговору суда, под угрозой мучительной смерти или расправы с близкими родственник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одражательное самоубийство (после аналогичных смертей известных личност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пособ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Повешение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Удушение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Уто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Химическое воздействие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Отравление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. В зависимости от препарата действует от нескольких секунд до нескольких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ильная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4"/>
              </a:rPr>
              <a:t>щёлочь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ли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5"/>
              </a:rPr>
              <a:t>кислот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. При употреблении разъедает внутренние органы. Действует от нескольких минут до нескольких часов. Чрезвычайно болезненный спосо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ыжок и падение с высоких зданий, скал, мостов и других возвы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амоубийство при помощи огнестрельного оруж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амоубийство путём подрыва в непосредственной близи от себя заряда взрывчатого ве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6"/>
              </a:rPr>
              <a:t>Самосож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Cамоубийство путём доведения себя до физического истощения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7"/>
              </a:rPr>
              <a:t>голодом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ли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8"/>
              </a:rPr>
              <a:t>жаждой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амоубийство при помощи холодного оруж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9"/>
              </a:rPr>
              <a:t>Сэппуку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ли харакири — ритуальное самоубийство в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0"/>
              </a:rPr>
              <a:t>Япо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1"/>
              </a:rPr>
              <a:t>Падение на меч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(в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2"/>
              </a:rPr>
              <a:t>Древнем Риме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3"/>
              </a:rPr>
              <a:t>Вскрытие вен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(человек умирает от потери кров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спользование технических средст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ыжок под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4"/>
              </a:rPr>
              <a:t>поезд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под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5"/>
              </a:rPr>
              <a:t>машину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 т. 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спользование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6"/>
              </a:rPr>
              <a:t>электри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Отключение больным аппаратуры поддержания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«Полицейское самоубийство» — нападение на сотрудника правоохранительных органов, охранника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7"/>
              </a:rPr>
              <a:t>часового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с целью спровоцировать его на применение оруж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381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амопожертвование и самоубийство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меет распространение позиция, не отождествляющая с самоубийством самопожертвование. Например, это относится к смерти японских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камикадзе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 других лиц, сознательно отдавших свою жизнь ради идеалов (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Александр Матросов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 другие),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мучеников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Средневековье"/>
          <p:cNvPicPr/>
          <p:nvPr/>
        </p:nvPicPr>
        <p:blipFill>
          <a:blip r:embed="rId4"/>
          <a:stretch/>
        </p:blipFill>
        <p:spPr>
          <a:xfrm>
            <a:off x="4495680" y="3429000"/>
            <a:ext cx="464832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246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Массовые самоубийства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ко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евреев на горе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Массада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 I веке н.э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редпочли самоубийство римскому рабст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амосожжения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староверов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 XVII—XVIII ве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Массовое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харакири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японцев (число покончивших с жизнью в различных источниках варьируется от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5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 после подписания капитуляции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45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екта «Народный храм» (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912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человек) в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4"/>
              </a:rPr>
              <a:t>Джонстауне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(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5"/>
              </a:rPr>
              <a:t>Гайана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78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екта «Ветвь Давидова» (самосожжение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7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человек)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Музыка Суицида"/>
          <p:cNvPicPr/>
          <p:nvPr/>
        </p:nvPicPr>
        <p:blipFill>
          <a:blip r:embed="rId6"/>
          <a:stretch/>
        </p:blipFill>
        <p:spPr>
          <a:xfrm>
            <a:off x="6553080" y="4038480"/>
            <a:ext cx="2590920" cy="281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325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Закономерности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Как правило самоубиства происходят с воскресенья на понедельник, что видимо связано с началом новой недели - новых проблем, и попытки "решить все проблемы разом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В случае неудачного самоубиства - основные рецидивы случаются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7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й и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й день, что связано с физиологией орган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54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213200" y="2361240"/>
            <a:ext cx="383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Врем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Первая половина дня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2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Вторая половина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4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Ночь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4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447920" y="3427560"/>
            <a:ext cx="266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Прощальные</a:t>
            </a: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записки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оставляют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44% самоубийц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ни адресованы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«всем»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-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%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близким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2%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ачальникам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%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икому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28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Алкоголь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ри жизни употреб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амоубийц, хотя непосредственно перед самоубийством алкоголь употребляется только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лучаев, наркотики –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Материальное обеспечение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Удовлетворительное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4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Неудовлетворительное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56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Уровень жизни и количество самоубийств не связаны между собой - так одна из самых высокоразвитых и богатых стран Европы - Швеция на протяжении десяти лет является одним из лидеров по числу суицидов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Сексуальная ориентация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 данным исследований, которые проводились в США, геи совершают попытки самоубийства в 7 раз чаще, чем натур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Образование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люди с высоким уровнем образования менее склонны к суициду. Самая опасная группа - люди с неполным средним образова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Взаимоотношени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Общались с широким кругом людей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4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С несколькими людьми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0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Были замкнуты и избегали общения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Музыка Суицида"/>
          <p:cNvPicPr/>
          <p:nvPr/>
        </p:nvPicPr>
        <p:blipFill>
          <a:blip r:embed="rId1"/>
          <a:stretch/>
        </p:blipFill>
        <p:spPr>
          <a:xfrm>
            <a:off x="6934320" y="426708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0-02-15T08:46:4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