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3A91-D582-4AF4-A1D8-BFB12F19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F82D-A072-4C1D-BF45-C74C1CE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B95E-7C02-49CF-B136-A2700B57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38FC-5CD7-44E3-8B41-8BCA6A12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DE992-2B43-4F66-B317-5E6E59D0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B047-CF12-4FE1-852D-2BC8433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E1C8-4752-4CB6-8D83-0122B5D2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34784-C6B5-4297-8B18-91FA8D0A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8A50-58B9-405D-B285-13EA005A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C14BA-122E-4683-B5AE-6EF7B39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ADC18-AF98-4AC3-BA64-86152D3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E811-83F4-4379-A111-EF6CBD2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214F0-3E49-4AC0-8C7F-75E45CA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AB32C-D658-4FDB-8FB2-03D91B2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E4A32-1A46-4B37-9A6E-9E44036C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FF4D5-9C55-4DF3-9A8B-B1F124D4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B99F-DD96-4ED5-8070-59B43DAD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03AA-4B6C-48A4-B7F2-9C36E5C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2DD7-2BB8-42AC-91D5-953A75F5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7CDB-D1BE-4588-9DD6-2BEE9AB5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772E-6FA4-4B15-BBA5-8A6CDCD3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5E34-79EE-4AFF-A304-B167BFB3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2EF2-BEE0-4758-83FA-65242FB4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C7A4-AB91-450C-9404-1C42C470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EBF8-F4B9-4305-913D-6B50F64FE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8B0-6986-4FB0-8163-1AC1D34DF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6;&#1086;&#1088;&#1086;&#1074;&#1100;&#1077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5;&#1072;&#1089;&#1080;&#1083;&#1086;&#1074;&#1072;&#1085;&#1080;&#1077;" TargetMode="External"/><Relationship Id="rId2" Type="http://schemas.openxmlformats.org/officeDocument/2006/relationships/hyperlink" Target="http://ru.wikipedia.org/wiki/&#1057;&#1084;&#1099;&#1089;&#1083;_&#1078;&#1080;&#1079;&#1085;&#1080;" TargetMode="External"/><Relationship Id="rId3" Type="http://schemas.openxmlformats.org/officeDocument/2006/relationships/hyperlink" Target="http://ru.wikipedia.org/wiki/&#1069;&#1074;&#1090;&#1072;&#1085;&#1072;&#1079;&#1080;&#1103;" TargetMode="External"/><Relationship Id="rId4" Type="http://schemas.openxmlformats.org/officeDocument/2006/relationships/hyperlink" Target="http://ru.wikipedia.org/wiki/&#1060;&#1083;&#1086;&#1088;&#1080;&#1076;&#1072;" TargetMode="External"/><Relationship Id="rId5" Type="http://schemas.openxmlformats.org/officeDocument/2006/relationships/hyperlink" Target="http://ru.wikipedia.org/wiki/&#1057;&#1064;&#1040;" TargetMode="External"/><Relationship Id="rId6" Type="http://schemas.openxmlformats.org/officeDocument/2006/relationships/hyperlink" Target="http://ru.wikipedia.org/wiki/&#1057;&#1077;&#1082;&#1090;&#1072;" TargetMode="External"/><Relationship Id="rId7" Type="http://schemas.openxmlformats.org/officeDocument/2006/relationships/hyperlink" Target="http://ru.wikipedia.org/wiki/&#1044;&#1077;&#1087;&#1088;&#1077;&#1089;&#1089;&#1080;&#1103;" TargetMode="External"/><Relationship Id="rId8" Type="http://schemas.openxmlformats.org/officeDocument/2006/relationships/hyperlink" Target="http://ru.wikipedia.org/wiki/&#1041;&#1080;&#1087;&#1086;&#1083;&#1103;&#1088;&#1085;&#1086;&#1077;_&#1072;&#1092;&#1092;&#1077;&#1082;&#1090;&#1080;&#1074;&#1085;&#1086;&#1077;_&#1088;&#1072;&#1089;&#1089;&#1090;&#1088;&#1086;&#1081;&#1089;&#1090;&#1074;&#1086;" TargetMode="External"/><Relationship Id="rId9" Type="http://schemas.openxmlformats.org/officeDocument/2006/relationships/hyperlink" Target="http://ru.wikipedia.org/wiki/&#1064;&#1080;&#1079;&#1086;&#1092;&#1088;&#1077;&#1085;&#1080;&#1103;" TargetMode="External"/><Relationship Id="rId10" Type="http://schemas.openxmlformats.org/officeDocument/2006/relationships/hyperlink" Target="http://ru.wikipedia.org/wiki/&#1055;&#1083;&#1077;&#1085;_%28&#1074;&#1086;&#1077;&#1085;&#1085;&#1099;&#1081;%29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77;&#1096;&#1077;&#1085;&#1080;&#1077;" TargetMode="External"/><Relationship Id="rId2" Type="http://schemas.openxmlformats.org/officeDocument/2006/relationships/hyperlink" Target="http://ru.wikipedia.org/wiki/&#1059;&#1090;&#1086;&#1087;&#1083;&#1077;&#1085;&#1080;&#1077;" TargetMode="External"/><Relationship Id="rId3" Type="http://schemas.openxmlformats.org/officeDocument/2006/relationships/hyperlink" Target="http://ru.wikipedia.org/wiki/&#1054;&#1090;&#1088;&#1072;&#1074;&#1083;&#1077;&#1085;&#1080;&#1077;" TargetMode="External"/><Relationship Id="rId4" Type="http://schemas.openxmlformats.org/officeDocument/2006/relationships/hyperlink" Target="http://ru.wikipedia.org/wiki/&#1065;&#1105;&#1083;&#1086;&#1095;&#1100;" TargetMode="External"/><Relationship Id="rId5" Type="http://schemas.openxmlformats.org/officeDocument/2006/relationships/hyperlink" Target="http://ru.wikipedia.org/wiki/&#1050;&#1080;&#1089;&#1083;&#1086;&#1090;&#1072;" TargetMode="External"/><Relationship Id="rId6" Type="http://schemas.openxmlformats.org/officeDocument/2006/relationships/hyperlink" Target="http://ru.wikipedia.org/w/index.php?title=&#1057;&#1072;&#1084;&#1086;&#1089;&#1086;&#1078;&#1078;&#1077;&#1085;&#1080;&#1077;&amp;action=edit&amp;redlink=1" TargetMode="External"/><Relationship Id="rId7" Type="http://schemas.openxmlformats.org/officeDocument/2006/relationships/hyperlink" Target="http://ru.wikipedia.org/wiki/&#1043;&#1086;&#1083;&#1086;&#1076;" TargetMode="External"/><Relationship Id="rId8" Type="http://schemas.openxmlformats.org/officeDocument/2006/relationships/hyperlink" Target="http://ru.wikipedia.org/wiki/&#1046;&#1072;&#1078;&#1076;&#1072;" TargetMode="External"/><Relationship Id="rId9" Type="http://schemas.openxmlformats.org/officeDocument/2006/relationships/hyperlink" Target="http://ru.wikipedia.org/wiki/&#1057;&#1101;&#1087;&#1087;&#1091;&#1082;&#1091;" TargetMode="External"/><Relationship Id="rId10" Type="http://schemas.openxmlformats.org/officeDocument/2006/relationships/hyperlink" Target="http://ru.wikipedia.org/wiki/&#1071;&#1087;&#1086;&#1085;&#1080;&#1103;" TargetMode="External"/><Relationship Id="rId11" Type="http://schemas.openxmlformats.org/officeDocument/2006/relationships/hyperlink" Target="http://ru.wikipedia.org/w/index.php?title=&#1055;&#1072;&#1076;&#1077;&#1085;&#1080;&#1077;_&#1085;&#1072;_&#1084;&#1077;&#1095;&amp;action=edit&amp;redlink=1" TargetMode="External"/><Relationship Id="rId12" Type="http://schemas.openxmlformats.org/officeDocument/2006/relationships/hyperlink" Target="http://ru.wikipedia.org/wiki/&#1044;&#1088;&#1077;&#1074;&#1085;&#1080;&#1081;_&#1056;&#1080;&#1084;" TargetMode="External"/><Relationship Id="rId13" Type="http://schemas.openxmlformats.org/officeDocument/2006/relationships/hyperlink" Target="http://ru.wikipedia.org/wiki/&#1042;&#1089;&#1082;&#1088;&#1099;&#1090;&#1080;&#1077;_&#1074;&#1077;&#1085;" TargetMode="External"/><Relationship Id="rId14" Type="http://schemas.openxmlformats.org/officeDocument/2006/relationships/hyperlink" Target="http://ru.wikipedia.org/wiki/&#1055;&#1086;&#1077;&#1079;&#1076;" TargetMode="External"/><Relationship Id="rId15" Type="http://schemas.openxmlformats.org/officeDocument/2006/relationships/hyperlink" Target="http://ru.wikipedia.org/wiki/&#1040;&#1074;&#1090;&#1086;&#1084;&#1086;&#1073;&#1080;&#1083;&#1100;" TargetMode="External"/><Relationship Id="rId16" Type="http://schemas.openxmlformats.org/officeDocument/2006/relationships/hyperlink" Target="http://ru.wikipedia.org/wiki/&#1069;&#1083;&#1077;&#1082;&#1090;&#1088;&#1080;&#1095;&#1077;&#1089;&#1090;&#1074;&#1086;" TargetMode="External"/><Relationship Id="rId17" Type="http://schemas.openxmlformats.org/officeDocument/2006/relationships/hyperlink" Target="http://ru.wikipedia.org/wiki/&#1063;&#1072;&#1089;&#1086;&#1074;&#1086;&#1081;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4;&#1080;&#1082;&#1072;&#1076;&#1079;&#1077;" TargetMode="External"/><Relationship Id="rId2" Type="http://schemas.openxmlformats.org/officeDocument/2006/relationships/hyperlink" Target="http://ru.wikipedia.org/wiki/&#1040;&#1083;&#1077;&#1082;&#1089;&#1072;&#1085;&#1076;&#1088;_&#1052;&#1072;&#1090;&#1088;&#1086;&#1089;&#1086;&#1074;" TargetMode="External"/><Relationship Id="rId3" Type="http://schemas.openxmlformats.org/officeDocument/2006/relationships/hyperlink" Target="http://ru.wikipedia.org/wiki/&#1052;&#1091;&#1095;&#1077;&#1085;&#1080;&#1082;&#1080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9;&#1089;&#1072;&#1076;&#1072;" TargetMode="External"/><Relationship Id="rId2" Type="http://schemas.openxmlformats.org/officeDocument/2006/relationships/hyperlink" Target="http://ru.wikipedia.org/wiki/&#1057;&#1090;&#1072;&#1088;&#1086;&#1074;&#1077;&#1088;&#1099;" TargetMode="External"/><Relationship Id="rId3" Type="http://schemas.openxmlformats.org/officeDocument/2006/relationships/hyperlink" Target="http://ru.wikipedia.org/wiki/&#1061;&#1072;&#1088;&#1072;&#1082;&#1080;&#1088;&#1080;" TargetMode="External"/><Relationship Id="rId4" Type="http://schemas.openxmlformats.org/officeDocument/2006/relationships/hyperlink" Target="http://ru.wikipedia.org/wiki/&#1044;&#1078;&#1086;&#1085;&#1089;&#1090;&#1072;&#1091;&#1085;" TargetMode="External"/><Relationship Id="rId5" Type="http://schemas.openxmlformats.org/officeDocument/2006/relationships/hyperlink" Target="http://ru.wikipedia.org/wiki/&#1043;&#1072;&#1081;&#1072;&#1085;&#1072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амоуби́йство</a:t>
            </a:r>
            <a:r>
              <a:rPr b="0" lang="ru-RU" sz="2400" spc="-1" strike="noStrike">
                <a:solidFill>
                  <a:srgbClr val="800000"/>
                </a:solidFill>
                <a:latin typeface="Bodoni MT"/>
              </a:rPr>
              <a:t>, </a:t>
            </a: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уици́д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от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sui caedere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убивать себя) — самостоятельное и целенаправленное лишение себя жизни, как правило, добровольное, хотя бывают и случаи вынужденного самоуби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istarii8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51280"/>
          </a:xfrm>
          <a:prstGeom prst="rect">
            <a:avLst/>
          </a:prstGeom>
          <a:ln w="0">
            <a:noFill/>
          </a:ln>
        </p:spPr>
      </p:pic>
      <p:pic>
        <p:nvPicPr>
          <p:cNvPr id="95" name="005 Znaki Voprosa - For Sex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 предварительно дают знать о своих намерениях окружающим, хотя способы сообщения об этом могут быть завуалир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У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один из родителей был самоубий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сле неудачной попытки суицида в течение двух лет повторяют ее и достигают желаемого.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пытались сделать это в прошлом по крайней мере одна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окружении каждого человека, покончившего с собой, в среднем остается 6 человек, для которых его самоубийство является тяжелой душевной трав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 начал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ека наблюдается постоянное и равномерное возрастание статистики самоубийств во всех страна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 прогнозам, к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жегодно будут кончать самоубийством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 500 000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человек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уициды среди молодеж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За последнее десятилетие число самоубийств среди молодежи выросло в 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. Основные причины суицида:  неразделенная любовь,  конфликты с родителями и сверстниками, страх перед будущим, одиночество. Ежегодно, каждый двенадцатый подросток в возраст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-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 пытается совершить попытку самоубийства. По абсолютному количеству подростковых самоубийств Россия занимает первое мест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сех суицидов приходится на лето и весну. Может быть потому, что именно в этот период особенно заметен контраст между  расцветом природы и неизменностью внутреннего состоя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читается, что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болезнью самоубийц является депрессия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—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прессивных больных обнаруживают суицидальные тенденции,  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совершают самоубийства. Поэтому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проблема самоубийств — это проблема депрессий</a:t>
            </a:r>
            <a:r>
              <a:rPr b="0" lang="ru-RU" sz="2000" spc="-1" strike="noStrike">
                <a:solidFill>
                  <a:srgbClr val="800000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05 Znaki Voprosa - For Sex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doni MT"/>
              </a:rPr>
              <a:t>Прослеживается связь </a:t>
            </a: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числа самоубийств с возрастом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6" name="Picture 4" descr="Статистика самоубийств (мужчины)"/>
          <p:cNvPicPr/>
          <p:nvPr/>
        </p:nvPicPr>
        <p:blipFill>
          <a:blip r:embed="rId1"/>
          <a:stretch/>
        </p:blipFill>
        <p:spPr>
          <a:xfrm>
            <a:off x="0" y="1600200"/>
            <a:ext cx="4543560" cy="226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Статистика самоубийств (женщины)"/>
          <p:cNvPicPr/>
          <p:nvPr/>
        </p:nvPicPr>
        <p:blipFill>
          <a:blip r:embed="rId2"/>
          <a:stretch/>
        </p:blipFill>
        <p:spPr>
          <a:xfrm>
            <a:off x="4600440" y="1600200"/>
            <a:ext cx="454356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396144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33"/>
                </a:solidFill>
                <a:latin typeface="Bodoni MT"/>
              </a:rPr>
              <a:t>Семейное положение.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По статистике, состоящие в браке кончают с собой значительно реже, нежели холостые или разведенные. Высокий уровень самоубийств у тех, кто потерял партнера - они кончают с собой в три раза чаще, чем семей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458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татистика самоубийств в мире,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в Росси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семирная организации здравоохранения, приводя данные з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, отмечает, что количество самоубийств в Японии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,1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 По этому показателю Страна восходящего солнца уступала тогда лишь России, где число самоубийств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В США данный показатель составлял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ледует отметить, что Россия в последнее время находилась в мировых лидерах по количеству самоубийств. Всего с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 в России покончили с собой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Если учесть, что, по статистике, из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ок самоубийства только одна приводит к смерти, то получается, что за последние годы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 мл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 пытались наложить на себя ру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403740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оличество самоубийств в Росс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 больше, чем в среднем в мире. Причем мужчины убивают себя в 6 раз чаще, чем женщины. Более половины ушедших из жизни — это молодые люди,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. Всего по стране ежегодно кончают жизнь самоубийством 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8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днако в последние годы в России наблюдается постепенное снижение количества случаев самоубийств как в абсолютном, так и в относительном выражении. Так есл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число самоубийств резко возрос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жителей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я самоубийст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упа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Наиболее благополучными в этом плане регионами являются республики Северного Кавказа, Москва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и Санкт-Петербург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Новые времена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По официальной статистике, каждый год кончают жизнь самоубийством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 000 00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человек.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Среди них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8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китай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6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русск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америка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япо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французо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10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тысяч украи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Официальная статистика суицида значительно отличается от реальных цифр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приблизительно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4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раза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), поскольку в нее попадают только явные случаи суицида. По мнению судебных экспертов,  причиной большинства так называемых "смертей от несчастного случая" (передозировка лекарственных препаратов, автомобильные аварии, падение с высоты и т.д) на самом деле являются суициды. Также никто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фиксирует неудачные попытки суицида, число которых по разным оценкам 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0-2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раз больше,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чем законченных самоуби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убийство в животном мир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юль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200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а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вец синхронно спрыгнули в пропасть в Турции, причём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5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погиб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звестны неоднократные массовые выбрасывания китов на берег. Однако нет точных данных, является ли это и в самом деле желанем животных покончить с жизнью, либо сбоем в достаточно сложной системе биолокации (получение ложных эхо-сигналов, приводящих к дезориентации животн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Регулярные «самоубийства» леммин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Древние времена"/>
          <p:cNvPicPr/>
          <p:nvPr/>
        </p:nvPicPr>
        <p:blipFill>
          <a:blip r:embed="rId1"/>
          <a:stretch/>
        </p:blipFill>
        <p:spPr>
          <a:xfrm>
            <a:off x="5486400" y="3548160"/>
            <a:ext cx="3657600" cy="3309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ы не можем вырвать ни одной страницы из нашей жизни, хотя легко можем бросить в огонь самую книгу 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Ж. Санд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5360" y="89928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Убийца убивает человека, самоубийца – человечество /</a:t>
            </a:r>
            <a:r>
              <a:rPr b="0" lang="en-US" sz="2000" spc="-1" strike="noStrike">
                <a:solidFill>
                  <a:srgbClr val="999933"/>
                </a:solidFill>
                <a:latin typeface="Bodoni MT"/>
              </a:rPr>
              <a:t>Г.Честерто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838080" y="1446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еред удачливыми открыты все двери, перед неудачливыми - все окна 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В. Верховский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11760" y="2056320"/>
            <a:ext cx="83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йте мужество жить. Умереть-то любой может 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Роберт Код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Самоубийство. Афоризмы"/>
          <p:cNvPicPr/>
          <p:nvPr/>
        </p:nvPicPr>
        <p:blipFill>
          <a:blip r:embed="rId1"/>
          <a:stretch/>
        </p:blipFill>
        <p:spPr>
          <a:xfrm>
            <a:off x="2743200" y="2819520"/>
            <a:ext cx="33336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пытка убить себя, которая не удалась, называются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попытко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амоубийства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ка самоубийства называет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ерьёзной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сли она могла привести к смерти с большой вероятностью. Попытки самоубийства опасны, потому что часто приводят к разрушению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здоровья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роме того, люди, совершившие попытку самоубийства, часто в дальнейшем совершают самоубий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Эпоха античности"/>
          <p:cNvPicPr/>
          <p:nvPr/>
        </p:nvPicPr>
        <p:blipFill>
          <a:blip r:embed="rId2"/>
          <a:stretch/>
        </p:blipFill>
        <p:spPr>
          <a:xfrm>
            <a:off x="5810400" y="48006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243720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репятствием для совершения суицида могут являть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е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факторы личности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бесценивающие самоубийство как способ разрешения проблем и формирующие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барьер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Как правило, такими факторами являются нереализованные творческие планы, боязнь причинить душевную боль родным и близким, неуверенность в надёжности выбранного способа самоубийства, а также религиозные и социальные табу, связанные с проблемой смерти и самоубий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одготов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При истинном суициде намерение покончить с собой развивается в течение длительного времени — подготовка к нему может занимать от нескольких дней до нескольких лет. Суицидент долго анализирует причины и возможные последствия самоубийства, рассматривает различные способы и оценивает их эффективность и надёжность, планирует наиболее надёжный сценарий суицидального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Непосредственно перед актом самоубийства у суицидента может проявиться так называемое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терминальное поведени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человек как бы «приводит в порядок» свою жизнь: отдаёт долги, закрывает счёт в банке, просит прощения у давних врагов, затевает генеральную уборку в квартире и 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ричин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сновные из ни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урядицы в личной жизн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счастная любов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понимание окружающ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на рабо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целенаправленная травля (в том числе доведение до самоубийств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зические издевательства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изнасилова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бо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тер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мысла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нансовые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со здоровьем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Эвтаназ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в штат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Флорид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СШ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также формально является самоубийством, так как, согласно закону, больной должен вводить препарат себе са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Религиозный фанатизм (обычно распространённый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ектах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, ритуальное самоубий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сихические болезни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депресс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биполярное аффективное расстройств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шизофре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деологические (политические, неприятие ценностей социума в цел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оенные (самоубийство с целью нанесения урона противнику</a:t>
            </a: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ли избежани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плен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ынужденное самоубийство (по приговору суда, под угрозой мучительной смерти или расправы с близкими родственник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дражательное самоубийство (после аналогичных смертей известных личнос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пособ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Повеш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Удушение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Уто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Химическое воздейств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Отравл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В зависимости от препарата действует от нескольких секунд до нескольк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ильна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щёлочь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кислот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При употреблении разъедает внутренние органы. Действует от нескольких минут до нескольких часов. Чрезвычайно болезненный спосо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и падение с высоких зданий, скал, мостов и других возвы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огнестрельного оруж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утём подрыва в непосредственной близи от себя заряда взрывчатого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амосож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Cамоубийство путём доведения себя до физического истощения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голодом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жаждой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холодного оруж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Сэппук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харакири — ритуальное самоубийство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Яп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1"/>
              </a:rPr>
              <a:t>Падение на меч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2"/>
              </a:rPr>
              <a:t>Древнем Рим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3"/>
              </a:rPr>
              <a:t>Вскрытие вен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человек умирает от потери кров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технических средст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4"/>
              </a:rPr>
              <a:t>поезд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5"/>
              </a:rPr>
              <a:t>машин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 т. 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6"/>
              </a:rPr>
              <a:t>электри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тключение больным аппаратуры поддержания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«Полицейское самоубийство» — нападение на сотрудника правоохранительных органов, охранника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7"/>
              </a:rPr>
              <a:t>часовог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с целью спровоцировать его на применение оруж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пожертвование и самоубийство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ет распространение позиция, не отождествляющая с самоубийством самопожертвование. Например, это относится к смерти японских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камикадз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х лиц, сознательно отдавших свою жизнь ради идеалов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Александр Матрос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е),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мученик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Средневековье"/>
          <p:cNvPicPr/>
          <p:nvPr/>
        </p:nvPicPr>
        <p:blipFill>
          <a:blip r:embed="rId4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24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Массовые самоубийст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вреев на гор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Массад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I веке н.э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едпочли самоубийство римскому раб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амосожжения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таровер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XVII—XVIII ве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ассово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харакир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японцев (число покончивших с жизнью в различных источниках варьируется от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5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после подписания капитуляц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4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Народный храм»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91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Джонстаун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Гайан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7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Ветвь Давидова» (самосожжени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Музыка Суицида"/>
          <p:cNvPicPr/>
          <p:nvPr/>
        </p:nvPicPr>
        <p:blipFill>
          <a:blip r:embed="rId6"/>
          <a:stretch/>
        </p:blipFill>
        <p:spPr>
          <a:xfrm>
            <a:off x="6553080" y="40384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32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Закономерност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ак правило самоубиства происходят с воскресенья на понедельник, что видимо связано с началом новой недели - новых проблем, и попытки "решить все проблемы разом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случае неудачного самоубиства - основные рецидивы случаются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и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день, что связано с физиологией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54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213200" y="2361240"/>
            <a:ext cx="383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Врем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Первая половина дн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2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Вторая половина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очь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447920" y="3427560"/>
            <a:ext cx="266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Прощальные</a:t>
            </a: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записк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ставляют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44% самоубий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ни адресованы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«всем»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-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близки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чальника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икому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Алкоголь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и жизни употреб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, хотя непосредственно перед самоубийством алкоголь употребляется только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, наркотики –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Материальное обеспечение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е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6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ровень жизни и количество самоубийств не связаны между собой - так одна из самых высокоразвитых и богатых стран Европы - Швеция на протяжении десяти лет является одним из лидеров по числу суицидов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Сексуальная ориентация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данным исследований, которые проводились в США, геи совершают попытки самоубийства в 7 раз чаще, чем натур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Образование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люди с высоким уровнем образования менее склонны к суициду. Самая опасная группа - люди с неполным средним образ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Взаимоотношени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Общались с широким кругом людей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С несколькими людьми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Были замкнуты и избегали общени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Музыка Суицида"/>
          <p:cNvPicPr/>
          <p:nvPr/>
        </p:nvPicPr>
        <p:blipFill>
          <a:blip r:embed="rId1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0-02-15T08:46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