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27E-A33D-4680-85AC-755F46DF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2A6-5EC5-46C1-8AC0-F0CA72AA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44C-855F-4C13-9C44-525D99DE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E81-4D94-4AB3-9FCA-E5A6F2A3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AB8-D4A0-4A05-B218-EFA2CE35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82A-319B-4553-850D-4F1EB28E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F84-B85E-4EBA-8767-154C3328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A87-996E-4320-A0EE-0D40D7C2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D3D-2228-4A0B-BD13-EAB88C00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F61-21DE-44EE-AC24-860B3957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8E6-81CD-4B5F-8938-24871EE0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3DD-CD95-4A37-9469-FA7746FE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0DF5-0848-42A5-962E-0E6738B0A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Проблемы алкоголизма в России.</a:t>
            </a:r>
            <a:br>
              <a:rPr sz="6600"/>
            </a:br>
            <a:br>
              <a:rPr sz="66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бота творческой групп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Путь к духовной гармонии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МОУ гимназия №20  им. С.С.Станчева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уководитель: Алексеенко С.Н, учитель русского языка, литературы и ОП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649"/>
          <p:cNvPicPr/>
          <p:nvPr/>
        </p:nvPicPr>
        <p:blipFill>
          <a:blip r:embed="rId1"/>
          <a:stretch/>
        </p:blipFill>
        <p:spPr>
          <a:xfrm>
            <a:off x="5867280" y="11592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алкоголе нет кал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ипичная ошибка. Любой алкоголь очень калориен. Калорийность алкоголя возрастает относительно возрастанию градуса. Самый высокий показатель калорий у водки. С вином дело обстоит иначе, его калорийность обусловлена углеводами, которые легко сгорают. Но следует помнить, что чем больше калорий попадают в организм, тем дольше они сгор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27466-small"/>
          <p:cNvPicPr/>
          <p:nvPr/>
        </p:nvPicPr>
        <p:blipFill>
          <a:blip r:embed="rId1"/>
          <a:stretch/>
        </p:blipFill>
        <p:spPr>
          <a:xfrm>
            <a:off x="6227640" y="4149720"/>
            <a:ext cx="2664000" cy="2530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пивать нельзя, нужно закус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ействие холодных закусок можно сравнить с тем случаем, когда человек запивает. Они слабо нейтрализуют спирт. То есть нет почти никакой разницы между соками, фруктами и салатами. Другое дело – горячие блюда, они нейтрализуют спирт и уменьшают выраженность опья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737647"/>
          <p:cNvPicPr/>
          <p:nvPr/>
        </p:nvPicPr>
        <p:blipFill>
          <a:blip r:embed="rId1"/>
          <a:stretch/>
        </p:blipFill>
        <p:spPr>
          <a:xfrm>
            <a:off x="324000" y="4724280"/>
            <a:ext cx="3047760" cy="2019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4a6d392b-54c7-4d1c-b97c-f75c0861a2e8"/>
          <p:cNvPicPr/>
          <p:nvPr/>
        </p:nvPicPr>
        <p:blipFill>
          <a:blip r:embed="rId2"/>
          <a:stretch/>
        </p:blipFill>
        <p:spPr>
          <a:xfrm>
            <a:off x="5580000" y="189000"/>
            <a:ext cx="3024360" cy="1854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Лечить женщин трудне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самом деле принципиальной разницы между лечением мужчин и женщин нет. Разница лишь в том, что женщины по своим особенностям более эмоциональны, поэтому быстрее привыкают к алкоголю и очень долго стараются не обнаруживать своей проблемы. А когда речь идёт о лечении ,то мы сталкиваемся с более тяжелой стадией зависимости. Другое дело, что при лечении женщин требуется больше внимания для реабили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алкоголиз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picture"/>
          <p:cNvPicPr/>
          <p:nvPr/>
        </p:nvPicPr>
        <p:blipFill>
          <a:blip r:embed="rId1"/>
          <a:stretch/>
        </p:blipFill>
        <p:spPr>
          <a:xfrm>
            <a:off x="108000" y="3573360"/>
            <a:ext cx="2387520" cy="3168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mg"/>
          <p:cNvPicPr/>
          <p:nvPr/>
        </p:nvPicPr>
        <p:blipFill>
          <a:blip r:embed="rId2"/>
          <a:stretch/>
        </p:blipFill>
        <p:spPr>
          <a:xfrm>
            <a:off x="6516720" y="1125360"/>
            <a:ext cx="2384280" cy="180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ечерний алкого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ейчас очень часто распространен вариант вечернего алкоголизма, когда активно работающие люди снимают усталость, бессонницу употреблением спиртного. Поначалу человек не замечает, но сон становится ненормальным – наркотическим. Кроме того, «раскачивается» влечение к алкоголю. Все это кончается похмельным состоянием и алкоголизмом второй стадии (из трё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ытовой алкого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 нас в обществе популярен термин «бытовое пьянство», который как бы подменяет алкоголизм. Поскольку алкоголик в наше время -пропащий человек, таким быть стыдно. А выпивать после работы – вроде нормально. На самом деле бытовое пьянство – это та или иная стадия алкогольной боле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970276694"/>
          <p:cNvPicPr/>
          <p:nvPr/>
        </p:nvPicPr>
        <p:blipFill>
          <a:blip r:embed="rId1"/>
          <a:stretch/>
        </p:blipFill>
        <p:spPr>
          <a:xfrm>
            <a:off x="5796000" y="4724280"/>
            <a:ext cx="25923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24012009026"/>
          <p:cNvPicPr/>
          <p:nvPr/>
        </p:nvPicPr>
        <p:blipFill>
          <a:blip r:embed="rId1"/>
          <a:stretch/>
        </p:blipFill>
        <p:spPr>
          <a:xfrm>
            <a:off x="20509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мерт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 официальной статистике Московского НИИ психиатрии, ежегодно от злоупотребления алкоголем у нас в стране погибает около 430 тысяч человек. А в реальной практике это число в несколько раз больше! Потому что в заключении о смерти часто не указывается основная причина смерти – алкоголь, который провоцирует инфаркты, неожиданные травмы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Мифы об алкогол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н согрева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у не зря же спиртные напитки называют горячительными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ря: согревают только первые 50 граммов водки или коньяка, потом организм остывает, но создается иллюзия тепла – именно поэтому в лютые зимы погибают пьяницы.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0_88cd_cc174c3b_XL"/>
          <p:cNvPicPr/>
          <p:nvPr/>
        </p:nvPicPr>
        <p:blipFill>
          <a:blip r:embed="rId1"/>
          <a:stretch/>
        </p:blipFill>
        <p:spPr>
          <a:xfrm>
            <a:off x="4788000" y="115920"/>
            <a:ext cx="388764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Он снимает стресс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Как и в случае согрева, расслабляет мышцы лишь малая доза спиртного, принятие мощных доз алкоголя в стрессовом состояние неизбежно развивается по одному из двух сценариев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При первом усталость усугубляется и настроение падает. При втором возникает алкогольная эйфория, тоже заканчивающаяся депрессией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Ни один из сценариев снятием стресса не сопровождаетс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pv_050910"/>
          <p:cNvPicPr/>
          <p:nvPr/>
        </p:nvPicPr>
        <p:blipFill>
          <a:blip r:embed="rId1"/>
          <a:stretch/>
        </p:blipFill>
        <p:spPr>
          <a:xfrm>
            <a:off x="5508720" y="189000"/>
            <a:ext cx="295092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200807211547370"/>
          <p:cNvPicPr/>
          <p:nvPr/>
        </p:nvPicPr>
        <p:blipFill>
          <a:blip r:embed="rId1"/>
          <a:stretch/>
        </p:blipFill>
        <p:spPr>
          <a:xfrm>
            <a:off x="179280" y="4221000"/>
            <a:ext cx="3048120" cy="243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24012009029"/>
          <p:cNvPicPr/>
          <p:nvPr/>
        </p:nvPicPr>
        <p:blipFill>
          <a:blip r:embed="rId2"/>
          <a:stretch/>
        </p:blipFill>
        <p:spPr>
          <a:xfrm>
            <a:off x="6265800" y="260280"/>
            <a:ext cx="27003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н повышает работоспособ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егкая степень опьянения активизирует мысленные процессы, но ощущение это ошибочно. Опыты доказывают, что при легком опьянении скорость мысленных и двигательных процессов возрастает, но при этом снижается концентрация внимания и качество умозаключения. В итоге экономия времени влияет на качество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img_1374_1"/>
          <p:cNvPicPr/>
          <p:nvPr/>
        </p:nvPicPr>
        <p:blipFill>
          <a:blip r:embed="rId1"/>
          <a:stretch/>
        </p:blipFill>
        <p:spPr>
          <a:xfrm>
            <a:off x="5940360" y="115920"/>
            <a:ext cx="3048120" cy="3301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н снижает кровяное д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ногие гипертоники уверены в том, что алкоголь понижает кровяное давление. Но с приёмом алкоголя увеличивается биение сердца, а от объема крови, выталкиваемой в кровяное русло, напрямую зависит артериальное д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0000350807-preview"/>
          <p:cNvPicPr/>
          <p:nvPr/>
        </p:nvPicPr>
        <p:blipFill>
          <a:blip r:embed="rId2"/>
          <a:stretch/>
        </p:blipFill>
        <p:spPr>
          <a:xfrm>
            <a:off x="250920" y="4584600"/>
            <a:ext cx="304776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22328"/>
          <p:cNvPicPr/>
          <p:nvPr/>
        </p:nvPicPr>
        <p:blipFill>
          <a:blip r:embed="rId1"/>
          <a:stretch/>
        </p:blipFill>
        <p:spPr>
          <a:xfrm>
            <a:off x="5867280" y="98100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ачественный алкоголь безвред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удро отдавать предпочтение дорогим напиткам. Но глупо считать ,что на здоровье он не скажется. Дешевый алкоголь не подвергается должной очистке, поэтому его влияние на организм ещё ху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martini"/>
          <p:cNvPicPr/>
          <p:nvPr/>
        </p:nvPicPr>
        <p:blipFill>
          <a:blip r:embed="rId2"/>
          <a:stretch/>
        </p:blipFill>
        <p:spPr>
          <a:xfrm>
            <a:off x="611280" y="4797360"/>
            <a:ext cx="23763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IMG_0898"/>
          <p:cNvPicPr/>
          <p:nvPr/>
        </p:nvPicPr>
        <p:blipFill>
          <a:blip r:embed="rId1"/>
          <a:stretch/>
        </p:blipFill>
        <p:spPr>
          <a:xfrm>
            <a:off x="6156360" y="260280"/>
            <a:ext cx="2705040" cy="4064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н помогает лечить прост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инимая водку с лимоном, медом, перцем и т.д., люди считают ,что это лечит их от насморка, понижает температуру, уменьшает боль в горле. Но мало того ,что алкоголь ослабляет иммунитет, он ещё плохо влияет на воспаленное горло, которое после этого начинает болеть ещё больше. Миф о целебной силе водки – всего лишь ми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1202255762_pivo02"/>
          <p:cNvPicPr/>
          <p:nvPr/>
        </p:nvPicPr>
        <p:blipFill>
          <a:blip r:embed="rId1"/>
          <a:stretch/>
        </p:blipFill>
        <p:spPr>
          <a:xfrm>
            <a:off x="395280" y="4292640"/>
            <a:ext cx="1881360" cy="240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1197567726_200px-weizenbier"/>
          <p:cNvPicPr/>
          <p:nvPr/>
        </p:nvPicPr>
        <p:blipFill>
          <a:blip r:embed="rId2"/>
          <a:stretch/>
        </p:blipFill>
        <p:spPr>
          <a:xfrm>
            <a:off x="6877080" y="115920"/>
            <a:ext cx="2057400" cy="4064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иф №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иво не алког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диотская идея! Ключевое слово здесь «спирт»: он либо возникает во время брожения, либо пивовары сами закачивают его в свои продукты. Чрезмерное употребление пива вызывает привычку, как и любой алкогольный напи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иво  - такой же алкоголь ,как и все остальные напи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17:54Z</dcterms:created>
  <dc:creator>Арут</dc:creator>
  <dc:description/>
  <dc:language>en-US</dc:language>
  <cp:lastModifiedBy>Светлана</cp:lastModifiedBy>
  <dcterms:modified xsi:type="dcterms:W3CDTF">2010-03-09T11:07:57Z</dcterms:modified>
  <cp:revision>11</cp:revision>
  <dc:subject/>
  <dc:title>Проблемы алкоголизма в России</dc:title>
</cp:coreProperties>
</file>