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2AE-4F1C-4A53-8DDE-0866FA9F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E5F-AFA3-48AB-94E1-62E3669B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BEF-4892-4BA5-9DE9-EF6BE837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67E-B659-4F31-9AF7-510DEA90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758-9860-4187-8295-9340A5D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007-B42A-4F7F-A09D-88BFD9B5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664-A696-4CDA-BD0E-DC664C6B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BB4-650F-4358-8948-7F85940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0C0-D640-4571-85AA-E10D6C7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35E-8575-4138-BCB2-B99A984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AB6-0F83-45D3-85B0-3C80C2C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954-5625-4C41-836C-2E10299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2DF4-682A-4743-A344-553E45EE7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Проблемы алкоголизма в России.</a:t>
            </a:r>
            <a:br>
              <a:rPr sz="6600"/>
            </a:br>
            <a:br>
              <a:rPr sz="66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бота творческой групп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Путь к духовной гармони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МОУ гимназия №20  им. С.С.Станчева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уководитель: Алексеенко С.Н, учитель русского языка, литературы и О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649"/>
          <p:cNvPicPr/>
          <p:nvPr/>
        </p:nvPicPr>
        <p:blipFill>
          <a:blip r:embed="rId1"/>
          <a:stretch/>
        </p:blipFill>
        <p:spPr>
          <a:xfrm>
            <a:off x="5867280" y="1159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алкоголе нет кал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ипичная ошибка. Любой алкоголь очень калориен. Калорийность алкоголя возрастает относительно возрастанию градуса. Самый высокий показатель калорий у водки. С вином дело обстоит иначе, его калорийность обусловлена углеводами, которые легко сгорают. Но следует помнить, что чем больше калорий попадают в организм, тем дольше они сгор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7466-small"/>
          <p:cNvPicPr/>
          <p:nvPr/>
        </p:nvPicPr>
        <p:blipFill>
          <a:blip r:embed="rId1"/>
          <a:stretch/>
        </p:blipFill>
        <p:spPr>
          <a:xfrm>
            <a:off x="6227640" y="4149720"/>
            <a:ext cx="2664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пивать нельзя, нужно закус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ие холодных закусок можно сравнить с тем случаем, когда человек запивает. Они слабо нейтрализуют спирт. То есть нет почти никакой разницы между соками, фруктами и салатами. Другое дело – горячие блюда, они нейтрализуют спирт и уменьшают выраженность опья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737647"/>
          <p:cNvPicPr/>
          <p:nvPr/>
        </p:nvPicPr>
        <p:blipFill>
          <a:blip r:embed="rId1"/>
          <a:stretch/>
        </p:blipFill>
        <p:spPr>
          <a:xfrm>
            <a:off x="324000" y="4724280"/>
            <a:ext cx="3047760" cy="2019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4a6d392b-54c7-4d1c-b97c-f75c0861a2e8"/>
          <p:cNvPicPr/>
          <p:nvPr/>
        </p:nvPicPr>
        <p:blipFill>
          <a:blip r:embed="rId2"/>
          <a:stretch/>
        </p:blipFill>
        <p:spPr>
          <a:xfrm>
            <a:off x="5580000" y="189000"/>
            <a:ext cx="3024360" cy="1854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Лечить женщин трудне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самом деле принципиальной разницы между лечением мужчин и женщин нет. Разница лишь в том, что женщины по своим особенностям более эмоциональны, поэтому быстрее привыкают к алкоголю и очень долго стараются не обнаруживать своей проблемы. А когда речь идёт о лечении ,то мы сталкиваемся с более тяжелой стадией зависимости. Другое дело, что при лечении женщин требуется больше внимания для реабили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алкоголиз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icture"/>
          <p:cNvPicPr/>
          <p:nvPr/>
        </p:nvPicPr>
        <p:blipFill>
          <a:blip r:embed="rId1"/>
          <a:stretch/>
        </p:blipFill>
        <p:spPr>
          <a:xfrm>
            <a:off x="108000" y="3573360"/>
            <a:ext cx="238752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"/>
          <p:cNvPicPr/>
          <p:nvPr/>
        </p:nvPicPr>
        <p:blipFill>
          <a:blip r:embed="rId2"/>
          <a:stretch/>
        </p:blipFill>
        <p:spPr>
          <a:xfrm>
            <a:off x="6516720" y="1125360"/>
            <a:ext cx="2384280" cy="180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ни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йчас очень часто распространен вариант вечернего алкоголизма, когда активно работающие люди снимают усталость, бессонницу употреблением спиртного. Поначалу человек не замечает, но сон становится ненормальным – наркотическим. Кроме того, «раскачивается» влечение к алкоголю. Все это кончается похмельным состоянием и алкоголизмом второй стадии (из трё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ытов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 нас в обществе популярен термин «бытовое пьянство», который как бы подменяет алкоголизм. Поскольку алкоголик в наше время -пропащий человек, таким быть стыдно. А выпивать после работы – вроде нормально. На самом деле бытовое пьянство – это та или иная стадия алкогольной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70276694"/>
          <p:cNvPicPr/>
          <p:nvPr/>
        </p:nvPicPr>
        <p:blipFill>
          <a:blip r:embed="rId1"/>
          <a:stretch/>
        </p:blipFill>
        <p:spPr>
          <a:xfrm>
            <a:off x="5796000" y="4724280"/>
            <a:ext cx="2592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4012009026"/>
          <p:cNvPicPr/>
          <p:nvPr/>
        </p:nvPicPr>
        <p:blipFill>
          <a:blip r:embed="rId1"/>
          <a:stretch/>
        </p:blipFill>
        <p:spPr>
          <a:xfrm>
            <a:off x="20509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мерт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 официальной статистике Московского НИИ психиатрии, ежегодно от злоупотребления алкоголем у нас в стране погибает около 430 тысяч человек. А в реальной практике это число в несколько раз больше! Потому что в заключении о смерти часто не указывается основная причина смерти – алкоголь, который провоцирует инфаркты, неожиданные травм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Мифы об алкогол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н согре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у не зря же спиртные напитки называют горячительными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ря: согревают только первые 50 граммов водки или коньяка, потом организм остывает, но создается иллюзия тепла – именно поэтому в лютые зимы погибают пьяницы.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0_88cd_cc174c3b_XL"/>
          <p:cNvPicPr/>
          <p:nvPr/>
        </p:nvPicPr>
        <p:blipFill>
          <a:blip r:embed="rId1"/>
          <a:stretch/>
        </p:blipFill>
        <p:spPr>
          <a:xfrm>
            <a:off x="4788000" y="115920"/>
            <a:ext cx="388764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Он снимает стрес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Как и в случае согрева, расслабляет мышцы лишь малая доза спиртного, принятие мощных доз алкоголя в стрессовом состояние неизбежно развивается по одному из двух сценариев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При первом усталость усугубляется и настроение падает. При втором возникает алкогольная эйфория, тоже заканчивающаяся депрессией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Ни один из сценариев снятием стресса не сопровождает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v_050910"/>
          <p:cNvPicPr/>
          <p:nvPr/>
        </p:nvPicPr>
        <p:blipFill>
          <a:blip r:embed="rId1"/>
          <a:stretch/>
        </p:blipFill>
        <p:spPr>
          <a:xfrm>
            <a:off x="5508720" y="189000"/>
            <a:ext cx="295092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00807211547370"/>
          <p:cNvPicPr/>
          <p:nvPr/>
        </p:nvPicPr>
        <p:blipFill>
          <a:blip r:embed="rId1"/>
          <a:stretch/>
        </p:blipFill>
        <p:spPr>
          <a:xfrm>
            <a:off x="179280" y="4221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4012009029"/>
          <p:cNvPicPr/>
          <p:nvPr/>
        </p:nvPicPr>
        <p:blipFill>
          <a:blip r:embed="rId2"/>
          <a:stretch/>
        </p:blipFill>
        <p:spPr>
          <a:xfrm>
            <a:off x="6265800" y="26028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повышает работо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егкая степень опьянения активизирует мысленные процессы, но ощущение это ошибочно. Опыты доказывают, что при легком опьянении скорость мысленных и двигательных процессов возрастает, но при этом снижается концентрация внимания и качество умозаключения. В итоге экономия времени влияет на качество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g_1374_1"/>
          <p:cNvPicPr/>
          <p:nvPr/>
        </p:nvPicPr>
        <p:blipFill>
          <a:blip r:embed="rId1"/>
          <a:stretch/>
        </p:blipFill>
        <p:spPr>
          <a:xfrm>
            <a:off x="5940360" y="115920"/>
            <a:ext cx="3048120" cy="330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снижает кровяное 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ногие гипертоники уверены в том, что алкоголь понижает кровяное давление. Но с приёмом алкоголя увеличивается биение сердца, а от объема крови, выталкиваемой в кровяное русло, напрямую зависит артериальное 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0000350807-preview"/>
          <p:cNvPicPr/>
          <p:nvPr/>
        </p:nvPicPr>
        <p:blipFill>
          <a:blip r:embed="rId2"/>
          <a:stretch/>
        </p:blipFill>
        <p:spPr>
          <a:xfrm>
            <a:off x="250920" y="4584600"/>
            <a:ext cx="30477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22328"/>
          <p:cNvPicPr/>
          <p:nvPr/>
        </p:nvPicPr>
        <p:blipFill>
          <a:blip r:embed="rId1"/>
          <a:stretch/>
        </p:blipFill>
        <p:spPr>
          <a:xfrm>
            <a:off x="5867280" y="98100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чественный алкоголь безвр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дро отдавать предпочтение дорогим напиткам. Но глупо считать ,что на здоровье он не скажется. Дешевый алкоголь не подвергается должной очистке, поэтому его влияние на организм ещё х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artini"/>
          <p:cNvPicPr/>
          <p:nvPr/>
        </p:nvPicPr>
        <p:blipFill>
          <a:blip r:embed="rId2"/>
          <a:stretch/>
        </p:blipFill>
        <p:spPr>
          <a:xfrm>
            <a:off x="611280" y="4797360"/>
            <a:ext cx="2376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_0898"/>
          <p:cNvPicPr/>
          <p:nvPr/>
        </p:nvPicPr>
        <p:blipFill>
          <a:blip r:embed="rId1"/>
          <a:stretch/>
        </p:blipFill>
        <p:spPr>
          <a:xfrm>
            <a:off x="6156360" y="260280"/>
            <a:ext cx="270504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помогает лечить прост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нимая водку с лимоном, медом, перцем и т.д., люди считают ,что это лечит их от насморка, понижает температуру, уменьшает боль в горле. Но мало того ,что алкоголь ослабляет иммунитет, он ещё плохо влияет на воспаленное горло, которое после этого начинает болеть ещё больше. Миф о целебной силе водки – всего лишь ми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1202255762_pivo02"/>
          <p:cNvPicPr/>
          <p:nvPr/>
        </p:nvPicPr>
        <p:blipFill>
          <a:blip r:embed="rId1"/>
          <a:stretch/>
        </p:blipFill>
        <p:spPr>
          <a:xfrm>
            <a:off x="395280" y="4292640"/>
            <a:ext cx="188136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1197567726_200px-weizenbier"/>
          <p:cNvPicPr/>
          <p:nvPr/>
        </p:nvPicPr>
        <p:blipFill>
          <a:blip r:embed="rId2"/>
          <a:stretch/>
        </p:blipFill>
        <p:spPr>
          <a:xfrm>
            <a:off x="6877080" y="115920"/>
            <a:ext cx="2057400" cy="4064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иво не алк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диотская идея! Ключевое слово здесь «спирт»: он либо возникает во время брожения, либо пивовары сами закачивают его в свои продукты. Чрезмерное употребление пива вызывает привычку, как и любой алкогольный напи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иво  - такой же алкоголь ,как и все остальные нап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17:54Z</dcterms:created>
  <dc:creator>Арут</dc:creator>
  <dc:description/>
  <dc:language>en-US</dc:language>
  <cp:lastModifiedBy>Светлана</cp:lastModifiedBy>
  <dcterms:modified xsi:type="dcterms:W3CDTF">2010-03-09T11:07:57Z</dcterms:modified>
  <cp:revision>11</cp:revision>
  <dc:subject/>
  <dc:title>Проблемы алкоголизма в России</dc:title>
</cp:coreProperties>
</file>