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C44-3455-42C4-940D-82B2CBDD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D30-7C83-4DBB-A83A-5DE2085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235-514B-4FEC-B838-13094350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59A-12F6-4DCC-8118-7858D43F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5F23-C278-42D9-9ABF-BA91E168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C2F-6867-4079-A255-DECE6100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E49C-9052-4D6B-93B6-BECAB989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3CF-209F-48AF-8ED3-ABBAE90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7B53-D54E-4009-B92D-B18247D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A982-822A-45B0-A3AC-DADE4BC0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FD9A-4476-4749-857C-0B6BBBB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395-1A09-4D85-AA6F-9D01CCB0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4CA-E34C-4C2D-8E89-46E6D0B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6DC-78E1-43EA-B9D2-3653BD5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673E-7A67-445C-A0DD-B1123CCC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556-A0BB-4B8D-B38C-F2A113F3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DB89-8DBE-450D-A60C-03CAB1AD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331-CDDC-4262-AFAB-05A57AB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ED3-1E56-42BC-A2A1-DFDF367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45-1D11-46DA-92D6-16FA67F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692-2EE5-430F-8829-D38DDFF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696-0A7C-4D7A-8E9E-4C344BC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D3D-8885-4215-AB09-FF73222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98C-A7C7-4EC8-8B36-4CF1C90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E54-DE21-4575-8200-8E3318FE6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AEB-750D-44D4-AAFD-BF769A184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025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</a:rPr>
              <a:t>Исследовательская работа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b7"/>
                </a:solidFill>
                <a:latin typeface="Times New Roman"/>
              </a:rPr>
              <a:t>Растительные крас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3981600"/>
            <a:ext cx="230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пиева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йдарова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харе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596360" y="259920"/>
            <a:ext cx="1296720" cy="11527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941720"/>
            <a:ext cx="1440000" cy="13669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11280" y="765000"/>
            <a:ext cx="813744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36520" y="6093000"/>
            <a:ext cx="698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ители – называют вещества получаемые методами органического синтеза и предназначенные для окраски различных материалов, прежде всего тка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ки - это смеси зачастую природных красящих и связующих веществ, предназначенные для поверхностного окрашивания различных изделий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асите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4005360"/>
            <a:ext cx="143964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5157720"/>
            <a:ext cx="1872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349360"/>
            <a:ext cx="1871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5157720"/>
            <a:ext cx="2087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59280" y="3068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79736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87640" y="4724280"/>
            <a:ext cx="115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58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3737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530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492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8360" y="189000"/>
            <a:ext cx="8352720" cy="5830560"/>
            <a:chOff x="468360" y="189000"/>
            <a:chExt cx="8352720" cy="5830560"/>
          </a:xfrm>
        </p:grpSpPr>
        <p:cxnSp>
          <p:nvCxnSpPr>
            <p:cNvPr id="116" name="_s13314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5227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3145"/>
            <p:cNvCxnSpPr>
              <a:stCxn id="120" idx="0"/>
              <a:endCxn id="118" idx="2"/>
            </p:cNvCxnSpPr>
            <p:nvPr/>
          </p:nvCxnSpPr>
          <p:spPr>
            <a:xfrm flipV="1">
              <a:off x="4644360" y="2520360"/>
              <a:ext cx="396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3144"/>
            <p:cNvCxnSpPr>
              <a:stCxn id="122" idx="0"/>
              <a:endCxn id="118" idx="2"/>
            </p:cNvCxnSpPr>
            <p:nvPr/>
          </p:nvCxnSpPr>
          <p:spPr>
            <a:xfrm flipH="1" flipV="1" rot="5400000">
              <a:off x="25995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8" name="_s133140"/>
            <p:cNvSpPr/>
            <p:nvPr/>
          </p:nvSpPr>
          <p:spPr>
            <a:xfrm>
              <a:off x="3391920" y="18900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ирод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расител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3141"/>
            <p:cNvSpPr/>
            <p:nvPr/>
          </p:nvSpPr>
          <p:spPr>
            <a:xfrm>
              <a:off x="46836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Живот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33142"/>
            <p:cNvSpPr/>
            <p:nvPr/>
          </p:nvSpPr>
          <p:spPr>
            <a:xfrm>
              <a:off x="339192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стите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3143"/>
            <p:cNvSpPr/>
            <p:nvPr/>
          </p:nvSpPr>
          <p:spPr>
            <a:xfrm>
              <a:off x="631548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инераль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317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древних времен и до середины 19 века было известно 30 краси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55 году был синтезирован первый искусственный крас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тех пор их получено более 10 тысяч, но все они очень вредны для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2706840"/>
            <a:ext cx="6227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Цель нашей работы 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дать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езопасны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красите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основе растительного сырья произрастающего в нашем районе, исходя из знаний наших пред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Растения, окраска которых дает семь цветов спект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Растения, окраска которых дает семь цветов спектра "/>
          <p:cNvPicPr/>
          <p:nvPr/>
        </p:nvPicPr>
        <p:blipFill>
          <a:blip r:embed="rId1"/>
          <a:stretch/>
        </p:blipFill>
        <p:spPr>
          <a:xfrm>
            <a:off x="2124000" y="174960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00000" y="1906560"/>
          <a:ext cx="7559640" cy="2674800"/>
        </p:xfrm>
        <a:graphic>
          <a:graphicData uri="http://schemas.openxmlformats.org/drawingml/2006/table">
            <a:tbl>
              <a:tblPr/>
              <a:tblGrid>
                <a:gridCol w="1862280"/>
                <a:gridCol w="2449440"/>
                <a:gridCol w="32479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и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, к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вель ко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125800" y="543960"/>
            <a:ext cx="59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спользуемые для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Измельчаем 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Отвариваем длительное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Процеживание полученные приме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Экспериментируем с добав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Итоговый рису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5:00:12Z</dcterms:created>
  <dc:creator>Наташа</dc:creator>
  <dc:description/>
  <dc:language>en-US</dc:language>
  <cp:lastModifiedBy>Наташа</cp:lastModifiedBy>
  <dcterms:modified xsi:type="dcterms:W3CDTF">2010-03-17T05:40:17Z</dcterms:modified>
  <cp:revision>9</cp:revision>
  <dc:subject/>
  <dc:title>Проект на тему:  «растительные краски»</dc:title>
</cp:coreProperties>
</file>