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442-EFE7-4F81-B103-E59253EA0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B57-537B-483D-A5C1-4BFE40BF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0F3-9D50-44A0-98B2-459C4121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19F3-72EC-4A44-A147-CD571306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D704-2C0E-4CB9-9A07-BC9481794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7E07-1779-436B-8BDA-8B17D715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A50CC-7557-4491-AFA6-4700B957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D319-D193-4C34-8C0D-9991D6D5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625B-D4E1-4F49-9728-3F55A41B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A912-DD4C-4AB4-A801-E6108F61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A192-A007-426E-A9F7-0B75DCBD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F73F-45B1-4411-8E9E-4F2B5F12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409B-44C9-4769-967B-083322D2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FF19-3E50-4D08-A5AF-5B5E5008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906D-7DC9-442F-B060-A6C140E6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21A0-85B1-49A9-AD29-897A76FAF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C0503-06A7-460A-A078-22E14BC3A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6051-C0FE-4E4D-A6E0-E1FF3B03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AD0-C5BA-4C54-B77F-5F47DA6A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824-607D-4FA1-96F0-784CC64B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6266-A2E7-4BAB-8EC2-743130CD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551-F414-4202-9248-9EE1A08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34E-6940-413B-AE76-A8C2E6C3C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B41-D090-4138-84FE-8AC53303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BE55-F1F2-47D3-9BD3-4CA68C5D8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5B3B-F467-481C-AC4F-156E0A476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025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Times New Roman"/>
              </a:rPr>
              <a:t>Исследовательская работа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0" lang="en-US" sz="6000" spc="-1" strike="noStrike">
                <a:solidFill>
                  <a:srgbClr val="ffffb7"/>
                </a:solidFill>
                <a:latin typeface="Times New Roman"/>
              </a:rPr>
              <a:t>Растительные краски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372360" y="3981600"/>
            <a:ext cx="230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полни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рпиева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айдарова 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хим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ухарева Н.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7596360" y="259920"/>
            <a:ext cx="1296720" cy="11527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0000" y="4941720"/>
            <a:ext cx="1440000" cy="1366920"/>
          </a:xfrm>
          <a:prstGeom prst="star5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11280" y="765000"/>
            <a:ext cx="8137440" cy="583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36520" y="6093000"/>
            <a:ext cx="69840" cy="3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476280"/>
            <a:ext cx="80074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ители – называют вещества получаемые методами органического синтеза и предназначенные для окраски различных материалов, прежде всего тка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раски - это смеси зачастую природных красящих и связующих веществ, предназначенные для поверхностного окрашивания различных изделий.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асител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4005360"/>
            <a:ext cx="1439640" cy="1511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5157720"/>
            <a:ext cx="187200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2349360"/>
            <a:ext cx="1871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88000" y="5157720"/>
            <a:ext cx="2087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59280" y="3068640"/>
            <a:ext cx="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0000" y="4797360"/>
            <a:ext cx="10080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987640" y="4724280"/>
            <a:ext cx="1152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58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расит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5373720"/>
            <a:ext cx="18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кусстве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530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нтетическ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95640" y="2492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род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8360" y="189000"/>
            <a:ext cx="8352720" cy="5830560"/>
            <a:chOff x="468360" y="189000"/>
            <a:chExt cx="8352720" cy="5830560"/>
          </a:xfrm>
        </p:grpSpPr>
        <p:cxnSp>
          <p:nvCxnSpPr>
            <p:cNvPr id="116" name="_s133146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5227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3145"/>
            <p:cNvCxnSpPr>
              <a:stCxn id="120" idx="0"/>
              <a:endCxn id="118" idx="2"/>
            </p:cNvCxnSpPr>
            <p:nvPr/>
          </p:nvCxnSpPr>
          <p:spPr>
            <a:xfrm flipV="1">
              <a:off x="4644360" y="2520360"/>
              <a:ext cx="3960" cy="1166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3144"/>
            <p:cNvCxnSpPr>
              <a:stCxn id="122" idx="0"/>
              <a:endCxn id="118" idx="2"/>
            </p:cNvCxnSpPr>
            <p:nvPr/>
          </p:nvCxnSpPr>
          <p:spPr>
            <a:xfrm flipH="1" flipV="1" rot="5400000">
              <a:off x="2599560" y="1641600"/>
              <a:ext cx="1166760" cy="2924280"/>
            </a:xfrm>
            <a:prstGeom prst="bentConnector3">
              <a:avLst>
                <a:gd name="adj1" fmla="val 978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8" name="_s133140"/>
            <p:cNvSpPr/>
            <p:nvPr/>
          </p:nvSpPr>
          <p:spPr>
            <a:xfrm>
              <a:off x="3391920" y="18900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иродные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красители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3141"/>
            <p:cNvSpPr/>
            <p:nvPr/>
          </p:nvSpPr>
          <p:spPr>
            <a:xfrm>
              <a:off x="46836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Живот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33142"/>
            <p:cNvSpPr/>
            <p:nvPr/>
          </p:nvSpPr>
          <p:spPr>
            <a:xfrm>
              <a:off x="339192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стительного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3143"/>
            <p:cNvSpPr/>
            <p:nvPr/>
          </p:nvSpPr>
          <p:spPr>
            <a:xfrm>
              <a:off x="6315480" y="3687480"/>
              <a:ext cx="2505600" cy="233208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инерального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роисхождени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317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древних времен и до середины 19 века было известно 30 красител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1855 году был синтезирован первый искусственный красител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 тех пор их получено более 10 тысяч, но все они очень вредны для окружающей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916360" y="2706840"/>
            <a:ext cx="622764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Цель нашей работы  -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оздать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безопасны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красител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 основе растительного сырья произрастающего в нашем районе, исходя из знаний наших предк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Times New Roman"/>
              </a:rPr>
              <a:t>Растения, окраска которых дает семь цветов спект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" descr="Растения, окраска которых дает семь цветов спектра "/>
          <p:cNvPicPr/>
          <p:nvPr/>
        </p:nvPicPr>
        <p:blipFill>
          <a:blip r:embed="rId1"/>
          <a:stretch/>
        </p:blipFill>
        <p:spPr>
          <a:xfrm>
            <a:off x="2124000" y="1749600"/>
            <a:ext cx="496908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900000" y="1906560"/>
          <a:ext cx="7559640" cy="2674800"/>
        </p:xfrm>
        <a:graphic>
          <a:graphicData uri="http://schemas.openxmlformats.org/drawingml/2006/table">
            <a:tbl>
              <a:tblPr/>
              <a:tblGrid>
                <a:gridCol w="1862280"/>
                <a:gridCol w="2449440"/>
                <a:gridCol w="3247920"/>
              </a:tblGrid>
              <a:tr h="74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ши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уемая час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ичнев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у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ья, кор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к репчат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елух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расны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еробо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бл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авель конск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орн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2125800" y="543960"/>
            <a:ext cx="597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ния используемые для рабо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 Измельчаем расте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Отвариваем длительное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Процеживание полученные примес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Экспериментируем с добавк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Итоговый рису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5:00:12Z</dcterms:created>
  <dc:creator>Наташа</dc:creator>
  <dc:description/>
  <dc:language>en-US</dc:language>
  <cp:lastModifiedBy>Наташа</cp:lastModifiedBy>
  <dcterms:modified xsi:type="dcterms:W3CDTF">2010-03-17T05:40:17Z</dcterms:modified>
  <cp:revision>9</cp:revision>
  <dc:subject/>
  <dc:title>Проект на тему:  «растительные краски»</dc:title>
</cp:coreProperties>
</file>