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A75-028D-436F-ADE9-1B80E8FC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BBD-1349-42CF-8465-BE9DF658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FC8-EF1E-446F-8ED3-E95336DA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E2A-9B65-4B72-B79F-06EA0CB9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41A-27F4-4D32-8D4B-3E4FE5C5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C38D-FD63-414A-ABCC-3C4E6BAD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74AF-67A3-46BB-92C5-BBA8A70D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CCCB-4D25-40B3-BF72-470D9489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4EF2-5169-4CB3-ADA2-4A95DB8B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E712-5158-4C95-89E0-2D8EF433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D7EA-AA2F-4BCD-ACF0-35FC2A1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087-F5C3-4F41-9FDB-72FAFD5B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56D8-9BBE-4A78-8BC1-DBEE40B1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DAE0-5D38-4EFD-A7DF-D589C30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9E68-D70A-4D21-B906-D1B02103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C37E-A3CB-49DC-B2DC-26CB1B8B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3310-9504-48FE-BD2D-5488CBAC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95A-23E3-4AAC-8DE9-13806B63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DBB-42E7-48A9-87D9-73DD8CBF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239-74C5-4059-BEA6-725CECA1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A5E-68F6-4C91-BDA9-22E3ABD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E00-1D72-4EBB-9EA8-CFE1CCEE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974-A740-44BA-90EB-9C32984D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2F6-8A15-4569-9B77-58377FB1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E8F2-BDB2-49F2-B6A8-9E2029CDD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D0C3-8860-41BD-B896-129C5BC76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025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</a:rPr>
              <a:t>Исследовательская работа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b7"/>
                </a:solidFill>
                <a:latin typeface="Times New Roman"/>
              </a:rPr>
              <a:t>Растительные крас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72360" y="3981600"/>
            <a:ext cx="230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пиева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йдарова 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харев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596360" y="259920"/>
            <a:ext cx="1296720" cy="115272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941720"/>
            <a:ext cx="1440000" cy="136692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11280" y="765000"/>
            <a:ext cx="813744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36520" y="6093000"/>
            <a:ext cx="698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ители – называют вещества получаемые методами органического синтеза и предназначенные для окраски различных материалов, прежде всего тка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ки - это смеси зачастую природных красящих и связующих веществ, предназначенные для поверхностного окрашивания различных изделий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асите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4005360"/>
            <a:ext cx="143964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5157720"/>
            <a:ext cx="18720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349360"/>
            <a:ext cx="1871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5157720"/>
            <a:ext cx="2087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59280" y="3068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79736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987640" y="4724280"/>
            <a:ext cx="1152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458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ас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3737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кус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530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те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2492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8360" y="189000"/>
            <a:ext cx="8352720" cy="5830560"/>
            <a:chOff x="468360" y="189000"/>
            <a:chExt cx="8352720" cy="5830560"/>
          </a:xfrm>
        </p:grpSpPr>
        <p:cxnSp>
          <p:nvCxnSpPr>
            <p:cNvPr id="116" name="_s133146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5522760" y="1641600"/>
              <a:ext cx="1166760" cy="29242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3145"/>
            <p:cNvCxnSpPr>
              <a:stCxn id="120" idx="0"/>
              <a:endCxn id="118" idx="2"/>
            </p:cNvCxnSpPr>
            <p:nvPr/>
          </p:nvCxnSpPr>
          <p:spPr>
            <a:xfrm flipV="1">
              <a:off x="4644360" y="2520360"/>
              <a:ext cx="396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3144"/>
            <p:cNvCxnSpPr>
              <a:stCxn id="122" idx="0"/>
              <a:endCxn id="118" idx="2"/>
            </p:cNvCxnSpPr>
            <p:nvPr/>
          </p:nvCxnSpPr>
          <p:spPr>
            <a:xfrm flipH="1" flipV="1" rot="5400000">
              <a:off x="2599560" y="1641600"/>
              <a:ext cx="1166760" cy="29242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8" name="_s133140"/>
            <p:cNvSpPr/>
            <p:nvPr/>
          </p:nvSpPr>
          <p:spPr>
            <a:xfrm>
              <a:off x="3391920" y="18900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иродны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расител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3141"/>
            <p:cNvSpPr/>
            <p:nvPr/>
          </p:nvSpPr>
          <p:spPr>
            <a:xfrm>
              <a:off x="46836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Животн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33142"/>
            <p:cNvSpPr/>
            <p:nvPr/>
          </p:nvSpPr>
          <p:spPr>
            <a:xfrm>
              <a:off x="339192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астительног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3143"/>
            <p:cNvSpPr/>
            <p:nvPr/>
          </p:nvSpPr>
          <p:spPr>
            <a:xfrm>
              <a:off x="631548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Минеральн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317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древних времен и до середины 19 века было известно 30 красител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855 году был синтезирован первый искусственный крас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тех пор их получено более 10 тысяч, но все они очень вредны для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16360" y="2706840"/>
            <a:ext cx="62276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Цель нашей работы 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здать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езопасны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красите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основе растительного сырья произрастающего в нашем районе, исходя из знаний наших пред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Растения, окраска которых дает семь цветов спект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Растения, окраска которых дает семь цветов спектра "/>
          <p:cNvPicPr/>
          <p:nvPr/>
        </p:nvPicPr>
        <p:blipFill>
          <a:blip r:embed="rId1"/>
          <a:stretch/>
        </p:blipFill>
        <p:spPr>
          <a:xfrm>
            <a:off x="2124000" y="174960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900000" y="1906560"/>
          <a:ext cx="7559640" cy="2674800"/>
        </p:xfrm>
        <a:graphic>
          <a:graphicData uri="http://schemas.openxmlformats.org/drawingml/2006/table">
            <a:tbl>
              <a:tblPr/>
              <a:tblGrid>
                <a:gridCol w="1862280"/>
                <a:gridCol w="2449440"/>
                <a:gridCol w="324792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ши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ая ч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, ко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репч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ро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авель ко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ор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125800" y="543960"/>
            <a:ext cx="597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используемые для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Измельчаем 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Отвариваем длительное врем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Процеживание полученные приме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Экспериментируем с добав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Итоговый рису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5:00:12Z</dcterms:created>
  <dc:creator>Наташа</dc:creator>
  <dc:description/>
  <dc:language>en-US</dc:language>
  <cp:lastModifiedBy>Наташа</cp:lastModifiedBy>
  <dcterms:modified xsi:type="dcterms:W3CDTF">2010-03-17T05:40:17Z</dcterms:modified>
  <cp:revision>9</cp:revision>
  <dc:subject/>
  <dc:title>Проект на тему:  «растительные краски»</dc:title>
</cp:coreProperties>
</file>