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gif" ContentType="image/gi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614-B9AD-4750-8C33-BEC7A2E3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B91-A510-495E-9C8A-E12A4B2C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AAB-1B60-43D3-B2AD-3D989FDC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AF3-4559-435B-9E78-D2845EBC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47EB-9FF8-4E13-9739-35DB1549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C27B-96F9-4FEA-B5F8-CBBEBDC2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3B40-EBDA-4C45-9527-599BA7DF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BF27-1692-4DB8-A47F-F41A3371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7339-FD31-4860-BEAB-EAFE30F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8E59-F63A-4415-83AB-5C1D71DB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AC91-3E16-409D-8372-D6B2312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144-82EB-4B06-918E-33157EF4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B87-7613-4D38-B38B-85EC42B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966F-5B44-4694-9DF8-884ED5EA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6255-1CB5-44EC-A935-B18C66BB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2D6E-CC79-4431-A731-C55A4E79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C071-1A9E-4715-ADA2-E423858F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A481-D541-487D-9386-AF706A00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A0FC-A63E-4023-AAFF-AAFA574F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FC71-289F-45EF-9DD3-393729DF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9D5C-FD86-4DAB-BF70-AD35775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4198-83A8-4DB8-8543-5E1C605F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29D-5C6B-4E7B-A2BD-1F685794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D479-701D-4BAD-8657-A91DB422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BDD6-AD6A-492C-A97F-C93C360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37DB-CA80-4670-8857-65D01DA1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5B8E2-48E9-4273-B2B3-BD007AF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0A13-A5AD-489D-9D2A-5C1A6434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472D-DEA9-42F8-B005-E028FEEC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C64D-6280-4CE6-96AE-00A498BD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4F9-F050-4E87-8FB0-8A8912EB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211-43F5-4B3E-BB8B-0CA6DF6F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7CB-F884-4250-8567-1ACCB69C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2E8-F23A-4C10-A754-A04D1EE5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F34-BF10-468B-A89A-5AC705B2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FFD-9998-4237-9642-CA8C17B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5EA4-F18A-4C07-8A41-57FB39DFAC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6273-7B4D-4244-A61F-1C6D151ECD3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BB83-E156-4279-A19D-9D3E92AB751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12"/>
          <p:cNvSpPr txBox="1"/>
          <p:nvPr/>
        </p:nvSpPr>
        <p:spPr>
          <a:xfrm>
            <a:off x="755640" y="189000"/>
            <a:ext cx="777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вченко Галина Александровна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611280" y="1557360"/>
            <a:ext cx="813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заместитель директора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информационно-коммуникационным технологиям МОУ гимназии №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-285840" y="2928960"/>
            <a:ext cx="381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На земле дор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так мног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Улиц разных и алле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Для меня одна дорож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Вечный путь к сердцам детей </a:t>
            </a:r>
            <a:r>
              <a:rPr b="1" i="1" lang="ru-RU" sz="3200" spc="-1" strike="noStrike">
                <a:solidFill>
                  <a:srgbClr val="0066ff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5" descr="DSC00495"/>
          <p:cNvPicPr/>
          <p:nvPr/>
        </p:nvPicPr>
        <p:blipFill>
          <a:blip r:embed="rId2"/>
          <a:stretch/>
        </p:blipFill>
        <p:spPr>
          <a:xfrm>
            <a:off x="3429000" y="2887560"/>
            <a:ext cx="5400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98" name="#3_02_DON'T SAY GOODBYE.mp3" descr=""/>
          <p:cNvPicPr/>
          <p:nvPr/>
        </p:nvPicPr>
        <p:blipFill>
          <a:blip r:embed="rId2"/>
          <a:stretch/>
        </p:blipFill>
        <p:spPr>
          <a:xfrm>
            <a:off x="939636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1"/>
          <p:cNvSpPr txBox="1"/>
          <p:nvPr/>
        </p:nvSpPr>
        <p:spPr>
          <a:xfrm>
            <a:off x="1042920" y="404640"/>
            <a:ext cx="77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Все начинается с детств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79280" y="1773360"/>
            <a:ext cx="388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Человек начинается с детства. Из  любого ребенка можно вырастить доброго, отзывчивого, честного человека. Именно в детстве происходит посев добра. Но лишь через годы будет ясно, оказались ли семена добра схожими, или же сорняки зла погубили 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«Быть добрым – благородно. Но показывать другим, как быть добрым,- еще благородней, и не так хлопотно», - писал М. Тв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3" descr="DSC00241"/>
          <p:cNvPicPr/>
          <p:nvPr/>
        </p:nvPicPr>
        <p:blipFill>
          <a:blip r:embed="rId3"/>
          <a:stretch/>
        </p:blipFill>
        <p:spPr>
          <a:xfrm>
            <a:off x="3924360" y="2205000"/>
            <a:ext cx="52196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bg2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24000" y="1484280"/>
            <a:ext cx="456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е привыкайте к чудес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Дивитесь им, дивите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е привыкайте к небес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Глазами к ним тяните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глядывайтесь к облак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сматривайтесь к птиц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кладывайтесь к родникам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ичто не повторит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За мигом миг, за часом ч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падайте в удивлен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сё будет так и всё не 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Через одно мгновень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DSC00247"/>
          <p:cNvPicPr/>
          <p:nvPr/>
        </p:nvPicPr>
        <p:blipFill>
          <a:blip r:embed="rId2"/>
          <a:stretch/>
        </p:blipFill>
        <p:spPr>
          <a:xfrm>
            <a:off x="5148360" y="148428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7"/>
          <p:cNvSpPr txBox="1"/>
          <p:nvPr/>
        </p:nvSpPr>
        <p:spPr>
          <a:xfrm>
            <a:off x="934920" y="189000"/>
            <a:ext cx="8209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Учитель - это звучит гордо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"/>
          <p:cNvSpPr/>
          <p:nvPr/>
        </p:nvSpPr>
        <p:spPr>
          <a:xfrm>
            <a:off x="0" y="33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Мне хочется, чтобы мои ученики не ш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 школу, а бежали. Для этого надо не 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уж и много – видеть и ценить в каж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ребенке личность и стараться помоч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каждому ребенку найти свое место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жизни. Моя цель – зажечь огонёк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глазах каждого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1" descr="DSC00440"/>
          <p:cNvPicPr/>
          <p:nvPr/>
        </p:nvPicPr>
        <p:blipFill>
          <a:blip r:embed="rId2"/>
          <a:stretch/>
        </p:blipFill>
        <p:spPr>
          <a:xfrm>
            <a:off x="4716360" y="256536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image074"/>
          <p:cNvPicPr/>
          <p:nvPr/>
        </p:nvPicPr>
        <p:blipFill>
          <a:blip r:embed="rId3"/>
          <a:stretch/>
        </p:blipFill>
        <p:spPr>
          <a:xfrm>
            <a:off x="900000" y="393372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ogon010"/>
          <p:cNvPicPr/>
          <p:nvPr/>
        </p:nvPicPr>
        <p:blipFill>
          <a:blip r:embed="rId2"/>
          <a:stretch/>
        </p:blipFill>
        <p:spPr>
          <a:xfrm>
            <a:off x="7377120" y="2492280"/>
            <a:ext cx="1393920" cy="4164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ff"/>
                </a:solidFill>
                <a:latin typeface="Times New Roman"/>
              </a:rPr>
              <a:t>Зажженный нами свет не погаснет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DSC00476"/>
          <p:cNvPicPr/>
          <p:nvPr/>
        </p:nvPicPr>
        <p:blipFill>
          <a:blip r:embed="rId3"/>
          <a:stretch/>
        </p:blipFill>
        <p:spPr>
          <a:xfrm>
            <a:off x="179280" y="183204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DSC00344"/>
          <p:cNvPicPr/>
          <p:nvPr/>
        </p:nvPicPr>
        <p:blipFill>
          <a:blip r:embed="rId4"/>
          <a:stretch/>
        </p:blipFill>
        <p:spPr>
          <a:xfrm>
            <a:off x="4067280" y="1844640"/>
            <a:ext cx="3601800" cy="270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SC00430"/>
          <p:cNvPicPr/>
          <p:nvPr/>
        </p:nvPicPr>
        <p:blipFill>
          <a:blip r:embed="rId5"/>
          <a:stretch/>
        </p:blipFill>
        <p:spPr>
          <a:xfrm>
            <a:off x="2484360" y="4292640"/>
            <a:ext cx="3097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0-03-09T17:04:05Z</dcterms:modified>
  <cp:revision>105</cp:revision>
  <dc:subject/>
  <dc:title>PowerPoint Presentation</dc:title>
</cp:coreProperties>
</file>