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gif" ContentType="image/gif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A24E-3753-4741-9490-F2DBDC655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90B7-4BC2-41CA-8561-958C9AF4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17D8-AC4A-4B5E-9E4F-7750315CF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C730-D722-47B1-9744-7CE229C09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5576-54A5-4668-9C41-1A78FC569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4384-F913-4116-8359-198A6397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1E06-D669-4C77-B7E9-96FA29EE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F186-5596-49DA-831C-4921EFEF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B363-D842-4462-9D21-636B30EE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2EA9-3778-4273-8EA2-0E7B6186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2872-521B-4F44-BC64-AD5DFB00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377C-F988-44DA-A946-25D40FB3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9B15-E2D9-401F-9BB4-A1AAD29F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C76C-93CC-4FC7-905E-456710CC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E82D-8CB0-4E3E-ADB7-0D40D6B0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92FC-991E-4FF8-8A0B-EB949FD22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181D-8125-48B4-A306-EFB58B490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1FA4C-DEB8-4E62-A4A7-09B15C39B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9FE5B-3B44-4F68-91A7-87E73946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5AF96-F214-4F9B-BC32-EC07849E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F0C7E-9ECD-4F70-A75B-91EC8C93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DE127-21CC-4302-9668-715491B1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318E-4714-483A-974F-477A9B7B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74735-B8FC-41C6-96CA-94CA37F6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F3609-0830-46CA-97A6-C18DE252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9DC68-0C45-4952-8247-04F44B83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AE74C-2A8D-48D4-A808-B79BFBD8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C08FE-D547-47E5-8255-46F2FE40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79414-0791-475C-B48F-6799932B7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8BE31-D838-4CF3-95A6-F5A086928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655D-EF61-4E3A-B392-50CAA914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15CA-1AFC-4471-9C30-44FCC1D2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BB00-596F-46A0-A526-BF5376EA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3CD4-C31B-4EE8-856E-3631BEBB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E7FA-847B-4C55-8568-81F62CD4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45B3-BB2F-471C-AC79-19FFE9C2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B049-67A8-4574-90CC-50DEFAF893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5E47-5E0B-4B45-9F97-D96E0A45605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4E86-E7B7-4A29-851C-4EE8C86D91A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bg22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93" name="WordArt 12"/>
          <p:cNvSpPr txBox="1"/>
          <p:nvPr/>
        </p:nvSpPr>
        <p:spPr>
          <a:xfrm>
            <a:off x="755640" y="189000"/>
            <a:ext cx="77770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евченко Галина Александровна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4" name="Rectangle 13"/>
          <p:cNvSpPr/>
          <p:nvPr/>
        </p:nvSpPr>
        <p:spPr>
          <a:xfrm>
            <a:off x="611280" y="1557360"/>
            <a:ext cx="8137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ff"/>
                </a:solidFill>
                <a:latin typeface="Times New Roman"/>
              </a:rPr>
              <a:t>заместитель директора п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9966ff"/>
                </a:solidFill>
                <a:latin typeface="Times New Roman"/>
              </a:rPr>
              <a:t>информационно-коммуникационным технологиям МОУ гимназии №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4"/>
          <p:cNvSpPr/>
          <p:nvPr/>
        </p:nvSpPr>
        <p:spPr>
          <a:xfrm>
            <a:off x="-285840" y="2928960"/>
            <a:ext cx="3816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Comic Sans MS"/>
              </a:rPr>
              <a:t>На земле доро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Comic Sans MS"/>
              </a:rPr>
              <a:t>так много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Comic Sans MS"/>
              </a:rPr>
              <a:t>Улиц разных и аллей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Comic Sans MS"/>
              </a:rPr>
              <a:t>Для меня одна дорож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Comic Sans MS"/>
              </a:rPr>
              <a:t>Вечный путь к сердцам детей </a:t>
            </a:r>
            <a:r>
              <a:rPr b="1" i="1" lang="ru-RU" sz="3200" spc="-1" strike="noStrike">
                <a:solidFill>
                  <a:srgbClr val="0066ff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15" descr="DSC00495"/>
          <p:cNvPicPr/>
          <p:nvPr/>
        </p:nvPicPr>
        <p:blipFill>
          <a:blip r:embed="rId2"/>
          <a:stretch/>
        </p:blipFill>
        <p:spPr>
          <a:xfrm>
            <a:off x="3429000" y="2887560"/>
            <a:ext cx="5400720" cy="39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bg22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198" name="#3_02_DON'T SAY GOODBYE.mp3" descr=""/>
          <p:cNvPicPr/>
          <p:nvPr/>
        </p:nvPicPr>
        <p:blipFill>
          <a:blip r:embed="rId2"/>
          <a:stretch/>
        </p:blipFill>
        <p:spPr>
          <a:xfrm>
            <a:off x="9396360" y="3357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99" name="WordArt 11"/>
          <p:cNvSpPr txBox="1"/>
          <p:nvPr/>
        </p:nvSpPr>
        <p:spPr>
          <a:xfrm>
            <a:off x="1042920" y="404640"/>
            <a:ext cx="7777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latin typeface="Arial"/>
              </a:rPr>
              <a:t>Все начинается с детств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0" name="Rectangle 12"/>
          <p:cNvSpPr/>
          <p:nvPr/>
        </p:nvSpPr>
        <p:spPr>
          <a:xfrm>
            <a:off x="179280" y="1773360"/>
            <a:ext cx="3888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Человек начинается с детства. Из  любого ребенка можно вырастить доброго, отзывчивого, честного человека. Именно в детстве происходит посев добра. Но лишь через годы будет ясно, оказались ли семена добра схожими, или же сорняки зла погубили и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«Быть добрым – благородно. Но показывать другим, как быть добрым,- еще благородней, и не так хлопотно», - писал М. Тве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13" descr="DSC00241"/>
          <p:cNvPicPr/>
          <p:nvPr/>
        </p:nvPicPr>
        <p:blipFill>
          <a:blip r:embed="rId3"/>
          <a:stretch/>
        </p:blipFill>
        <p:spPr>
          <a:xfrm>
            <a:off x="3924360" y="2205000"/>
            <a:ext cx="521964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4" descr="bg22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5"/>
          <p:cNvSpPr/>
          <p:nvPr/>
        </p:nvSpPr>
        <p:spPr>
          <a:xfrm>
            <a:off x="324000" y="1484280"/>
            <a:ext cx="4562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Не привыкайте к чудесам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Дивитесь им, дивитесь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Не привыкайте к небесам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Глазами к ним тяните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Приглядывайтесь к облака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Присматривайтесь к птица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Прикладывайтесь к родникам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Ничто не повторится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За мигом миг, за часом ча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Впадайте в удивлень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Всё будет так и всё не т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Через одно мгновень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6" descr="DSC00247"/>
          <p:cNvPicPr/>
          <p:nvPr/>
        </p:nvPicPr>
        <p:blipFill>
          <a:blip r:embed="rId2"/>
          <a:stretch/>
        </p:blipFill>
        <p:spPr>
          <a:xfrm>
            <a:off x="5148360" y="1484280"/>
            <a:ext cx="3671640" cy="4896000"/>
          </a:xfrm>
          <a:prstGeom prst="rect">
            <a:avLst/>
          </a:prstGeom>
          <a:ln w="0">
            <a:noFill/>
          </a:ln>
        </p:spPr>
      </p:pic>
      <p:sp>
        <p:nvSpPr>
          <p:cNvPr id="206" name="WordArt 7"/>
          <p:cNvSpPr txBox="1"/>
          <p:nvPr/>
        </p:nvSpPr>
        <p:spPr>
          <a:xfrm>
            <a:off x="934920" y="189000"/>
            <a:ext cx="8209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latin typeface="Arial"/>
              </a:rPr>
              <a:t>Учитель - это звучит гордо!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bg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0"/>
          <p:cNvSpPr/>
          <p:nvPr/>
        </p:nvSpPr>
        <p:spPr>
          <a:xfrm>
            <a:off x="0" y="333360"/>
            <a:ext cx="7561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Мне хочется, чтобы мои ученики не ш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в школу, а бежали. Для этого надо не т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уж и много – видеть и ценить в кажд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ребенке личность и стараться помоч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каждому ребенку найти свое место 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жизни. Моя цель – зажечь огонёк 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глазах каждого ребен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11" descr="DSC00440"/>
          <p:cNvPicPr/>
          <p:nvPr/>
        </p:nvPicPr>
        <p:blipFill>
          <a:blip r:embed="rId2"/>
          <a:stretch/>
        </p:blipFill>
        <p:spPr>
          <a:xfrm>
            <a:off x="4716360" y="2565360"/>
            <a:ext cx="3888000" cy="2916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image074"/>
          <p:cNvPicPr/>
          <p:nvPr/>
        </p:nvPicPr>
        <p:blipFill>
          <a:blip r:embed="rId3"/>
          <a:stretch/>
        </p:blipFill>
        <p:spPr>
          <a:xfrm>
            <a:off x="900000" y="3933720"/>
            <a:ext cx="35085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bg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ogon010"/>
          <p:cNvPicPr/>
          <p:nvPr/>
        </p:nvPicPr>
        <p:blipFill>
          <a:blip r:embed="rId2"/>
          <a:stretch/>
        </p:blipFill>
        <p:spPr>
          <a:xfrm>
            <a:off x="7377120" y="2492280"/>
            <a:ext cx="1393920" cy="416412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0"/>
          <p:cNvSpPr/>
          <p:nvPr/>
        </p:nvSpPr>
        <p:spPr>
          <a:xfrm>
            <a:off x="179280" y="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66ff"/>
                </a:solidFill>
                <a:latin typeface="Times New Roman"/>
              </a:rPr>
              <a:t>Зажженный нами свет не погаснет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12" descr="DSC00476"/>
          <p:cNvPicPr/>
          <p:nvPr/>
        </p:nvPicPr>
        <p:blipFill>
          <a:blip r:embed="rId3"/>
          <a:stretch/>
        </p:blipFill>
        <p:spPr>
          <a:xfrm>
            <a:off x="179280" y="183204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3" descr="DSC00344"/>
          <p:cNvPicPr/>
          <p:nvPr/>
        </p:nvPicPr>
        <p:blipFill>
          <a:blip r:embed="rId4"/>
          <a:stretch/>
        </p:blipFill>
        <p:spPr>
          <a:xfrm>
            <a:off x="4067280" y="1844640"/>
            <a:ext cx="3601800" cy="2701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4" descr="DSC00430"/>
          <p:cNvPicPr/>
          <p:nvPr/>
        </p:nvPicPr>
        <p:blipFill>
          <a:blip r:embed="rId5"/>
          <a:stretch/>
        </p:blipFill>
        <p:spPr>
          <a:xfrm>
            <a:off x="2484360" y="4292640"/>
            <a:ext cx="309744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M</cp:lastModifiedBy>
  <dcterms:modified xsi:type="dcterms:W3CDTF">2010-03-09T17:04:05Z</dcterms:modified>
  <cp:revision>105</cp:revision>
  <dc:subject/>
  <dc:title>PowerPoint Presentation</dc:title>
</cp:coreProperties>
</file>