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gif" ContentType="image/gif"/>
  <Override PartName="/ppt/media/image10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gif" ContentType="image/gif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AF8F-5BEE-4A6A-B171-6D1A436CE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ACDB-2555-48F5-B9BC-C88A53C1F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1B9B-02C9-4A4B-B8F7-8A033573F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6701-2487-420B-83B9-FA51DEE5A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5053A-AE0D-45E8-A25A-0467A1DB8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EEAB7-22E4-400D-90A3-56E123011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BE709-BE78-417D-A928-B6DAA8CA9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FC85C-3041-44C6-8E18-79249BE55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8F623-B198-4D51-84F1-B5DD54F0D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0E3BB-D572-4DBA-BFDB-E18C0FD96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C7E0C-BE29-484E-B1EF-D5678C34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9FEE-6BF9-46EF-86F9-14A47967E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7A6E1-0631-4C0C-8D34-2811A37E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64AB5-7381-48F1-A467-BAAEDA47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06A76-C241-4BCD-A658-088E552FD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7930D-8E22-4F4F-8787-9815128A3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0FF89-34CB-4647-9A07-0F6AA33F1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45EB9-2037-4829-8814-3372BB842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A1BE0-A0CC-4DC1-A416-0D2390031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DA6FF-4E37-427B-A275-987E8D341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12ED8-F7B7-45F9-8FBC-7E6C273CC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23259-E6F0-433C-B90D-084125398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0F7A-242B-4188-9C78-24A7A1507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1DA5F-6EEE-4708-8794-834819650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55A54-9A1E-4340-859B-1F160398F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03C1B-30CE-49E0-8B92-59B22F542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CB7B3-294F-4765-BFD9-C504CB45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0141F-2519-4D80-B94F-4FA958223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F8CFB-4A3F-419A-A2FA-C7406A4E1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68C71-F404-492D-9B23-07EC80E3F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5D18-2286-48F0-AE77-36C617504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54B9-7512-4225-9FED-1CEF1B427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832D-1F1D-4059-8381-74D3E3AC4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AEEE-7D71-4D7A-A236-5FFE72948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4276-A099-4993-AF6E-F691D3AE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4466-941C-497A-8A6E-AC00B616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C81E6-A1DD-4852-8DAE-AFA783A721D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9D6DC-BD8A-4B69-BBC7-33877F0B79BD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0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9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40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44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9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36466-2CAA-478D-9B46-49366CE77EDA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9.gif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bg22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193" name="WordArt 12"/>
          <p:cNvSpPr txBox="1"/>
          <p:nvPr/>
        </p:nvSpPr>
        <p:spPr>
          <a:xfrm>
            <a:off x="755640" y="189000"/>
            <a:ext cx="777708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Левченко Галина Александровна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94" name="Rectangle 13"/>
          <p:cNvSpPr/>
          <p:nvPr/>
        </p:nvSpPr>
        <p:spPr>
          <a:xfrm>
            <a:off x="611280" y="1557360"/>
            <a:ext cx="8137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ff"/>
                </a:solidFill>
                <a:latin typeface="Times New Roman"/>
              </a:rPr>
              <a:t>заместитель директора п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9966ff"/>
                </a:solidFill>
                <a:latin typeface="Times New Roman"/>
              </a:rPr>
              <a:t>информационно-коммуникационным технологиям МОУ гимназии № 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4"/>
          <p:cNvSpPr/>
          <p:nvPr/>
        </p:nvSpPr>
        <p:spPr>
          <a:xfrm>
            <a:off x="-285840" y="2928960"/>
            <a:ext cx="38163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ff"/>
                </a:solidFill>
                <a:latin typeface="Comic Sans MS"/>
              </a:rPr>
              <a:t>На земле доро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ff"/>
                </a:solidFill>
                <a:latin typeface="Comic Sans MS"/>
              </a:rPr>
              <a:t>так много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ff"/>
                </a:solidFill>
                <a:latin typeface="Comic Sans MS"/>
              </a:rPr>
              <a:t>Улиц разных и аллей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ff"/>
                </a:solidFill>
                <a:latin typeface="Comic Sans MS"/>
              </a:rPr>
              <a:t>Для меня одна дорож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ff"/>
                </a:solidFill>
                <a:latin typeface="Comic Sans MS"/>
              </a:rPr>
              <a:t>Вечный путь к сердцам детей </a:t>
            </a:r>
            <a:r>
              <a:rPr b="1" i="1" lang="ru-RU" sz="3200" spc="-1" strike="noStrike">
                <a:solidFill>
                  <a:srgbClr val="0066ff"/>
                </a:solidFill>
                <a:latin typeface="Comic Sans MS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15" descr="DSC00495"/>
          <p:cNvPicPr/>
          <p:nvPr/>
        </p:nvPicPr>
        <p:blipFill>
          <a:blip r:embed="rId2"/>
          <a:stretch/>
        </p:blipFill>
        <p:spPr>
          <a:xfrm>
            <a:off x="3429000" y="2887560"/>
            <a:ext cx="5400720" cy="39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bg22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pic>
        <p:nvPicPr>
          <p:cNvPr id="198" name="#3_02_DON'T SAY GOODBYE.mp3" descr=""/>
          <p:cNvPicPr/>
          <p:nvPr/>
        </p:nvPicPr>
        <p:blipFill>
          <a:blip r:embed="rId2"/>
          <a:stretch/>
        </p:blipFill>
        <p:spPr>
          <a:xfrm>
            <a:off x="9396360" y="3357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99" name="WordArt 11"/>
          <p:cNvSpPr txBox="1"/>
          <p:nvPr/>
        </p:nvSpPr>
        <p:spPr>
          <a:xfrm>
            <a:off x="1042920" y="404640"/>
            <a:ext cx="7777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latin typeface="Arial"/>
              </a:rPr>
              <a:t>Все начинается с детства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00" name="Rectangle 12"/>
          <p:cNvSpPr/>
          <p:nvPr/>
        </p:nvSpPr>
        <p:spPr>
          <a:xfrm>
            <a:off x="179280" y="1773360"/>
            <a:ext cx="38880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Arial"/>
              </a:rPr>
              <a:t>Человек начинается с детства. Из  любого ребенка можно вырастить доброго, отзывчивого, честного человека. Именно в детстве происходит посев добра. Но лишь через годы будет ясно, оказались ли семена добра схожими, или же сорняки зла погубили и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9933ff"/>
                </a:solidFill>
                <a:latin typeface="Arial"/>
              </a:rPr>
              <a:t>«Быть добрым – благородно. Но показывать другим, как быть добрым,- еще благородней, и не так хлопотно», - писал М. Тве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13" descr="DSC00241"/>
          <p:cNvPicPr/>
          <p:nvPr/>
        </p:nvPicPr>
        <p:blipFill>
          <a:blip r:embed="rId3"/>
          <a:stretch/>
        </p:blipFill>
        <p:spPr>
          <a:xfrm>
            <a:off x="3924360" y="2205000"/>
            <a:ext cx="521964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3" name="Picture 4" descr="bg22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5"/>
          <p:cNvSpPr/>
          <p:nvPr/>
        </p:nvSpPr>
        <p:spPr>
          <a:xfrm>
            <a:off x="324000" y="1484280"/>
            <a:ext cx="4562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ff"/>
                </a:solidFill>
                <a:latin typeface="Times New Roman"/>
              </a:rPr>
              <a:t>Не привыкайте к чудесам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ff"/>
                </a:solidFill>
                <a:latin typeface="Times New Roman"/>
              </a:rPr>
              <a:t>Дивитесь им, дивитесь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ff"/>
                </a:solidFill>
                <a:latin typeface="Times New Roman"/>
              </a:rPr>
              <a:t>Не привыкайте к небесам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ff"/>
                </a:solidFill>
                <a:latin typeface="Times New Roman"/>
              </a:rPr>
              <a:t>Глазами к ним тянитес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ff"/>
                </a:solidFill>
                <a:latin typeface="Times New Roman"/>
              </a:rPr>
              <a:t>Приглядывайтесь к облакам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ff"/>
                </a:solidFill>
                <a:latin typeface="Times New Roman"/>
              </a:rPr>
              <a:t>Присматривайтесь к птицам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ff"/>
                </a:solidFill>
                <a:latin typeface="Times New Roman"/>
              </a:rPr>
              <a:t>Прикладывайтесь к родникам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ff"/>
                </a:solidFill>
                <a:latin typeface="Times New Roman"/>
              </a:rPr>
              <a:t>Ничто не повторится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ff"/>
                </a:solidFill>
                <a:latin typeface="Times New Roman"/>
              </a:rPr>
              <a:t>За мигом миг, за часом ча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ff"/>
                </a:solidFill>
                <a:latin typeface="Times New Roman"/>
              </a:rPr>
              <a:t>Впадайте в удивлень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ff"/>
                </a:solidFill>
                <a:latin typeface="Times New Roman"/>
              </a:rPr>
              <a:t>Всё будет так и всё не та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ff"/>
                </a:solidFill>
                <a:latin typeface="Times New Roman"/>
              </a:rPr>
              <a:t>Через одно мгновень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9966ff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6" descr="DSC00247"/>
          <p:cNvPicPr/>
          <p:nvPr/>
        </p:nvPicPr>
        <p:blipFill>
          <a:blip r:embed="rId2"/>
          <a:stretch/>
        </p:blipFill>
        <p:spPr>
          <a:xfrm>
            <a:off x="5148360" y="1484280"/>
            <a:ext cx="3671640" cy="4896000"/>
          </a:xfrm>
          <a:prstGeom prst="rect">
            <a:avLst/>
          </a:prstGeom>
          <a:ln w="0">
            <a:noFill/>
          </a:ln>
        </p:spPr>
      </p:pic>
      <p:sp>
        <p:nvSpPr>
          <p:cNvPr id="206" name="WordArt 7"/>
          <p:cNvSpPr txBox="1"/>
          <p:nvPr/>
        </p:nvSpPr>
        <p:spPr>
          <a:xfrm>
            <a:off x="934920" y="189000"/>
            <a:ext cx="820908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latin typeface="Arial"/>
              </a:rPr>
              <a:t>Учитель - это звучит гордо!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bg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10"/>
          <p:cNvSpPr/>
          <p:nvPr/>
        </p:nvSpPr>
        <p:spPr>
          <a:xfrm>
            <a:off x="0" y="333360"/>
            <a:ext cx="7561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ff"/>
                </a:solidFill>
                <a:latin typeface="Times New Roman"/>
              </a:rPr>
              <a:t>Мне хочется, чтобы мои ученики не ш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ff"/>
                </a:solidFill>
                <a:latin typeface="Times New Roman"/>
              </a:rPr>
              <a:t>в школу, а бежали. Для этого надо не та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ff"/>
                </a:solidFill>
                <a:latin typeface="Times New Roman"/>
              </a:rPr>
              <a:t>уж и много – видеть и ценить в кажд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ff"/>
                </a:solidFill>
                <a:latin typeface="Times New Roman"/>
              </a:rPr>
              <a:t>ребенке личность и стараться помоч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ff"/>
                </a:solidFill>
                <a:latin typeface="Times New Roman"/>
              </a:rPr>
              <a:t>каждому ребенку найти свое место 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ff"/>
                </a:solidFill>
                <a:latin typeface="Times New Roman"/>
              </a:rPr>
              <a:t>жизни. Моя цель – зажечь огонёк 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ff"/>
                </a:solidFill>
                <a:latin typeface="Times New Roman"/>
              </a:rPr>
              <a:t>глазах каждого ребен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11" descr="DSC00440"/>
          <p:cNvPicPr/>
          <p:nvPr/>
        </p:nvPicPr>
        <p:blipFill>
          <a:blip r:embed="rId2"/>
          <a:stretch/>
        </p:blipFill>
        <p:spPr>
          <a:xfrm>
            <a:off x="4716360" y="2565360"/>
            <a:ext cx="3888000" cy="29163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2" descr="image074"/>
          <p:cNvPicPr/>
          <p:nvPr/>
        </p:nvPicPr>
        <p:blipFill>
          <a:blip r:embed="rId3"/>
          <a:stretch/>
        </p:blipFill>
        <p:spPr>
          <a:xfrm>
            <a:off x="900000" y="3933720"/>
            <a:ext cx="350856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bg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9" descr="ogon010"/>
          <p:cNvPicPr/>
          <p:nvPr/>
        </p:nvPicPr>
        <p:blipFill>
          <a:blip r:embed="rId2"/>
          <a:stretch/>
        </p:blipFill>
        <p:spPr>
          <a:xfrm>
            <a:off x="7377120" y="2492280"/>
            <a:ext cx="1393920" cy="416412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10"/>
          <p:cNvSpPr/>
          <p:nvPr/>
        </p:nvSpPr>
        <p:spPr>
          <a:xfrm>
            <a:off x="179280" y="0"/>
            <a:ext cx="89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66ff"/>
                </a:solidFill>
                <a:latin typeface="Times New Roman"/>
              </a:rPr>
              <a:t>Зажженный нами свет не погаснет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Picture 12" descr="DSC00476"/>
          <p:cNvPicPr/>
          <p:nvPr/>
        </p:nvPicPr>
        <p:blipFill>
          <a:blip r:embed="rId3"/>
          <a:stretch/>
        </p:blipFill>
        <p:spPr>
          <a:xfrm>
            <a:off x="179280" y="1832040"/>
            <a:ext cx="3745080" cy="28083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3" descr="DSC00344"/>
          <p:cNvPicPr/>
          <p:nvPr/>
        </p:nvPicPr>
        <p:blipFill>
          <a:blip r:embed="rId4"/>
          <a:stretch/>
        </p:blipFill>
        <p:spPr>
          <a:xfrm>
            <a:off x="4067280" y="1844640"/>
            <a:ext cx="3601800" cy="27018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4" descr="DSC00430"/>
          <p:cNvPicPr/>
          <p:nvPr/>
        </p:nvPicPr>
        <p:blipFill>
          <a:blip r:embed="rId5"/>
          <a:stretch/>
        </p:blipFill>
        <p:spPr>
          <a:xfrm>
            <a:off x="2484360" y="4292640"/>
            <a:ext cx="3097440" cy="23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OM</cp:lastModifiedBy>
  <dcterms:modified xsi:type="dcterms:W3CDTF">2010-03-09T17:04:05Z</dcterms:modified>
  <cp:revision>105</cp:revision>
  <dc:subject/>
  <dc:title>PowerPoint Presentation</dc:title>
</cp:coreProperties>
</file>