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gif" ContentType="image/gi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F3A-5358-4752-A3BA-96AF534E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2B3-6EA7-441A-8863-1B6F6DF3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A48-42F1-4683-8333-469567BE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EBF-80AF-41D0-8AEB-75D5927F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8049-8602-4985-BA64-41CC4C9C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3EC4-0913-4F54-8934-FFC21D45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77C3-27F5-425D-89C8-8B067D3C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E9BE-83E6-405E-9BF5-63AFAEE2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363D-0C01-444F-B639-96F2D429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6E82-4E6B-4CD4-A34C-7487B2D8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FCF1-90CC-48AC-AC44-DB8A945C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A1E-BC49-4766-B7C2-B4FE0110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CEE0-EA44-4CF6-B5B9-EF42D2C3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9348-FE39-4619-9DE9-A614F0D1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1A0D-7545-4FD1-A199-9FB2CE91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0ABD-54C7-43A6-9B80-85958C01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51BC-C8F1-4BCA-ADF5-AB291C73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5DFB4-8570-4470-AAD9-F8EE939C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D7D3-E501-4920-9B19-1A9FD4AA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88246-E2AC-468F-B000-25B31957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1666-2894-4FFA-9F17-D6509669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A072-BCD5-4E7E-8973-0B480CD7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10C-976C-4CC4-9579-78CC75EA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C904E-CE50-4111-B893-D1111CCB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F58C5-8D37-4EFA-8031-2CEC5D58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6405-E3BA-478A-9238-A274227F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A0C4-42D1-491E-90B0-C013FBE1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7410-8D6A-46D6-B585-76F3A216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82E56-B414-4F52-A178-4B3DB05D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52EB0-AF6C-4E7B-A9D3-7A2024E6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070-C36B-4DBC-B875-2BC267DC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889-4484-4458-95E3-E58E9B2B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79B-292A-468B-AD68-81429738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CDF-9A56-407C-A8AA-48B8F89D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920-BCBF-4ADC-9C58-304BEF63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24D-6178-4CD8-BD7F-929FD18A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D498-087B-45C5-B61D-3B4FBC26A9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1D33-B9CE-4A11-8EE9-2662E17FDBD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88BB-E987-4127-AD07-622B6B67E59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93" name="WordArt 12"/>
          <p:cNvSpPr txBox="1"/>
          <p:nvPr/>
        </p:nvSpPr>
        <p:spPr>
          <a:xfrm>
            <a:off x="755640" y="189000"/>
            <a:ext cx="7777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вченко Галина Александровна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611280" y="1557360"/>
            <a:ext cx="813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заместитель директора п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информационно-коммуникационным технологиям МОУ гимназии №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-285840" y="2928960"/>
            <a:ext cx="381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На земле дор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так мног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Улиц разных и алле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Для меня одна дорож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Вечный путь к сердцам детей </a:t>
            </a:r>
            <a:r>
              <a:rPr b="1" i="1" lang="ru-RU" sz="3200" spc="-1" strike="noStrike">
                <a:solidFill>
                  <a:srgbClr val="0066ff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5" descr="DSC00495"/>
          <p:cNvPicPr/>
          <p:nvPr/>
        </p:nvPicPr>
        <p:blipFill>
          <a:blip r:embed="rId2"/>
          <a:stretch/>
        </p:blipFill>
        <p:spPr>
          <a:xfrm>
            <a:off x="3429000" y="2887560"/>
            <a:ext cx="54007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98" name="#3_02_DON'T SAY GOODBYE.mp3" descr=""/>
          <p:cNvPicPr/>
          <p:nvPr/>
        </p:nvPicPr>
        <p:blipFill>
          <a:blip r:embed="rId2"/>
          <a:stretch/>
        </p:blipFill>
        <p:spPr>
          <a:xfrm>
            <a:off x="9396360" y="3357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WordArt 11"/>
          <p:cNvSpPr txBox="1"/>
          <p:nvPr/>
        </p:nvSpPr>
        <p:spPr>
          <a:xfrm>
            <a:off x="1042920" y="404640"/>
            <a:ext cx="77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Все начинается с детств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179280" y="1773360"/>
            <a:ext cx="388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Человек начинается с детства. Из  любого ребенка можно вырастить доброго, отзывчивого, честного человека. Именно в детстве происходит посев добра. Но лишь через годы будет ясно, оказались ли семена добра схожими, или же сорняки зла погубили 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«Быть добрым – благородно. Но показывать другим, как быть добрым,- еще благородней, и не так хлопотно», - писал М. Тв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3" descr="DSC00241"/>
          <p:cNvPicPr/>
          <p:nvPr/>
        </p:nvPicPr>
        <p:blipFill>
          <a:blip r:embed="rId3"/>
          <a:stretch/>
        </p:blipFill>
        <p:spPr>
          <a:xfrm>
            <a:off x="3924360" y="2205000"/>
            <a:ext cx="52196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bg2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324000" y="1484280"/>
            <a:ext cx="456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Не привыкайте к чудеса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Дивитесь им, дивите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Не привыкайте к небеса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Глазами к ним тяните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Приглядывайтесь к облак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Присматривайтесь к птиц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Прикладывайтесь к родникам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Ничто не повторитс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За мигом миг, за часом ч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Впадайте в удивлень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Всё будет так и всё не 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Через одно мгновень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DSC00247"/>
          <p:cNvPicPr/>
          <p:nvPr/>
        </p:nvPicPr>
        <p:blipFill>
          <a:blip r:embed="rId2"/>
          <a:stretch/>
        </p:blipFill>
        <p:spPr>
          <a:xfrm>
            <a:off x="5148360" y="148428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7"/>
          <p:cNvSpPr txBox="1"/>
          <p:nvPr/>
        </p:nvSpPr>
        <p:spPr>
          <a:xfrm>
            <a:off x="934920" y="189000"/>
            <a:ext cx="8209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Учитель - это звучит гордо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"/>
          <p:cNvSpPr/>
          <p:nvPr/>
        </p:nvSpPr>
        <p:spPr>
          <a:xfrm>
            <a:off x="0" y="33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Мне хочется, чтобы мои ученики не ш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в школу, а бежали. Для этого надо не 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уж и много – видеть и ценить в каж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ребенке личность и стараться помоч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каждому ребенку найти свое место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жизни. Моя цель – зажечь огонёк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глазах каждого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1" descr="DSC00440"/>
          <p:cNvPicPr/>
          <p:nvPr/>
        </p:nvPicPr>
        <p:blipFill>
          <a:blip r:embed="rId2"/>
          <a:stretch/>
        </p:blipFill>
        <p:spPr>
          <a:xfrm>
            <a:off x="4716360" y="256536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image074"/>
          <p:cNvPicPr/>
          <p:nvPr/>
        </p:nvPicPr>
        <p:blipFill>
          <a:blip r:embed="rId3"/>
          <a:stretch/>
        </p:blipFill>
        <p:spPr>
          <a:xfrm>
            <a:off x="900000" y="393372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ogon010"/>
          <p:cNvPicPr/>
          <p:nvPr/>
        </p:nvPicPr>
        <p:blipFill>
          <a:blip r:embed="rId2"/>
          <a:stretch/>
        </p:blipFill>
        <p:spPr>
          <a:xfrm>
            <a:off x="7377120" y="2492280"/>
            <a:ext cx="1393920" cy="41641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0"/>
          <p:cNvSpPr/>
          <p:nvPr/>
        </p:nvSpPr>
        <p:spPr>
          <a:xfrm>
            <a:off x="179280" y="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ff"/>
                </a:solidFill>
                <a:latin typeface="Times New Roman"/>
              </a:rPr>
              <a:t>Зажженный нами свет не погаснет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2" descr="DSC00476"/>
          <p:cNvPicPr/>
          <p:nvPr/>
        </p:nvPicPr>
        <p:blipFill>
          <a:blip r:embed="rId3"/>
          <a:stretch/>
        </p:blipFill>
        <p:spPr>
          <a:xfrm>
            <a:off x="179280" y="183204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DSC00344"/>
          <p:cNvPicPr/>
          <p:nvPr/>
        </p:nvPicPr>
        <p:blipFill>
          <a:blip r:embed="rId4"/>
          <a:stretch/>
        </p:blipFill>
        <p:spPr>
          <a:xfrm>
            <a:off x="4067280" y="1844640"/>
            <a:ext cx="3601800" cy="2701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DSC00430"/>
          <p:cNvPicPr/>
          <p:nvPr/>
        </p:nvPicPr>
        <p:blipFill>
          <a:blip r:embed="rId5"/>
          <a:stretch/>
        </p:blipFill>
        <p:spPr>
          <a:xfrm>
            <a:off x="2484360" y="4292640"/>
            <a:ext cx="30974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0-03-09T17:04:05Z</dcterms:modified>
  <cp:revision>105</cp:revision>
  <dc:subject/>
  <dc:title>PowerPoint Presentation</dc:title>
</cp:coreProperties>
</file>