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media/image6.wmf" ContentType="image/x-wmf"/>
  <Override PartName="/ppt/media/image5.wmf" ContentType="image/x-wm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65E-0C54-4F18-81E1-47BB5739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B18-E846-497A-ADF1-847789D3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D23-CAF8-4031-8F66-071F2529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A8D-E36D-4C99-A269-8BF4A8A1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DB33-F8C2-4E5F-B00D-2EFDAA45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B659-0E73-4AB3-AB8C-448BA049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93D6-FB84-483F-81D5-A9F93F0C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1F55-3D8B-4976-8C87-53B3FD0F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C61D-B158-460E-9ECA-00570D09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A9DE-5C08-4664-B24C-CC9116E8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FF19-5E62-44DB-B567-4F6B1C7A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BD7-CAFF-4898-95FA-EEDE6CFD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681F-AB54-42D3-8D38-54DCB9C7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A695-D385-44AA-BEC6-962B958D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E79A-11C4-4A24-8252-F764E984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46B3-14FD-4B4B-9593-5FBE37AC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5A0B-430E-4F4C-8AED-FA7EE297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C77-07F0-4921-9213-34396E66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AB7-4622-4997-B076-F17EB514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6CB-13A9-48B6-83D8-84AEF31C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057-FAE1-4628-B1A8-77DEE250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855-CB1B-4FF8-BE3E-888984EF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C8A-0481-45ED-90AC-27DCC0B0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2E7-7A62-4D0C-A0B3-1D001FF2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e3ffff"/>
                </a:gs>
                <a:gs pos="100000">
                  <a:srgbClr val="66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576A-ABA2-4BC7-BC99-EC188015D8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FEA3-D1F5-4176-A20E-BD1DAE68C5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gimnasia20kam@yandex.ru" TargetMode="External"/><Relationship Id="rId2" Type="http://schemas.openxmlformats.org/officeDocument/2006/relationships/hyperlink" Target="mailto:gimnasia20kam@yandex.ru" TargetMode="External"/><Relationship Id="rId3" Type="http://schemas.openxmlformats.org/officeDocument/2006/relationships/hyperlink" Target="mailto:gimnasia20kam@yandex.ru" TargetMode="Externa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631280" cy="280836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едрение информационных технологий в образовательный проц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0"/>
            <a:ext cx="25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116000" y="2852640"/>
            <a:ext cx="6400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гимназия № 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. С. С. Стан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 Каменолом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Работа в сети Интернет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350028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Сайт гимназии: 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gimnasia20kam</a:t>
            </a: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narod</a:t>
            </a: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ru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Электронная почта: </a:t>
            </a:r>
            <a:r>
              <a:rPr b="0" lang="en-US" sz="2000" spc="-1" strike="noStrike" u="sng">
                <a:solidFill>
                  <a:srgbClr val="187c16"/>
                </a:solidFill>
                <a:uFillTx/>
                <a:latin typeface="Arial"/>
                <a:hlinkClick r:id="rId1"/>
              </a:rPr>
              <a:t>gimnasia20kam@yandex</a:t>
            </a:r>
            <a:r>
              <a:rPr b="0" lang="ru-RU" sz="2000" spc="-1" strike="noStrike" u="sng">
                <a:solidFill>
                  <a:srgbClr val="187c16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187c16"/>
                </a:solidFill>
                <a:uFillTx/>
                <a:latin typeface="Arial"/>
                <a:hlinkClick r:id="rId3"/>
              </a:rPr>
              <a:t>ru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Работа педагогов в сети Интернет (по отдельному графику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нтернет – клуб для старшеклассников (по отдельному графику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- Участие в Интернет-конкур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Применение ИКТ во внеурочной деятельности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68360" y="2421000"/>
            <a:ext cx="6382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400a8"/>
                </a:solidFill>
                <a:latin typeface="Arial"/>
              </a:rPr>
              <a:t>Кружковая работа учителей информатики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400a8"/>
                </a:solidFill>
                <a:latin typeface="Arial"/>
              </a:rPr>
              <a:t> 8-е классы – «Компьютерная грамотность»</a:t>
            </a:r>
            <a:br>
              <a:rPr sz="2400"/>
            </a:br>
            <a:r>
              <a:rPr b="1" lang="en-US" sz="2400" spc="-1" strike="noStrike">
                <a:solidFill>
                  <a:srgbClr val="4400a8"/>
                </a:solidFill>
                <a:latin typeface="Arial"/>
              </a:rPr>
              <a:t> 7-е классы – «Мой компьютерный мир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940360" y="4365720"/>
            <a:ext cx="2482920" cy="212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Техническая база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2637000"/>
            <a:ext cx="6381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2 компьютерных класса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2 интерактивные доски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в каждом классе мультимедийные установки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лицензионное программное обеспечение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выход в Интернет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70% учащихся гимназии имеют компью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52880" y="4648320"/>
            <a:ext cx="41911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24000" y="350028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11320" y="0"/>
            <a:ext cx="71326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зации образования в гимна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оспитание у школьников информационн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пользование ИКТ в предметном обуч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пользование ИКТ в воспитательном процесс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урочной деятельности, дополнительном образов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пользование ИКТ в процессе управления учрежд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едоставление доступа  к мировым информацион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сурсам ученикам и педагог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95640" y="4365720"/>
            <a:ext cx="482436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1280" y="1341000"/>
            <a:ext cx="6400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00a8"/>
                </a:solidFill>
                <a:latin typeface="Arial"/>
              </a:rPr>
              <a:t>Технология</a:t>
            </a:r>
            <a:r>
              <a:rPr b="0" lang="en-US" sz="4000" spc="-1" strike="noStrike">
                <a:solidFill>
                  <a:srgbClr val="4400a8"/>
                </a:solidFill>
                <a:latin typeface="Arial"/>
              </a:rPr>
              <a:t> – совокупность методов, способов и приемов, применяемых для получения определенного вида продукции</a:t>
            </a:r>
            <a:endParaRPr b="0" lang="en-US" sz="40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Информационные технологии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– технологии в области информационной деятельности людей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3213000"/>
            <a:ext cx="6400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Новые информационные технологии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(НИТ)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– технологии, связанные с использованием компьютерной тех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00a8"/>
                </a:solidFill>
                <a:latin typeface="Arial"/>
              </a:rPr>
              <a:t>Некоторые виды НИТ:</a:t>
            </a:r>
            <a:endParaRPr b="0" lang="en-US" sz="40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773360"/>
            <a:ext cx="640080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информационны техн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хнологии обучения – информационно-коммуникационные технологии (ИКТ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j0254425" descr=""/>
          <p:cNvPicPr/>
          <p:nvPr/>
        </p:nvPicPr>
        <p:blipFill>
          <a:blip r:embed="rId1"/>
          <a:stretch/>
        </p:blipFill>
        <p:spPr>
          <a:xfrm>
            <a:off x="6084720" y="4508640"/>
            <a:ext cx="2857680" cy="217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1. Программа информатизации гимназии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17880" y="1656720"/>
            <a:ext cx="7026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ная программа информатизации гимназии — программа развития — основной организационный инструмент трансформации содержания, методов и организационных форм учебной работы, обеспечивающий подготовку учащихся к жизни в условиях информационного обществ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56360" y="4302000"/>
            <a:ext cx="2987640" cy="255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579600" y="476280"/>
            <a:ext cx="8564040" cy="6149880"/>
            <a:chOff x="579600" y="476280"/>
            <a:chExt cx="8564040" cy="6149880"/>
          </a:xfrm>
        </p:grpSpPr>
        <p:sp>
          <p:nvSpPr>
            <p:cNvPr id="99" name=""/>
            <p:cNvSpPr/>
            <p:nvPr/>
          </p:nvSpPr>
          <p:spPr>
            <a:xfrm>
              <a:off x="2271240" y="1168920"/>
              <a:ext cx="4372920" cy="6055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50000">
                  <a:srgbClr val="ffffff"/>
                </a:gs>
                <a:gs pos="100000">
                  <a:srgbClr val="e9e9e9"/>
                </a:gs>
              </a:gsLst>
              <a:lin ang="5400000"/>
            </a:gra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Направления использования информационно – </a:t>
              </a:r>
              <a:br>
                <a:rPr sz="1200"/>
              </a:b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коммуникационных технолог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66520" y="2121840"/>
              <a:ext cx="182916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воспит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22840" y="2121840"/>
              <a:ext cx="179856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управ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87280" y="476280"/>
              <a:ext cx="306288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научно-методической  и исследовательской деятель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600" y="476280"/>
              <a:ext cx="2148480" cy="474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09360" y="476280"/>
              <a:ext cx="2163600" cy="47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нформатизация труда учите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9600" y="2121840"/>
              <a:ext cx="187416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обуч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7000" y="246852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9040" y="3117960"/>
              <a:ext cx="233136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мпьютерное модел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9040" y="3897720"/>
              <a:ext cx="233136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нформационные технологии  в коррекционной педагоги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9040" y="3507840"/>
              <a:ext cx="232884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истанционное об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9040" y="2554920"/>
              <a:ext cx="2331360" cy="52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оектно – исследовательская деят-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7000" y="290160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7000" y="329112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7000" y="368100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000" y="411408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16800" y="5976720"/>
              <a:ext cx="275832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школьных средствах массовой информации: обновление сайта школы, газета, оформление кабинетов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01680" y="2554920"/>
              <a:ext cx="2758320" cy="86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о внеурочной деятельности: кружок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ля младших школьников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едметные лаборатории, сетевые конкурсы, олимпиады  и т.д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16800" y="3507840"/>
              <a:ext cx="2758320" cy="82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познавательной и развивающей деятельности обучающихся: доступ к сетевым информационным ресурсам и средствам И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16800" y="4417560"/>
              <a:ext cx="275832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КТ в досуговой деятельности обучающихся: Интернет – клуб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01680" y="5153760"/>
              <a:ext cx="2773440" cy="73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при проведении  проектной деятельности (организация и консультирование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78520" y="1948680"/>
              <a:ext cx="597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78520" y="1948680"/>
              <a:ext cx="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50320" y="1948680"/>
              <a:ext cx="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52360" y="19486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0" y="2468520"/>
              <a:ext cx="0" cy="355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49400" y="2468520"/>
              <a:ext cx="0" cy="38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9400" y="307476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64520" y="394092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9400" y="485028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49400" y="5586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64520" y="632304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78520" y="1038960"/>
              <a:ext cx="59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63400" y="952560"/>
              <a:ext cx="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50320" y="952560"/>
              <a:ext cx="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06640" y="952560"/>
              <a:ext cx="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10640" y="2554920"/>
              <a:ext cx="2102760" cy="9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перативное получение и обобщение информации об учебном процессе для принятия управленческих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0640" y="3637800"/>
              <a:ext cx="210276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спользование сетевой системы школьного документооборо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25760" y="4374000"/>
              <a:ext cx="210276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здание и использование информационных баз дан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40880" y="5110200"/>
              <a:ext cx="21027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втоматизированное составление отчет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0" y="3117960"/>
              <a:ext cx="1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8000" y="4027680"/>
              <a:ext cx="1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73480" y="4720680"/>
              <a:ext cx="1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0" y="541332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56360" y="5716800"/>
              <a:ext cx="207216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ониторинговая деятель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0" y="601992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6160" y="4503960"/>
              <a:ext cx="2910600" cy="21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хнологии тотальной индивидуализации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хнологии графического сжатия информации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ультимедиа технологии, реализуемые на основе специально структурированных баз данных, электронных пособий и учебников, адаптированного программно-аппаратного обеспечения и периферии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ециализированные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ультимедиа-технологии в живом контакте учителя и школьника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8760" y="4376160"/>
              <a:ext cx="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38920" y="496800"/>
            <a:ext cx="2158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КТ в работе с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2. ИКТ в работе учителя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350028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Использование компьютерной техники на уроках (интерактивная доска и мультимедийная установка)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спользование Интернет-технологий: поиск информации, уроки в режиме реального времени, создание собственного сайта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Дистанционное обучение </a:t>
            </a:r>
            <a:r>
              <a:rPr b="0" lang="ru-RU" sz="2000" spc="-1" strike="noStrike" u="sng">
                <a:solidFill>
                  <a:srgbClr val="4400a8"/>
                </a:solidFill>
                <a:uFillTx/>
                <a:latin typeface="Arial"/>
              </a:rPr>
              <a:t>(Академия АЙТИ)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спользование электронных учебников в обучении учащихся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спользование СПО в гимназии и на личных компьютерах педагогов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Разнообразие программных продуктов, применяемых педагогами на уроках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Применение ИКТ во внеурочной деятельности (внеклассная работа, досуг учащихся);</a:t>
            </a:r>
            <a:br>
              <a:rPr sz="2000"/>
            </a:br>
            <a:r>
              <a:rPr b="1" lang="ru-RU" sz="2000" spc="-1" strike="noStrike">
                <a:solidFill>
                  <a:srgbClr val="4400a8"/>
                </a:solidFill>
                <a:latin typeface="Arial"/>
              </a:rPr>
              <a:t>- Использование сетевой системы школьного документооборота (локальная сеть)</a:t>
            </a:r>
            <a:br>
              <a:rPr sz="2000"/>
            </a:br>
            <a:r>
              <a:rPr b="1" lang="ru-RU" sz="2000" spc="-1" strike="noStrike">
                <a:solidFill>
                  <a:srgbClr val="4400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400a8"/>
                </a:solidFill>
                <a:uFillTx/>
                <a:latin typeface="Arial"/>
              </a:rPr>
              <a:t>Уроки с использованием ИКТ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58920" y="2205000"/>
          <a:ext cx="7705800" cy="35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770580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438280" y="22860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400a8"/>
                </a:solidFill>
                <a:uFillTx/>
                <a:latin typeface="Arial"/>
              </a:rPr>
              <a:t>Уровень подготовки педагогических кадр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411280" y="2205000"/>
          <a:ext cx="6732720" cy="29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205000"/>
                    <a:ext cx="6732720" cy="29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6:03:42Z</dcterms:created>
  <dc:creator>Усольцева Э.М. Преподаватель информатики ГОУ НПО КПУ</dc:creator>
  <dc:description/>
  <dc:language>en-US</dc:language>
  <cp:lastModifiedBy>РОМА</cp:lastModifiedBy>
  <dcterms:modified xsi:type="dcterms:W3CDTF">2009-12-01T21:27:55Z</dcterms:modified>
  <cp:revision>14</cp:revision>
  <dc:subject/>
  <dc:title>Слайд 1</dc:title>
</cp:coreProperties>
</file>