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gif" ContentType="image/gif"/>
  <Override PartName="/ppt/media/image6.wmf" ContentType="image/x-wmf"/>
  <Override PartName="/ppt/media/image5.wmf" ContentType="image/x-wm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9DD0-231C-438C-8072-47B1C4E1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8904-81E3-4EF9-AA53-357D4EA2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B9E6-2772-4206-ADEF-4D3D3CD8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8C60-378A-4AA2-ACAF-E1D151325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2C6C-0019-460E-A5C6-F8720E3F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D901-3EA3-4D3A-92A1-F3D38F7E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2AAD-A6B0-4607-A192-7ECFFF1C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3B32-3C6A-476B-9763-D6B71D0E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B267-446A-4185-983B-63F9ADB2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49D5-ED67-489B-AE3E-F5A36193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7C06-20B1-41F7-A291-AD71E2C5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ABA6-7D0B-4DC8-9671-FA82607D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56BB-5763-4CC8-967A-3E6DAE66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243C-FD68-4E0D-901F-3ADBD25B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84A0-E88B-483E-8FD1-519C01F5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189F-2F15-4132-9398-CF594CA17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F723-0B42-4CD5-89D1-022243BA8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26FC-9C4A-48BA-9AB5-D6BDB6B8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87EF-B6E6-49BE-8A56-EA0A890D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1D54-0747-499B-947E-716BA3B5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F0A9-6FE7-401B-8D2D-558201F4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8B7D-6804-4315-8F4F-E7A55B1A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AEA0-B5BA-4088-A332-36B3749D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C29B-E822-4E8A-8547-5513101B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e3ffff"/>
                </a:gs>
                <a:gs pos="100000">
                  <a:srgbClr val="66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E108-3389-426A-82ED-96C4701649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003F-98A6-4F27-B07D-8261B826CB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e3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gimnasia20kam@yandex.ru" TargetMode="External"/><Relationship Id="rId2" Type="http://schemas.openxmlformats.org/officeDocument/2006/relationships/hyperlink" Target="mailto:gimnasia20kam@yandex.ru" TargetMode="External"/><Relationship Id="rId3" Type="http://schemas.openxmlformats.org/officeDocument/2006/relationships/hyperlink" Target="mailto:gimnasia20kam@yandex.ru" TargetMode="External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631280" cy="2808360"/>
          </a:xfrm>
          <a:prstGeom prst="rect">
            <a:avLst/>
          </a:prstGeom>
          <a:solidFill>
            <a:srgbClr val="e3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недрение информационных технологий в образовательный проце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0"/>
            <a:ext cx="2592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116000" y="2852640"/>
            <a:ext cx="64008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гимназия № 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. С. С. Станч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. Каменолом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81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Работа в сети Интернет: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4000" y="3500280"/>
            <a:ext cx="6381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4400a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Сайт гимназии: </a:t>
            </a:r>
            <a:r>
              <a:rPr b="0" lang="en-US" sz="2000" spc="-1" strike="noStrike">
                <a:solidFill>
                  <a:srgbClr val="4400a8"/>
                </a:solidFill>
                <a:latin typeface="Arial"/>
              </a:rPr>
              <a:t>gimnasia20kam</a:t>
            </a: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4400a8"/>
                </a:solidFill>
                <a:latin typeface="Arial"/>
              </a:rPr>
              <a:t>narod</a:t>
            </a: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4400a8"/>
                </a:solidFill>
                <a:latin typeface="Arial"/>
              </a:rPr>
              <a:t>ru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Электронная почта: </a:t>
            </a:r>
            <a:r>
              <a:rPr b="0" lang="en-US" sz="2000" spc="-1" strike="noStrike" u="sng">
                <a:solidFill>
                  <a:srgbClr val="187c16"/>
                </a:solidFill>
                <a:uFillTx/>
                <a:latin typeface="Arial"/>
                <a:hlinkClick r:id="rId1"/>
              </a:rPr>
              <a:t>gimnasia20kam@yandex</a:t>
            </a:r>
            <a:r>
              <a:rPr b="0" lang="ru-RU" sz="2000" spc="-1" strike="noStrike" u="sng">
                <a:solidFill>
                  <a:srgbClr val="187c16"/>
                </a:solidFill>
                <a:uFillTx/>
                <a:latin typeface="Arial"/>
                <a:hlinkClick r:id="rId2"/>
              </a:rPr>
              <a:t>.</a:t>
            </a:r>
            <a:r>
              <a:rPr b="0" lang="en-US" sz="2000" spc="-1" strike="noStrike" u="sng">
                <a:solidFill>
                  <a:srgbClr val="187c16"/>
                </a:solidFill>
                <a:uFillTx/>
                <a:latin typeface="Arial"/>
                <a:hlinkClick r:id="rId3"/>
              </a:rPr>
              <a:t>ru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Работа педагогов в сети Интернет (по отдельному графику)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Интернет – клуб для старшеклассников (по отдельному графику)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- Участие в Интернет-конкур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81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Применение ИКТ во внеурочной деятельности: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68360" y="2421000"/>
            <a:ext cx="6382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00a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400a8"/>
                </a:solidFill>
                <a:latin typeface="Arial"/>
              </a:rPr>
              <a:t>Кружковая работа учителей информатики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4400a8"/>
                </a:solidFill>
                <a:latin typeface="Arial"/>
              </a:rPr>
              <a:t> 8-е классы – «Компьютерная грамотность»</a:t>
            </a:r>
            <a:br>
              <a:rPr sz="2400"/>
            </a:br>
            <a:r>
              <a:rPr b="1" lang="en-US" sz="2400" spc="-1" strike="noStrike">
                <a:solidFill>
                  <a:srgbClr val="4400a8"/>
                </a:solidFill>
                <a:latin typeface="Arial"/>
              </a:rPr>
              <a:t> 7-е классы – «Мой компьютерный мир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940360" y="4365720"/>
            <a:ext cx="2482920" cy="2124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81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Техническая база: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24000" y="2637000"/>
            <a:ext cx="63817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4400a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4400a8"/>
                </a:solidFill>
                <a:latin typeface="Arial"/>
              </a:rPr>
              <a:t>2 компьютерных класса;</a:t>
            </a:r>
            <a:br>
              <a:rPr sz="2800"/>
            </a:br>
            <a:r>
              <a:rPr b="0" lang="ru-RU" sz="2800" spc="-1" strike="noStrike">
                <a:solidFill>
                  <a:srgbClr val="4400a8"/>
                </a:solidFill>
                <a:latin typeface="Arial"/>
              </a:rPr>
              <a:t> 2 интерактивные доски;</a:t>
            </a:r>
            <a:br>
              <a:rPr sz="2800"/>
            </a:br>
            <a:r>
              <a:rPr b="0" lang="ru-RU" sz="2800" spc="-1" strike="noStrike">
                <a:solidFill>
                  <a:srgbClr val="4400a8"/>
                </a:solidFill>
                <a:latin typeface="Arial"/>
              </a:rPr>
              <a:t> в каждом классе мультимедийные установки;</a:t>
            </a:r>
            <a:br>
              <a:rPr sz="2800"/>
            </a:br>
            <a:r>
              <a:rPr b="0" lang="ru-RU" sz="2800" spc="-1" strike="noStrike">
                <a:solidFill>
                  <a:srgbClr val="4400a8"/>
                </a:solidFill>
                <a:latin typeface="Arial"/>
              </a:rPr>
              <a:t> лицензионное программное обеспечение;</a:t>
            </a:r>
            <a:br>
              <a:rPr sz="2800"/>
            </a:br>
            <a:r>
              <a:rPr b="0" lang="ru-RU" sz="2800" spc="-1" strike="noStrike">
                <a:solidFill>
                  <a:srgbClr val="4400a8"/>
                </a:solidFill>
                <a:latin typeface="Arial"/>
              </a:rPr>
              <a:t> выход в Интернет;</a:t>
            </a:r>
            <a:br>
              <a:rPr sz="2800"/>
            </a:br>
            <a:r>
              <a:rPr b="0" lang="ru-RU" sz="2800" spc="-1" strike="noStrike">
                <a:solidFill>
                  <a:srgbClr val="4400a8"/>
                </a:solidFill>
                <a:latin typeface="Arial"/>
              </a:rPr>
              <a:t> 70% учащихся гимназии имеют компьют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952880" y="4648320"/>
            <a:ext cx="419112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124000" y="3500280"/>
            <a:ext cx="6381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4400a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011320" y="0"/>
            <a:ext cx="713268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новные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форматизации образования в гимназ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оспитание у школьников информационной культу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спользование ИКТ в предметном обуче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спользование ИКТ в воспитательном процесс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еурочной деятельности, дополнительном образова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спользование ИКТ в процессе управления учреждени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редоставление доступа  к мировым информацион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сурсам ученикам и педагог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995640" y="4365720"/>
            <a:ext cx="4824360" cy="2281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11280" y="1341000"/>
            <a:ext cx="6400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00a8"/>
                </a:solidFill>
                <a:latin typeface="Arial"/>
              </a:rPr>
              <a:t>Технология</a:t>
            </a:r>
            <a:r>
              <a:rPr b="0" lang="en-US" sz="4000" spc="-1" strike="noStrike">
                <a:solidFill>
                  <a:srgbClr val="4400a8"/>
                </a:solidFill>
                <a:latin typeface="Arial"/>
              </a:rPr>
              <a:t> – совокупность методов, способов и приемов, применяемых для получения определенного вида продукции</a:t>
            </a:r>
            <a:endParaRPr b="0" lang="en-US" sz="40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Информационные технологии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 – технологии в области информационной деятельности людей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56000" y="3213000"/>
            <a:ext cx="64008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Новые информационные технологии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(НИТ)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 – технологии, связанные с использованием компьютерной тех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00a8"/>
                </a:solidFill>
                <a:latin typeface="Arial"/>
              </a:rPr>
              <a:t>Некоторые виды НИТ:</a:t>
            </a:r>
            <a:endParaRPr b="0" lang="en-US" sz="40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1773360"/>
            <a:ext cx="640080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ка докумен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иск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информационны технолог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ехнологии обучения – информационно-коммуникационные технологии (ИКТ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j0254425" descr=""/>
          <p:cNvPicPr/>
          <p:nvPr/>
        </p:nvPicPr>
        <p:blipFill>
          <a:blip r:embed="rId1"/>
          <a:stretch/>
        </p:blipFill>
        <p:spPr>
          <a:xfrm>
            <a:off x="6084720" y="4508640"/>
            <a:ext cx="2857680" cy="2171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1. Программа информатизации гимназии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17880" y="1656720"/>
            <a:ext cx="7026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нная программа информатизации гимназии — программа развития — основной организационный инструмент трансформации содержания, методов и организационных форм учебной работы, обеспечивающий подготовку учащихся к жизни в условиях информационного обществ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56360" y="4302000"/>
            <a:ext cx="2987640" cy="2556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579600" y="476280"/>
            <a:ext cx="8564040" cy="6149880"/>
            <a:chOff x="579600" y="476280"/>
            <a:chExt cx="8564040" cy="6149880"/>
          </a:xfrm>
        </p:grpSpPr>
        <p:sp>
          <p:nvSpPr>
            <p:cNvPr id="99" name=""/>
            <p:cNvSpPr/>
            <p:nvPr/>
          </p:nvSpPr>
          <p:spPr>
            <a:xfrm>
              <a:off x="2271240" y="1168920"/>
              <a:ext cx="4372920" cy="60552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50000">
                  <a:srgbClr val="ffffff"/>
                </a:gs>
                <a:gs pos="100000">
                  <a:srgbClr val="e9e9e9"/>
                </a:gs>
              </a:gsLst>
              <a:lin ang="5400000"/>
            </a:gradFill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Направления использования информационно – </a:t>
              </a:r>
              <a:br>
                <a:rPr sz="1200"/>
              </a:b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коммуникационных технологи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66520" y="2121840"/>
              <a:ext cx="182916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33"/>
              </a:solidFill>
              <a:miter/>
            </a:ln>
            <a:effectLst>
              <a:outerShdw dist="53966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КТ в воспита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22840" y="2121840"/>
              <a:ext cx="179856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33"/>
              </a:solidFill>
              <a:miter/>
            </a:ln>
            <a:effectLst>
              <a:outerShdw dist="53966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КТ в управле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87280" y="476280"/>
              <a:ext cx="3062880" cy="4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33"/>
              </a:solidFill>
              <a:miter/>
            </a:ln>
            <a:effectLst>
              <a:outerShdw dist="53966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КТ в научно-методической  и исследовательской деятель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600" y="476280"/>
              <a:ext cx="2148480" cy="474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33"/>
              </a:solidFill>
              <a:miter/>
            </a:ln>
            <a:effectLst>
              <a:outerShdw dist="53966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09360" y="476280"/>
              <a:ext cx="2163600" cy="477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33"/>
              </a:solidFill>
              <a:miter/>
            </a:ln>
            <a:effectLst>
              <a:outerShdw dist="53966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нформатизация труда учител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9600" y="2121840"/>
              <a:ext cx="187416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33"/>
              </a:solidFill>
              <a:miter/>
            </a:ln>
            <a:effectLst>
              <a:outerShdw dist="53966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КТ в обуче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7000" y="2468520"/>
              <a:ext cx="0" cy="16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69040" y="3117960"/>
              <a:ext cx="2331360" cy="34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Компьютерное моделиров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69040" y="3897720"/>
              <a:ext cx="2331360" cy="47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нформационные технологии  в коррекционной педагогик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69040" y="3507840"/>
              <a:ext cx="2328840" cy="34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Дистанционное обуч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9040" y="2554920"/>
              <a:ext cx="2331360" cy="52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Проектно – исследовательская деят-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7000" y="2901600"/>
              <a:ext cx="1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7000" y="3291120"/>
              <a:ext cx="1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7000" y="3681000"/>
              <a:ext cx="1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000" y="4114080"/>
              <a:ext cx="1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16800" y="5976720"/>
              <a:ext cx="2758320" cy="64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КТ в школьных средствах массовой информации: обновление сайта школы, газета, оформление кабинетов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01680" y="2554920"/>
              <a:ext cx="2758320" cy="86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КТ во внеурочной деятельности: кружок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для младших школьников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редметные лаборатории, сетевые конкурсы, олимпиады  и т.д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16800" y="3507840"/>
              <a:ext cx="2758320" cy="82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КТ в познавательной и развивающей деятельности обучающихся: доступ к сетевым информационным ресурсам и средствам ИКТ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16800" y="4417560"/>
              <a:ext cx="2758320" cy="64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ИКТ в досуговой деятельности обучающихся: Интернет – клуб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01680" y="5153760"/>
              <a:ext cx="2773440" cy="73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КТ при проведении  проектной деятельности (организация и консультирование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78520" y="1948680"/>
              <a:ext cx="597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78520" y="1948680"/>
              <a:ext cx="0" cy="1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50320" y="1948680"/>
              <a:ext cx="0" cy="1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52360" y="194868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58000" y="2468520"/>
              <a:ext cx="0" cy="355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49400" y="2468520"/>
              <a:ext cx="0" cy="385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49400" y="3074760"/>
              <a:ext cx="16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64520" y="3940920"/>
              <a:ext cx="16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49400" y="4850280"/>
              <a:ext cx="16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749400" y="55868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764520" y="6323040"/>
              <a:ext cx="16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78520" y="1038960"/>
              <a:ext cx="594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63400" y="952560"/>
              <a:ext cx="0" cy="8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50320" y="952560"/>
              <a:ext cx="0" cy="8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06640" y="952560"/>
              <a:ext cx="0" cy="8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10640" y="2554920"/>
              <a:ext cx="2102760" cy="9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оперативное получение и обобщение информации об учебном процессе для принятия управленческих реше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10640" y="3637800"/>
              <a:ext cx="2102760" cy="64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спользование сетевой системы школьного документооборо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25760" y="4374000"/>
              <a:ext cx="2102760" cy="64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оздание и использование информационных баз данны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40880" y="5110200"/>
              <a:ext cx="210276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автоматизированное составление отчет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58000" y="3117960"/>
              <a:ext cx="13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58000" y="4027680"/>
              <a:ext cx="13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73480" y="4720680"/>
              <a:ext cx="13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58000" y="5413320"/>
              <a:ext cx="16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56360" y="5716800"/>
              <a:ext cx="2072160" cy="47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мониторинговая деятель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58000" y="601992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6160" y="4503960"/>
              <a:ext cx="2910600" cy="212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технологии тотальной индивидуализации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технологии графического сжатия информации;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мультимедиа технологии, реализуемые на основе специально структурированных баз данных, электронных пособий и учебников, адаптированного программно-аппаратного обеспечения и периферии;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пециализированные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мультимедиа-технологии в живом контакте учителя и школьника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58760" y="4376160"/>
              <a:ext cx="0" cy="1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538920" y="496800"/>
            <a:ext cx="2158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КТ в работе с родител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81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2. ИКТ в работе учителя: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3500280"/>
            <a:ext cx="6381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4400a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Использование компьютерной техники на уроках (интерактивная доска и мультимедийная установка);</a:t>
            </a: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Использование Интернет-технологий: поиск информации, уроки в режиме реального времени, создание собственного сайта;</a:t>
            </a: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Дистанционное обучение </a:t>
            </a:r>
            <a:r>
              <a:rPr b="0" lang="ru-RU" sz="2000" spc="-1" strike="noStrike" u="sng">
                <a:solidFill>
                  <a:srgbClr val="4400a8"/>
                </a:solidFill>
                <a:uFillTx/>
                <a:latin typeface="Arial"/>
              </a:rPr>
              <a:t>(Академия АЙТИ);</a:t>
            </a: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Использование электронных учебников в обучении учащихся;</a:t>
            </a: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Использование СПО в гимназии и на личных компьютерах педагогов;</a:t>
            </a: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Разнообразие программных продуктов, применяемых педагогами на уроках;</a:t>
            </a: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Применение ИКТ во внеурочной деятельности (внеклассная работа, досуг учащихся);</a:t>
            </a:r>
            <a:br>
              <a:rPr sz="2000"/>
            </a:br>
            <a:r>
              <a:rPr b="1" lang="ru-RU" sz="2000" spc="-1" strike="noStrike">
                <a:solidFill>
                  <a:srgbClr val="4400a8"/>
                </a:solidFill>
                <a:latin typeface="Arial"/>
              </a:rPr>
              <a:t>- Использование сетевой системы школьного документооборота (локальная сеть)</a:t>
            </a:r>
            <a:br>
              <a:rPr sz="2000"/>
            </a:br>
            <a:r>
              <a:rPr b="1" lang="ru-RU" sz="2000" spc="-1" strike="noStrike">
                <a:solidFill>
                  <a:srgbClr val="4400a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400a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4400a8"/>
                </a:solidFill>
                <a:uFillTx/>
                <a:latin typeface="Arial"/>
              </a:rPr>
              <a:t>Уроки с использованием ИКТ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258920" y="2205000"/>
          <a:ext cx="7705800" cy="354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205000"/>
                    <a:ext cx="7705800" cy="35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438280" y="228600"/>
            <a:ext cx="6381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4400a8"/>
                </a:solidFill>
                <a:uFillTx/>
                <a:latin typeface="Arial"/>
              </a:rPr>
              <a:t>Уровень подготовки педагогических кадр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411280" y="2205000"/>
          <a:ext cx="6732720" cy="299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205000"/>
                    <a:ext cx="6732720" cy="29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06:03:42Z</dcterms:created>
  <dc:creator>Усольцева Э.М. Преподаватель информатики ГОУ НПО КПУ</dc:creator>
  <dc:description/>
  <dc:language>en-US</dc:language>
  <cp:lastModifiedBy>РОМА</cp:lastModifiedBy>
  <dcterms:modified xsi:type="dcterms:W3CDTF">2009-12-01T21:27:55Z</dcterms:modified>
  <cp:revision>14</cp:revision>
  <dc:subject/>
  <dc:title>Слайд 1</dc:title>
</cp:coreProperties>
</file>