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5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D59-E50B-4D9F-9080-BF25F6E9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04F-872E-498F-B607-4DF783C3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60E-97F2-439C-B66B-0EC2CD0F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3B1-FA1F-4DB7-8211-CBE987AB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DE64-6693-47C0-B210-0E3E6C34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82DF-1E70-4F2A-877A-39A78D01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3BB6-0EEF-4974-8EBD-B965A95C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6C35-9377-420A-890F-F9637599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8771-2C29-4AFA-95A9-AAA5B3C4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06C1-0EF2-433E-8CA8-D3EFFCD0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4292-E252-4F84-B22C-F8CB56F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DA7-41C6-46FC-BD74-F7202081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D8B0-D4C7-462B-A6E0-C37830C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B1F1-0A41-4E0A-B66D-71E02653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06AA-4DA2-4B03-BA19-95658F88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A8AF-EDAF-4C7B-B842-8DEC4E3E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2DE2-2C8F-490E-A5CC-02B7B844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196-FDDB-448B-A063-3BA34CFD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1B8-6C0A-4228-ADB6-E5C7483C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113-D5D6-4225-817F-A1DA7D03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814-0BCB-4179-8A43-49C96D17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05E-8002-42C7-B2BF-32A81B80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5E2-D0CE-40F9-BF12-3D184C2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8D0-9EC8-4924-A623-7C4F2A4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e3ffff"/>
                </a:gs>
                <a:gs pos="100000">
                  <a:srgbClr val="66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676B-B1A6-4D0B-91D9-5FE0503EFC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CF8C-1CB8-4FD9-B638-060D09C755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imnasia20kam@yandex.ru" TargetMode="External"/><Relationship Id="rId2" Type="http://schemas.openxmlformats.org/officeDocument/2006/relationships/hyperlink" Target="mailto:gimnasia20kam@yandex.ru" TargetMode="External"/><Relationship Id="rId3" Type="http://schemas.openxmlformats.org/officeDocument/2006/relationships/hyperlink" Target="mailto:gimnasia20kam@yandex.ru" TargetMode="Externa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631280" cy="280836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недрение информационных технологий в образовательный проц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0"/>
            <a:ext cx="2592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116000" y="285264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гимназия №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. С. С. Станч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. Каменолом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Работа в сети Интернет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Сайт гимназии: 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gimnasia20kam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narod</a:t>
            </a: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Электронная почта: 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1"/>
              </a:rPr>
              <a:t>gimnasia20kam@yandex</a:t>
            </a:r>
            <a:r>
              <a:rPr b="0" lang="ru-RU" sz="2000" spc="-1" strike="noStrike" u="sng">
                <a:solidFill>
                  <a:srgbClr val="187c16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2000" spc="-1" strike="noStrike" u="sng">
                <a:solidFill>
                  <a:srgbClr val="187c16"/>
                </a:solidFill>
                <a:uFillTx/>
                <a:latin typeface="Arial"/>
                <a:hlinkClick r:id="rId3"/>
              </a:rPr>
              <a:t>ru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бота педагогов в сети Интернет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нтернет – клуб для старшеклассников (по отдельному график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- Участие в Интернет-конкур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Применение ИКТ во внеурочной деятельности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68360" y="2421000"/>
            <a:ext cx="6382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Кружковая работа учителей информатики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8-е классы – «Компьютерная грамотность»</a:t>
            </a:r>
            <a:br>
              <a:rPr sz="2400"/>
            </a:br>
            <a:r>
              <a:rPr b="1" lang="en-US" sz="2400" spc="-1" strike="noStrike">
                <a:solidFill>
                  <a:srgbClr val="4400a8"/>
                </a:solidFill>
                <a:latin typeface="Arial"/>
              </a:rPr>
              <a:t> 7-е классы – «Мой компьютерный мир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2482920" cy="212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Техническая база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2637000"/>
            <a:ext cx="6381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2 компьютерных класса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2 интерактивные дос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 каждом классе мультимедийные установки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лицензионное программное обеспечение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выход в Интернет;</a:t>
            </a:r>
            <a:br>
              <a:rPr sz="2800"/>
            </a:br>
            <a:r>
              <a:rPr b="0" lang="ru-RU" sz="2800" spc="-1" strike="noStrike">
                <a:solidFill>
                  <a:srgbClr val="4400a8"/>
                </a:solidFill>
                <a:latin typeface="Arial"/>
              </a:rPr>
              <a:t> 70% учащихся гимназии имеют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52880" y="4648320"/>
            <a:ext cx="4191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11320" y="0"/>
            <a:ext cx="71326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зации образования в гимна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воспитание у школьников информационн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едметном обуч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воспитательном процесс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урочной деятельности, дополнительном образова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использование ИКТ в процессе управления учреждени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предоставление доступа  к мировым информацио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сурсам ученикам и педагог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95640" y="4365720"/>
            <a:ext cx="4824360" cy="2281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1280" y="1341000"/>
            <a:ext cx="6400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Технология</a:t>
            </a:r>
            <a:r>
              <a:rPr b="0" lang="en-US" sz="4000" spc="-1" strike="noStrike">
                <a:solidFill>
                  <a:srgbClr val="4400a8"/>
                </a:solidFill>
                <a:latin typeface="Arial"/>
              </a:rPr>
              <a:t> – совокупность методов, способов и приемов, применяемых для получения определенного вида продукции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 в области информационной деятельности людей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3213000"/>
            <a:ext cx="6400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Новые информационные технологии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(НИТ)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– технологии, связанные с использованием компьютерной тех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00a8"/>
                </a:solidFill>
                <a:latin typeface="Arial"/>
              </a:rPr>
              <a:t>Некоторые виды НИТ:</a:t>
            </a:r>
            <a:endParaRPr b="0" lang="en-US" sz="40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773360"/>
            <a:ext cx="640080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доку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информационны техно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хнологии обучения – информационно-коммуникационные технологии (ИКТ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54425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00a8"/>
                </a:solidFill>
                <a:latin typeface="Arial"/>
              </a:rPr>
              <a:t>1. Программа информатизации гимназии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17880" y="1656720"/>
            <a:ext cx="702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ая программа информатизации гимназии — программа развития — основной организационный инструмент трансформации содержания, методов и организационных форм учебной работы, обеспечивающий подготовку учащихся к жизни в условиях информационного обществ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56360" y="4302000"/>
            <a:ext cx="2987640" cy="255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579600" y="476280"/>
            <a:ext cx="8564040" cy="6149880"/>
            <a:chOff x="579600" y="476280"/>
            <a:chExt cx="8564040" cy="6149880"/>
          </a:xfrm>
        </p:grpSpPr>
        <p:sp>
          <p:nvSpPr>
            <p:cNvPr id="99" name=""/>
            <p:cNvSpPr/>
            <p:nvPr/>
          </p:nvSpPr>
          <p:spPr>
            <a:xfrm>
              <a:off x="2271240" y="1168920"/>
              <a:ext cx="4372920" cy="6055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50000">
                  <a:srgbClr val="ffffff"/>
                </a:gs>
                <a:gs pos="100000">
                  <a:srgbClr val="e9e9e9"/>
                </a:gs>
              </a:gsLst>
              <a:lin ang="5400000"/>
            </a:gra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Направления использования информационно – </a:t>
              </a:r>
              <a:br>
                <a:rPr sz="1200"/>
              </a:b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коммуникационных технолог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66520" y="2121840"/>
              <a:ext cx="1829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воспит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22840" y="2121840"/>
              <a:ext cx="17985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управ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280" y="476280"/>
              <a:ext cx="306288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научно-методической  и исследовательской деятель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600" y="476280"/>
              <a:ext cx="2148480" cy="47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09360" y="476280"/>
              <a:ext cx="2163600" cy="47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тизация труда учите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9600" y="2121840"/>
              <a:ext cx="187416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33"/>
              </a:solidFill>
              <a:miter/>
            </a:ln>
            <a:effectLst>
              <a:outerShdw dist="53966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обуч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7000" y="2468520"/>
              <a:ext cx="0" cy="164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9040" y="3117960"/>
              <a:ext cx="233136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омпьютерное модел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9040" y="3897720"/>
              <a:ext cx="23313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нформационные технологии  в коррекционной педагогик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69040" y="3507840"/>
              <a:ext cx="2328840" cy="34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истанционное об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9040" y="2554920"/>
              <a:ext cx="2331360" cy="52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ектно – исследовательская деят-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7000" y="29016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7000" y="329112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7000" y="368100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000" y="4114080"/>
              <a:ext cx="12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16800" y="597672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школьных средствах массовой информации: обновление сайта школы, газета, оформление кабинето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01680" y="2554920"/>
              <a:ext cx="2758320" cy="86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о внеурочной деятельности: кружок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для младших школьников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редметные лаборатории, сетевые конкурсы, олимпиады  и т.д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16800" y="3507840"/>
              <a:ext cx="2758320" cy="8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в познавательной и развивающей деятельности обучающихся: доступ к сетевым информационным ресурсам и средствам ИК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16800" y="4417560"/>
              <a:ext cx="27583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ИКТ в досуговой деятельности обучающихся: Интернет – клуб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01680" y="5153760"/>
              <a:ext cx="2773440" cy="73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КТ при проведении  проектной деятельности (организация и консультирование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78520" y="1948680"/>
              <a:ext cx="597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785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50320" y="1948680"/>
              <a:ext cx="0" cy="12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52360" y="19486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858000" y="2468520"/>
              <a:ext cx="0" cy="355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49400" y="2468520"/>
              <a:ext cx="0" cy="385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9400" y="307476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64520" y="39409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49400" y="485028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9400" y="558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64520" y="632304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78520" y="1038960"/>
              <a:ext cx="59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6340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032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6640" y="952560"/>
              <a:ext cx="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640" y="2554920"/>
              <a:ext cx="2102760" cy="9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оперативное получение и обобщение информации об учебном процессе для принятия управленческих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640" y="36378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спользование сетевой системы школьного документооборо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25760" y="4374000"/>
              <a:ext cx="210276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оздание и использование информационных баз дан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40880" y="5110200"/>
              <a:ext cx="210276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втоматизированное составление отчет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0" y="311796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8000" y="4027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73480" y="4720680"/>
              <a:ext cx="13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54133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6360" y="5716800"/>
              <a:ext cx="207216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ониторинговая деятель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8000" y="601992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6160" y="4503960"/>
              <a:ext cx="2910600" cy="212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spcBef>
                  <a:spcPts val="499"/>
                </a:spcBef>
                <a:spcAft>
                  <a:spcPts val="499"/>
                </a:spcAft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тотальной индивидуализации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хнологии графического сжатия информац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 технологии, реализуемые на основе специально структурированных баз данных, электронных пособий и учебников, адаптированного программно-аппаратного обеспечения и периферии;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ециализированные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ультимедиа-технологии в живом контакте учителя и школьник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8760" y="4376160"/>
              <a:ext cx="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38920" y="496800"/>
            <a:ext cx="2158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КТ в работе с родител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8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2. ИКТ в работе учителя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350028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Использование компьютерной техники на уроках (интерактивная доска и мультимедийная установка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Интернет-технологий: поиск информации, уроки в режиме реального времени, создание собственного сайта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Дистанционное обучение </a:t>
            </a:r>
            <a:r>
              <a:rPr b="0" lang="ru-RU" sz="2000" spc="-1" strike="noStrike" u="sng">
                <a:solidFill>
                  <a:srgbClr val="4400a8"/>
                </a:solidFill>
                <a:uFillTx/>
                <a:latin typeface="Arial"/>
              </a:rPr>
              <a:t>(Академия АЙТИ)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электронных учебников в обучении учащихся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Использование СПО в гимназии и на личных компьютерах педагогов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Разнообразие программных продуктов, применяемых педагогами на уроках;</a:t>
            </a:r>
            <a:br>
              <a:rPr sz="2000"/>
            </a:br>
            <a:r>
              <a:rPr b="0" lang="ru-RU" sz="2000" spc="-1" strike="noStrike">
                <a:solidFill>
                  <a:srgbClr val="4400a8"/>
                </a:solidFill>
                <a:latin typeface="Arial"/>
              </a:rPr>
              <a:t> Применение ИКТ во внеурочной деятельности (внеклассная работа, досуг учащихся);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- Использование сетевой системы школьного документооборота (локальная сеть)</a:t>
            </a:r>
            <a:br>
              <a:rPr sz="2000"/>
            </a:br>
            <a:r>
              <a:rPr b="1" lang="ru-RU" sz="20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00a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ки с использованием ИКТ</a:t>
            </a: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58920" y="2205000"/>
          <a:ext cx="7705800" cy="35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77058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38280" y="228600"/>
            <a:ext cx="6381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4400a8"/>
                </a:solidFill>
                <a:uFillTx/>
                <a:latin typeface="Arial"/>
              </a:rPr>
              <a:t>Уровень подготовки педагогических кад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411280" y="2205000"/>
          <a:ext cx="6732720" cy="29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205000"/>
                    <a:ext cx="673272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6:03:42Z</dcterms:created>
  <dc:creator>Усольцева Э.М. Преподаватель информатики ГОУ НПО КПУ</dc:creator>
  <dc:description/>
  <dc:language>en-US</dc:language>
  <cp:lastModifiedBy>РОМА</cp:lastModifiedBy>
  <dcterms:modified xsi:type="dcterms:W3CDTF">2009-12-01T21:27:55Z</dcterms:modified>
  <cp:revision>14</cp:revision>
  <dc:subject/>
  <dc:title>Слайд 1</dc:title>
</cp:coreProperties>
</file>