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31D-37CF-4391-8FED-0E14AF53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416-8880-405F-896C-EA81AED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CD2-2C2E-4122-A056-F8F72DDD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768-07B7-4381-B534-8CCDD051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8CD-177C-467B-B1D6-BD1C9933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9040-9400-4685-86EF-0048335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41F2-A2AA-46AB-B492-1D0F85E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5556-345B-4E41-9D1E-2649DF9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38C4-4B5B-4E9A-A89E-CE41718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768-7076-4395-A6DB-D08910D4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37E9-5088-4B4E-A797-DE5B398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816-241D-4C29-B8AC-6106CBB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8BFA-BEB9-4BE1-9671-942615F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1C8F-5FEA-46D0-81E3-BC5C1AB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1A72-3878-4860-B912-448FC226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02E-F117-4DD0-B40E-C071C764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F0E-D157-4972-AC71-48B75DA7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F2D-7CAB-4C23-89C7-54A70FA3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6E0-8408-4A47-9007-5DE286A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D27-0945-4615-A389-D69A3D51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624-EFF2-4232-846F-A7CB383A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A00-85D5-45F2-9319-B74D936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E23-FA54-4C35-B6D7-B460221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6A0-D101-4A97-BCC3-CAF6804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783-0C82-45FD-84B5-7556DD33E9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A97-F5A8-4739-AA16-9231F17AC9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mnasia20kam@yandex.ru" TargetMode="External"/><Relationship Id="rId2" Type="http://schemas.openxmlformats.org/officeDocument/2006/relationships/hyperlink" Target="mailto:gimnasia20kam@yandex.ru" TargetMode="External"/><Relationship Id="rId3" Type="http://schemas.openxmlformats.org/officeDocument/2006/relationships/hyperlink" Target="mailto:gimnasia20kam@yandex.ru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2808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едрение информационных технологий в образователь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116000" y="285264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гимназия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 С. С. Стан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Каменол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Работа в сети Интерне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Сайт гимназии: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gimnasia20kam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Электронная почта: 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1"/>
              </a:rPr>
              <a:t>gimnasia20kam@yandex</a:t>
            </a:r>
            <a:r>
              <a:rPr b="0" lang="ru-RU" sz="2000" spc="-1" strike="noStrike" u="sng">
                <a:solidFill>
                  <a:srgbClr val="187c1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3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бота педагогов в сети Интернет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нтернет – клуб для старшеклассников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- Участие в Интернет-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именение ИКТ во внеурочной деятельности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421000"/>
            <a:ext cx="6382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Кружковая работа учителей информатики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8-е классы – «Компьютерная грамотность»</a:t>
            </a: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7-е классы – «Мой компьютерный ми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2482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Техническая база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2637000"/>
            <a:ext cx="638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2 компьютерных класса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2 интерактивные дос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 каждом классе мультимедийные установ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лицензионное программное обеспечение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ыход в Интернет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70% учащихся гимназии имеют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4191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0"/>
            <a:ext cx="7132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зации образования в гимна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спитание у школьников информацион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едметном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воспитательном проце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ой деятельности, дополнительном 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оцессе управления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оставление доступа  к мировым информаци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урсам ученикам и педаг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482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34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Технология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 – совокупность методов, способов и приемов, применяемых для получения определенного вида продукции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 в области информационной деятельности люде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21300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Новые 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НИТ)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, связанные с использованием компьютер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Некоторые виды НИТ: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773360"/>
            <a:ext cx="64008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информационны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ии обучения – информационно-коммуникационные технологии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54425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1. Программа информатизации гимнази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56720"/>
            <a:ext cx="702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ограмма информатизации гимназии — программа развития — основной организационный инструмент трансформации содержания, методов и организационных форм учебной работы, обеспечивающий подготовку учащихся к жизни в условиях информационного общест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4302000"/>
            <a:ext cx="298764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600" y="476280"/>
            <a:ext cx="8564040" cy="6149880"/>
            <a:chOff x="579600" y="476280"/>
            <a:chExt cx="8564040" cy="6149880"/>
          </a:xfrm>
        </p:grpSpPr>
        <p:sp>
          <p:nvSpPr>
            <p:cNvPr id="99" name=""/>
            <p:cNvSpPr/>
            <p:nvPr/>
          </p:nvSpPr>
          <p:spPr>
            <a:xfrm>
              <a:off x="2271240" y="1168920"/>
              <a:ext cx="4372920" cy="6055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50000">
                  <a:srgbClr val="ffffff"/>
                </a:gs>
                <a:gs pos="100000">
                  <a:srgbClr val="e9e9e9"/>
                </a:gs>
              </a:gsLst>
              <a:lin ang="5400000"/>
            </a:gra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Направления использования информационно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коммуникационных технолог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6520" y="2121840"/>
              <a:ext cx="1829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воспит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2840" y="2121840"/>
              <a:ext cx="17985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управ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280" y="476280"/>
              <a:ext cx="306288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научно-методической  и исследователь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600" y="476280"/>
              <a:ext cx="214848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09360" y="476280"/>
              <a:ext cx="2163600" cy="47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тизация труда уч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600" y="2121840"/>
              <a:ext cx="1874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обуч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000" y="246852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040" y="3117960"/>
              <a:ext cx="23313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пьютерное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040" y="3897720"/>
              <a:ext cx="23313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 в коррекционной педагоги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9040" y="3507840"/>
              <a:ext cx="232884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танционное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040" y="2554920"/>
              <a:ext cx="2331360" cy="5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но – исследовательская деят-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000" y="29016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000" y="32911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000" y="36810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000" y="411408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6800" y="597672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школьных средствах массовой информации: обновление сайта школы, газета, оформление кабинет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1680" y="2554920"/>
              <a:ext cx="2758320" cy="86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о внеурочной деятельности: кружок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ля младших школьнико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дметные лаборатории, сетевые конкурсы, олимпиады  и 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16800" y="3507840"/>
              <a:ext cx="27583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познавательной и развивающей деятельности обучающихся: доступ к сетевым информационным ресурсам и средствам И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800" y="441756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КТ в досуговой деятельности обучающихся: Интернет – клуб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1680" y="5153760"/>
              <a:ext cx="2773440" cy="7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при проведении  проектной деятельности (организация и консультирование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8520" y="1948680"/>
              <a:ext cx="597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85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03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2360" y="19486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468520"/>
              <a:ext cx="0" cy="35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400" y="2468520"/>
              <a:ext cx="0" cy="38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400" y="30747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4520" y="3940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8502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400" y="558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4520" y="632304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8520" y="1038960"/>
              <a:ext cx="59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340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032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664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2554920"/>
              <a:ext cx="2102760" cy="9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еративное получение и обобщение информации об учебном процессе для принятия управлен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6378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ние сетевой системы школьного документообор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5760" y="43740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и использование информационных баз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40880" y="5110200"/>
              <a:ext cx="21027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втоматизированное составление отч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1179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027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3480" y="4720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5413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6360" y="5716800"/>
              <a:ext cx="20721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ов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6019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" y="4503960"/>
              <a:ext cx="2910600" cy="21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тотальной индивидуализаци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графического сжатия информац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 технологии, реализуемые на основе специально структурированных баз данных, электронных пособий и учебников, адаптированного программно-аппаратного обеспечения и перифер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-технологии в живом контакте учителя и школьник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8760" y="437616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8920" y="496800"/>
            <a:ext cx="2158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КТ в работе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 ИКТ в работе учител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Использование компьютерной техники на уроках (интерактивная доска и мультимедийная установка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Интернет-технологий: поиск информации, уроки в режиме реального времени, создание собственного сайта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Дистанционное обучение </a:t>
            </a:r>
            <a:r>
              <a:rPr b="0" lang="ru-RU" sz="2000" spc="-1" strike="noStrike" u="sng">
                <a:solidFill>
                  <a:srgbClr val="4400a8"/>
                </a:solidFill>
                <a:uFillTx/>
                <a:latin typeface="Arial"/>
              </a:rPr>
              <a:t>(Академия АЙТИ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электронных учебников в обучении учащихся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СПО в гимназии и на личных компьютерах педагогов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знообразие программных продуктов, применяемых педагогами на уроках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Применение ИКТ во внеурочной деятельности (внеклассная работа, досуг учащихся);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- Использование сетевой системы школьного документооборота (локальная сеть)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ки с использованием ИКТ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58920" y="2205000"/>
          <a:ext cx="770580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7058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8280" y="22860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вень подготовки педагогических кад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11280" y="2205000"/>
          <a:ext cx="673272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6732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03:42Z</dcterms:created>
  <dc:creator>Усольцева Э.М. Преподаватель информатики ГОУ НПО КПУ</dc:creator>
  <dc:description/>
  <dc:language>en-US</dc:language>
  <cp:lastModifiedBy>РОМА</cp:lastModifiedBy>
  <dcterms:modified xsi:type="dcterms:W3CDTF">2009-12-01T21:27:55Z</dcterms:modified>
  <cp:revision>14</cp:revision>
  <dc:subject/>
  <dc:title>Слайд 1</dc:title>
</cp:coreProperties>
</file>